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002%20Andr%C3%A9%20Rieu%20-%20Sirtaki%20(La%20Danse%20De%20Zorba)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7889-5CF6-4765-AAF8-978DE5964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6922-E6EC-42D0-B2A1-ED018960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99BC-88DB-4388-A705-C274C966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846-79F0-44BF-93C8-DABC0B5B6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C1BC-5A0E-4278-B81C-9B5F41842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130-B5C4-4CD1-974C-118751C5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977B-9477-4DD2-91A3-9A01ACAB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8CA9-5689-4B98-B5C1-299D4E36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368-D14A-48A1-86AB-4BFA72E63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6C2-58B7-4D4C-A43F-0D234DB6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817C-0491-4006-A004-ECB146D7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5CE-2611-4E44-9A85-F94022D9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FF6-18B5-476B-B96F-635CEF71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44F-0C8B-43D8-96DD-7F961B1FA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0373-4CB3-40DA-958C-9C8F49617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959E-9744-4533-96AC-8C618C91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19A-7D35-459D-AB28-2CD5C313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D6A-18CE-4B74-9C0F-E17532972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2D2-B9BD-4056-9579-6A232AC6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B90-B0E5-49FE-A3AC-5D740B52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C3CB-4439-4D7D-A840-0F8D0077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9C8-5374-45E3-86F5-D0E3430A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613-0C82-49AF-872E-6FDE9A184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D291-F7AA-4B18-98B6-09490511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3CBF-8310-49A7-963C-F53C111A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FD3-853E-4172-B7E1-B3529EB0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28F-0055-4D11-B2F9-CB62E21AC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7E6F-9DEB-4415-8292-D912980D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460-ABDC-4160-A9D0-4310FC627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0D7-9B5F-403B-B661-9437B8E0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0377-BAF1-40D1-8E59-A9BBD1B5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E83-5733-4CF6-A659-56FDF56A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2E4-CD28-4B1A-9128-E7881891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114-B87D-4A32-98E4-F267F68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045-6E54-41D3-AC32-E2B86A2B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C51-39D9-4AAF-9173-E5D4D68E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795-7168-4A84-A14C-2BD00A3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739-AE24-4405-9FCA-7347D22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6E-6ED8-4E06-B6F6-3515F40A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5F1-DFE6-408D-92B5-BEF2E3F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4DC-E8B0-41CD-B0F2-ADF648A1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F31-BD6B-4305-996C-A8E0001A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614-466C-40EB-8DA3-73BB932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69D-B508-492B-B658-A7211ED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004-604F-4D4F-9922-D72DD37F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02%20Andr&#233;%20Rieu%20-%20Sirtaki%20(La%20Danse%20De%20Zorba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533520" y="5181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d5099b"/>
                </a:solidFill>
                <a:latin typeface="Monotype Corsiva"/>
              </a:rPr>
              <a:t>Revolución del Al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Σέριφ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-1206720" y="228600"/>
            <a:ext cx="1128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Tu paz interior es tu meta en la v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Ήπειρ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Monotype Corsiva"/>
              </a:rPr>
              <a:t>Cuando sientas un vacío en el alma, cuando acredites que aún te está faltando algo, aún teniéndolo tod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Πάρ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295280" y="22860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ddddd"/>
                </a:solidFill>
                <a:latin typeface="Monotype Corsiva"/>
              </a:rPr>
              <a:t>guarda tus pensamientos para  tus deseos más íntimos y busca la divinidad que existe en tí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Ηράκλει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28600" y="3808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Deja de situar tu felicidad cada dia más distante de t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Θάσ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52280" y="57150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ccff"/>
                </a:solidFill>
                <a:latin typeface="Monotype Corsiva"/>
              </a:rPr>
              <a:t>No coloques el objetivo demasiado lejos de tus manos, abraza a los que están a tu alcance h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Ικαρί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0" y="5667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ccff"/>
                </a:solidFill>
                <a:latin typeface="Monotype Corsiva"/>
              </a:rPr>
              <a:t>Si andas preocupado por problemas financieros, amorosos o de relaciones familiar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Ί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28600" y="2286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Busca en tu interior la respuesta para calmarte, tú eres el reflejo de lo que piensas diariamente.</a:t>
            </a:r>
            <a:r>
              <a:rPr b="0" lang="pt-BR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Καβάλ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85800" y="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Deja de pensar mal de ti mismo y sé tu mejor amigo siemp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Κέρκυρ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Sonreir significa aprobar, aceptar, facilit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Κεφαλλονι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-152280" y="5181480"/>
            <a:ext cx="9601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Monotype Corsiva"/>
              </a:rPr>
              <a:t>Entonces, habrá una sonrisa para aprob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Monotype Corsiva"/>
              </a:rPr>
              <a:t>el mundo que quiere ofrecerte lo mej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Παραπορτιανή-Μύκο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2666880" y="6033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Monotype Corsiva"/>
              </a:rPr>
              <a:t>Escrito en el año 360 A 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45403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Monotype Corsiva"/>
              </a:rPr>
              <a:t>Textos del Filósofo Griego   </a:t>
            </a:r>
            <a:r>
              <a:rPr b="1" lang="pt-BR" sz="4800" spc="-1" strike="noStrike" u="sng">
                <a:solidFill>
                  <a:srgbClr val="000000"/>
                </a:solidFill>
                <a:uFillTx/>
                <a:latin typeface="Monotype Corsiva"/>
              </a:rPr>
              <a:t>Aristóte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Λευκάδ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Con una sonrisa en el rostro ,las personas tendrán las mejores impresiones de ti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Λευκάδα-κάθισμ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Y tu estarás afirmando para ti mismo, que estás “próximo” para ser feliz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Μήλ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8088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Trabaja, trabaja mucho a tu fav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Μύκο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52280" y="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Deja de esperar la felicidad sin esfuerz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Μυρτ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1468440" y="1542960"/>
            <a:ext cx="76201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5099b"/>
                </a:solidFill>
                <a:latin typeface="Monotype Corsiva"/>
              </a:rPr>
              <a:t>Deja</a:t>
            </a:r>
            <a:r>
              <a:rPr b="1" lang="pt-BR" sz="4000" spc="-1" strike="noStrike">
                <a:solidFill>
                  <a:srgbClr val="ff9900"/>
                </a:solidFill>
                <a:latin typeface="Monotype Corsiva"/>
              </a:rPr>
              <a:t> de exigir de las personas aquello que </a:t>
            </a:r>
            <a:r>
              <a:rPr b="1" lang="pt-BR" sz="4000" spc="-1" strike="noStrike">
                <a:solidFill>
                  <a:srgbClr val="d5099b"/>
                </a:solidFill>
                <a:latin typeface="Monotype Corsiva"/>
              </a:rPr>
              <a:t>ni</a:t>
            </a:r>
            <a:r>
              <a:rPr b="1" lang="pt-BR" sz="4000" spc="-1" strike="noStrike">
                <a:solidFill>
                  <a:srgbClr val="ff9900"/>
                </a:solidFill>
                <a:latin typeface="Monotype Corsiva"/>
              </a:rPr>
              <a:t>  para  tí  has conquistado aún.</a:t>
            </a:r>
            <a:r>
              <a:rPr b="1" lang="pt-BR" sz="4400" spc="-1" strike="noStrike">
                <a:solidFill>
                  <a:srgbClr val="ff99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Μύκονος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-1035720" y="271440"/>
            <a:ext cx="72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Critica menos, trabaja  má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Νέστος ποταμό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533520" y="55627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2228b"/>
                </a:solidFill>
                <a:latin typeface="Monotype Corsiva"/>
              </a:rPr>
              <a:t>Y, no te olvides nunca de agradecer</a:t>
            </a:r>
            <a:r>
              <a:rPr b="1" lang="pt-BR" sz="4800" spc="-1" strike="noStrike">
                <a:solidFill>
                  <a:srgbClr val="ccff66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Όλυμπ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62120" y="54259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Monotype Corsiva"/>
              </a:rPr>
              <a:t>Agr</a:t>
            </a:r>
            <a:r>
              <a:rPr b="1" lang="pt-BR" sz="4400" spc="-1" strike="noStrike">
                <a:solidFill>
                  <a:srgbClr val="ffffcc"/>
                </a:solidFill>
                <a:latin typeface="Monotype Corsiva"/>
              </a:rPr>
              <a:t>adece todo lo que está  en tu vida en cada momento, inclusive el do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παξο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85800" y="4343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Monotype Corsiva"/>
              </a:rPr>
              <a:t>Nuestra comprensión del universo, aún es muy pequeña para juzgar lo que quiere que sea en nuestra v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Σκιάθ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0" y="0"/>
            <a:ext cx="91440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700" spc="-1" strike="noStrike">
                <a:solidFill>
                  <a:srgbClr val="ffffff"/>
                </a:solidFill>
                <a:latin typeface="Monotype Corsiva"/>
              </a:rPr>
              <a:t>La grandeza no consiste en recibir honores</a:t>
            </a:r>
            <a:r>
              <a:rPr b="1" lang="pt-BR" sz="4700" spc="-1" strike="noStrike">
                <a:solidFill>
                  <a:srgbClr val="ccff66"/>
                </a:solidFill>
                <a:latin typeface="Verdana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Σάμ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0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5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57800" y="1981080"/>
            <a:ext cx="350532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257800" y="198108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d5099b"/>
                </a:solidFill>
                <a:latin typeface="Monotype Corsiva"/>
              </a:rPr>
              <a:t>Sí ,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d5099b"/>
                </a:solidFill>
                <a:latin typeface="Monotype Corsiva"/>
              </a:rPr>
              <a:t>en merece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7"/>
          <p:cNvSpPr txBox="1"/>
          <p:nvPr/>
        </p:nvSpPr>
        <p:spPr>
          <a:xfrm rot="20782200">
            <a:off x="2487240" y="2268000"/>
            <a:ext cx="4102200" cy="30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F i n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Άγιος Νικόλα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609480" y="152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Nadie es dueño de tu felicida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Άγνωστ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09480"/>
            <a:ext cx="50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2b2b2"/>
                </a:solidFill>
                <a:latin typeface="Monotype Corsiva"/>
              </a:rPr>
              <a:t>por eso ,no dejes tu alegría, tu paz,  tu vida en las manos de nadi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Σίφ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ff33"/>
                </a:solidFill>
                <a:latin typeface="Monotype Corsiva"/>
              </a:rPr>
              <a:t>absolutamente de nadi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Βάι-Κρήτ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Somos libres, no pertenecemos a nad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Σκόπελ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152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y no podemos querer ser dueños de los deseos, de la  voluntad o de los sueños de quien quiera que s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Ζάκυνθος-ναυάγι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33720" y="5029200"/>
            <a:ext cx="70102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7030a0"/>
                </a:solidFill>
                <a:latin typeface="Monotype Corsiva"/>
              </a:rPr>
              <a:t>La razón de tu vida eres tú mismo.</a:t>
            </a:r>
            <a:r>
              <a:rPr b="1" lang="pt-BR" sz="4000" spc="-1" strike="noStrike">
                <a:solidFill>
                  <a:srgbClr val="7030a0"/>
                </a:solidFill>
                <a:latin typeface="Monotype Corsiva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5:07:34Z</dcterms:created>
  <dc:creator>.</dc:creator>
  <dc:description/>
  <dc:language>en-US</dc:language>
  <cp:lastModifiedBy>Grupo Protexa</cp:lastModifiedBy>
  <dcterms:modified xsi:type="dcterms:W3CDTF">2008-08-01T18:47:37Z</dcterms:modified>
  <cp:revision>29</cp:revision>
  <dc:subject/>
  <dc:title>Άγιο Όρος</dc:title>
</cp:coreProperties>
</file>