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002%20Andr%C3%A9%20Rieu%20-%20Sirtaki%20(La%20Danse%20De%20Zorba).wav" ContentType="audio/x-wav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583A-129C-4079-BFF4-04D29CFE9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96BF-8560-4AE1-B62C-1E93D1B3B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911B-DC35-4BC7-9D14-D1528AC21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044E-5C7D-4549-B9BC-1F99E4C0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16A-3085-4B40-A5F4-2E39F07B2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7697-00B6-4559-B0E3-E64E3BA4A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3860-65F9-4893-A2B4-1E30D2460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120A-3901-4CFC-BF8B-170422907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0604-6305-47EB-A9E7-21B76502F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5621-1B85-4CE9-A186-9A8DEA8E4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5A3-7EF3-485E-903E-2912DB1C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2101-1A0E-453A-BA99-E61BC8D3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47C7-63DA-460A-98AD-6EA77CD0D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6A1A-0787-4925-AC3B-761D0119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284D-61E7-45B3-ABA5-714AB8F37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91F0-0A81-4201-B584-B8CC4F65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0359-C33D-4FB2-BB2C-B10E8C989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EA40-4C1B-45EB-83AB-4AFD49EE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E6BD-B54F-46E3-B92A-6D510FE9E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D0CC-B7B6-4C22-BC1D-FCA78B105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EE44-A818-484F-B4BE-1809A6799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065F-5D64-4EE9-B600-0CD3C3FAD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4CE1-F935-4A21-AAEB-8824842C9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5042-96F6-4ACF-A32E-31900030A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136F-F8D3-4422-805C-8113F321B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44A7-D2E7-4BFB-BE58-5D4333758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B75A-EC0F-4AB2-9456-8B3556760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2BC3-56D5-481D-8BDA-E437552D7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1DF2-EC6F-4258-810B-29FF615E1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4BD6-26F8-48E5-89D5-67666F509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7293-7AC3-413E-BF03-28450AF5C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26A4-5174-4FDC-B447-A64855F11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87B-72AF-44D3-BD63-811DD638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218-1DD2-4363-BA66-28E82E6E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AE7-B67F-4596-A936-5431A517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475-C72D-4FB3-B559-9F350D31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035-33BD-4F28-A8F6-043E894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6CA-33CF-478C-9B51-404DC271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ADF-B980-4638-9F71-C2A3905F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E10-C3E8-4DCE-B96C-ED441090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B46-58DE-4ED9-88D2-64801D90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233-8E2C-40A5-A85D-6454BCC0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EC4-ADBD-4DC6-A835-AB78991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949-0AB8-434B-B704-29DCB14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C8E6-CA62-4BEF-9647-D5C90731F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02%20Andr&#233;%20Rieu%20-%20Sirtaki%20(La%20Danse%20De%20Zorba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533520" y="5181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d5099b"/>
                </a:solidFill>
                <a:latin typeface="Monotype Corsiva"/>
              </a:rPr>
              <a:t>Revolución del Alm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Σέριφ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-1206720" y="228600"/>
            <a:ext cx="1128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Tu paz interior es tu meta en la vid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Ήπειρ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Monotype Corsiva"/>
              </a:rPr>
              <a:t>Cuando sientas un vacío en el alma, cuando acredites que aún te está faltando algo, aún teniéndolo tod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Πάρ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295280" y="228600"/>
            <a:ext cx="6477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dddddd"/>
                </a:solidFill>
                <a:latin typeface="Monotype Corsiva"/>
              </a:rPr>
              <a:t>guarda tus pensamientos para  tus deseos más íntimos y busca la divinidad que existe en tí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Ηράκλει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28600" y="3808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</a:rPr>
              <a:t>Deja de situar tu felicidad cada dia más distante de ti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Θάσ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52280" y="57150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ccff"/>
                </a:solidFill>
                <a:latin typeface="Monotype Corsiva"/>
              </a:rPr>
              <a:t>No coloques el objetivo demasiado lejos de tus manos, abraza a los que están a tu alcance h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Ικαρί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0" y="5667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ccff"/>
                </a:solidFill>
                <a:latin typeface="Monotype Corsiva"/>
              </a:rPr>
              <a:t>Si andas preocupado por problemas financieros, amorosos o de relaciones familiar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Ί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28600" y="22860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Monotype Corsiva"/>
              </a:rPr>
              <a:t>Busca en tu interior la respuesta para calmarte, tú eres el reflejo de lo que piensas diariamente.</a:t>
            </a:r>
            <a:r>
              <a:rPr b="0" lang="pt-BR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Καβάλ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685800" y="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Deja de pensar mal de ti mismo y sé tu mejor amigo siempr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Κέρκυρ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2860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Sonreir significa aprobar, aceptar, facilit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Κεφαλλονι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-152280" y="5181480"/>
            <a:ext cx="9601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Monotype Corsiva"/>
              </a:rPr>
              <a:t>Entonces, habrá una sonrisa para aprob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Monotype Corsiva"/>
              </a:rPr>
              <a:t>el mundo que quiere ofrecerte lo mejo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Παραπορτιανή-Μύκον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2666880" y="6033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Monotype Corsiva"/>
              </a:rPr>
              <a:t>Escrito en el año 360 A 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19520" y="45403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Monotype Corsiva"/>
              </a:rPr>
              <a:t>Textos del Filósofo Griego   </a:t>
            </a:r>
            <a:r>
              <a:rPr b="1" lang="pt-BR" sz="4800" spc="-1" strike="noStrike" u="sng">
                <a:solidFill>
                  <a:srgbClr val="000000"/>
                </a:solidFill>
                <a:uFillTx/>
                <a:latin typeface="Monotype Corsiva"/>
              </a:rPr>
              <a:t>Aristóte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Λευκάδ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</a:rPr>
              <a:t>Con una sonrisa en el rostro ,las personas tendrán las mejores impresiones de ti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Λευκάδα-κάθισμ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Monotype Corsiva"/>
              </a:rPr>
              <a:t>Y tu estarás afirmando para ti mismo, que estás “próximo” para ser feliz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Μήλ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8088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Trabaja, trabaja mucho a tu fav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Μύκον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52280" y="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</a:rPr>
              <a:t>Deja de esperar la felicidad sin esfuerz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Μυρτ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1468440" y="1542960"/>
            <a:ext cx="76201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d5099b"/>
                </a:solidFill>
                <a:latin typeface="Monotype Corsiva"/>
              </a:rPr>
              <a:t>Deja</a:t>
            </a:r>
            <a:r>
              <a:rPr b="1" lang="pt-BR" sz="4000" spc="-1" strike="noStrike">
                <a:solidFill>
                  <a:srgbClr val="ff9900"/>
                </a:solidFill>
                <a:latin typeface="Monotype Corsiva"/>
              </a:rPr>
              <a:t> de exigir de las personas aquello que </a:t>
            </a:r>
            <a:r>
              <a:rPr b="1" lang="pt-BR" sz="4000" spc="-1" strike="noStrike">
                <a:solidFill>
                  <a:srgbClr val="d5099b"/>
                </a:solidFill>
                <a:latin typeface="Monotype Corsiva"/>
              </a:rPr>
              <a:t>ni</a:t>
            </a:r>
            <a:r>
              <a:rPr b="1" lang="pt-BR" sz="4000" spc="-1" strike="noStrike">
                <a:solidFill>
                  <a:srgbClr val="ff9900"/>
                </a:solidFill>
                <a:latin typeface="Monotype Corsiva"/>
              </a:rPr>
              <a:t>  para  tí  has conquistado aún.</a:t>
            </a:r>
            <a:r>
              <a:rPr b="1" lang="pt-BR" sz="4400" spc="-1" strike="noStrike">
                <a:solidFill>
                  <a:srgbClr val="ff99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Μύκονος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-1035720" y="271440"/>
            <a:ext cx="725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Monotype Corsiva"/>
              </a:rPr>
              <a:t>Critica menos, trabaja  má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Νέστος ποταμό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533520" y="55627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22228b"/>
                </a:solidFill>
                <a:latin typeface="Monotype Corsiva"/>
              </a:rPr>
              <a:t>Y, no te olvides nunca de agradecer</a:t>
            </a:r>
            <a:r>
              <a:rPr b="1" lang="pt-BR" sz="4800" spc="-1" strike="noStrike">
                <a:solidFill>
                  <a:srgbClr val="ccff66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Όλυμπ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762120" y="542592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0000"/>
                </a:solidFill>
                <a:latin typeface="Monotype Corsiva"/>
              </a:rPr>
              <a:t>Agr</a:t>
            </a:r>
            <a:r>
              <a:rPr b="1" lang="pt-BR" sz="4400" spc="-1" strike="noStrike">
                <a:solidFill>
                  <a:srgbClr val="ffffcc"/>
                </a:solidFill>
                <a:latin typeface="Monotype Corsiva"/>
              </a:rPr>
              <a:t>adece todo lo que está  en tu vida en cada momento, inclusive el dol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παξο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685800" y="434340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Monotype Corsiva"/>
              </a:rPr>
              <a:t>Nuestra comprensión del universo, aún es muy pequeña para juzgar lo que quiere que sea en nuestra v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Σκιάθ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0" y="0"/>
            <a:ext cx="91440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700" spc="-1" strike="noStrike">
                <a:solidFill>
                  <a:srgbClr val="ffffff"/>
                </a:solidFill>
                <a:latin typeface="Monotype Corsiva"/>
              </a:rPr>
              <a:t>La grandeza no consiste en recibir honores</a:t>
            </a:r>
            <a:r>
              <a:rPr b="1" lang="pt-BR" sz="4700" spc="-1" strike="noStrike">
                <a:solidFill>
                  <a:srgbClr val="ccff66"/>
                </a:solidFill>
                <a:latin typeface="Verdana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Σάμ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8380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85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57800" y="1981080"/>
            <a:ext cx="350532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257800" y="198108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d5099b"/>
                </a:solidFill>
                <a:latin typeface="Monotype Corsiva"/>
              </a:rPr>
              <a:t>Sí ,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d5099b"/>
                </a:solidFill>
                <a:latin typeface="Monotype Corsiva"/>
              </a:rPr>
              <a:t>en merecerl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7"/>
          <p:cNvSpPr txBox="1"/>
          <p:nvPr/>
        </p:nvSpPr>
        <p:spPr>
          <a:xfrm rot="20782200">
            <a:off x="2487240" y="2268000"/>
            <a:ext cx="4102200" cy="30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21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F i n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21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Άγιος Νικόλα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609480" y="1522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Monotype Corsiva"/>
              </a:rPr>
              <a:t>Nadie es dueño de tu felicida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Άγνωστ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609480"/>
            <a:ext cx="5029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2b2b2"/>
                </a:solidFill>
                <a:latin typeface="Monotype Corsiva"/>
              </a:rPr>
              <a:t>por eso ,no dejes tu alegría, tu paz,  tu vida en las manos de nadie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Σίφν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914400" y="3808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99ff33"/>
                </a:solidFill>
                <a:latin typeface="Monotype Corsiva"/>
              </a:rPr>
              <a:t>absolutamente de nadi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Βάι-Κρήτ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0" y="1828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Monotype Corsiva"/>
              </a:rPr>
              <a:t>Somos libres, no pertenecemos a nadi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Σκόπελο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152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Monotype Corsiva"/>
              </a:rPr>
              <a:t>y no podemos querer ser dueños de los deseos, de la  voluntad o de los sueños de quien quiera que s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Ζάκυνθος-ναυάγι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33720" y="5029200"/>
            <a:ext cx="70102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7030a0"/>
                </a:solidFill>
                <a:latin typeface="Monotype Corsiva"/>
              </a:rPr>
              <a:t>La razón de tu vida eres tú mismo.</a:t>
            </a:r>
            <a:r>
              <a:rPr b="1" lang="pt-BR" sz="4000" spc="-1" strike="noStrike">
                <a:solidFill>
                  <a:srgbClr val="7030a0"/>
                </a:solidFill>
                <a:latin typeface="Monotype Corsiva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5:07:34Z</dcterms:created>
  <dc:creator>.</dc:creator>
  <dc:description/>
  <dc:language>en-US</dc:language>
  <cp:lastModifiedBy>Grupo Protexa</cp:lastModifiedBy>
  <dcterms:modified xsi:type="dcterms:W3CDTF">2008-08-01T18:47:37Z</dcterms:modified>
  <cp:revision>29</cp:revision>
  <dc:subject/>
  <dc:title>Άγιο Όρος</dc:title>
</cp:coreProperties>
</file>