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Ernesto%20Cort%C3%A1zar%20-%20Piruette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F50-8778-4E05-AFD7-4D75C1A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D65-11F1-4B8F-9DA2-543F781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294-B54C-45C5-B22B-7021BB5E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23C-4C93-41BE-98C7-0349B4D8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E3C-7CE8-4E8E-B147-DA31A2D6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D9D-BB85-4789-B93A-50A2C92B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330-9072-4823-A6B1-92B4848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797-96E6-4EDE-AC13-78BEEC7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27E-E0A9-49E8-88FF-64E4A32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4EC6-0C7D-4E37-81C3-643D4CE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3AE1-9E8D-454E-A3AE-CF61519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910-693A-47B2-A8F1-F852450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1BD-93ED-4F9F-B816-5FB046B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080-5C84-41A5-B8A8-E581F95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3DB3-EE04-4584-9985-93D8B659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1F0-6221-41BD-8418-1ACE25ED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F01C-BF97-4CE8-9ED8-2048FF91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F52-00DA-4C86-8F98-5ED286C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E15-1548-4622-A3AD-9DD39BA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9B3-8422-4550-BF33-3623B47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FC2-8170-4657-AF16-51B8203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495-76C7-4BFE-95D3-266BAB2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E2F-5E6D-4D6C-B038-330E966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EA9-4AF1-4B7D-9180-C655711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824-F6A8-42A5-AF74-DCFF7E3D7D47}" type="slidenum"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379-05A4-4485-9893-E05107DBF4EB}" type="slidenum"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Ernesto%20Cort&#225;zar%20-%20Piruett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2584" t="3396" r="2584" b="109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352680" y="49975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Comic Sans MS"/>
              </a:rPr>
              <a:t>Los niños…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-6400800" y="6021360"/>
            <a:ext cx="91566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3360" t="3431" r="3360" b="7841"/>
          <a:stretch/>
        </p:blipFill>
        <p:spPr>
          <a:xfrm>
            <a:off x="2284560" y="-144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281952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y el genio tienen en común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mismo órgano motor: la curiosidad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2316" t="2205" r="3603" b="8821"/>
          <a:stretch/>
        </p:blipFill>
        <p:spPr>
          <a:xfrm>
            <a:off x="0" y="0"/>
            <a:ext cx="6927840" cy="6859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010280" y="2133720"/>
            <a:ext cx="2133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no tienen pasado ni futuro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or eso gozan del presente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osa que rara vez nos ocurre a nosotr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3579" t="3431" r="4857" b="7841"/>
          <a:stretch/>
        </p:blipFill>
        <p:spPr>
          <a:xfrm>
            <a:off x="0" y="-76320"/>
            <a:ext cx="6772320" cy="6859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781680" y="3489480"/>
            <a:ext cx="220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ien no aprende de los niños, no aprenderá nada de los mayores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rcRect l="3360" t="2205" r="3360" b="8821"/>
          <a:stretch/>
        </p:blipFill>
        <p:spPr>
          <a:xfrm>
            <a:off x="2284560" y="-11160"/>
            <a:ext cx="6859440" cy="6869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28600" y="3276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He llegado por fin a lo que quería ser de mayor: un n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4601" t="2205" r="2301" b="8821"/>
          <a:stretch/>
        </p:blipFill>
        <p:spPr>
          <a:xfrm>
            <a:off x="2198520" y="-15840"/>
            <a:ext cx="6945480" cy="6873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6320" y="273060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adivinan qué personas los am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un don natural que con el tiempo se pierd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2301" t="2205" r="2301" b="8821"/>
          <a:stretch/>
        </p:blipFill>
        <p:spPr>
          <a:xfrm>
            <a:off x="-6480" y="-1440"/>
            <a:ext cx="7032600" cy="6856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162920" y="28195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pongas en los primeros años de tu vida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edará en ella hasta más allá de la muerte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3102" t="3431" r="4394" b="8821"/>
          <a:stretch/>
        </p:blipFill>
        <p:spPr>
          <a:xfrm>
            <a:off x="2284560" y="0"/>
            <a:ext cx="685944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52280" y="259092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e ni una palabra ni una mirada obscena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manchen la casa en donde haya un n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0" y="0"/>
            <a:ext cx="6859440" cy="6851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162920" y="2666880"/>
            <a:ext cx="157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n cada niño nace la humanidad.</a:t>
            </a:r>
            <a:r>
              <a:rPr b="0" lang="es-ES" sz="1400" spc="-1" strike="noStrike">
                <a:solidFill>
                  <a:srgbClr val="ffe10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rcRect l="2316" t="3431" r="3603" b="7841"/>
          <a:stretch/>
        </p:blipFill>
        <p:spPr>
          <a:xfrm>
            <a:off x="0" y="0"/>
            <a:ext cx="694548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086600" y="2362320"/>
            <a:ext cx="177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 esperanza del mundo.</a:t>
            </a:r>
            <a:r>
              <a:rPr b="0" lang="es-ES" sz="1400" spc="-1" strike="noStrike">
                <a:solidFill>
                  <a:srgbClr val="ffe10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rcRect l="3579" t="2205" r="3579" b="7841"/>
          <a:stretch/>
        </p:blipFill>
        <p:spPr>
          <a:xfrm>
            <a:off x="2367000" y="0"/>
            <a:ext cx="6777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80880" y="28195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onde hay niños, existe la Edad de Or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5169" t="3185" r="3360" b="9311"/>
          <a:stretch/>
        </p:blipFill>
        <p:spPr>
          <a:xfrm>
            <a:off x="0" y="3240"/>
            <a:ext cx="6732720" cy="6854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781680" y="1238040"/>
            <a:ext cx="2362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Las pinturas que siguen son del pintor norteamericano Donald Zol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e103"/>
                </a:solidFill>
                <a:latin typeface="Comic Sans MS"/>
              </a:rPr>
              <a:t>Los comentarios son también de Zolan y expresan su amor a los niños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e103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Su trabajo celebra la alegría de la niñez, con todas sus maravillas, inocencia y amor.</a:t>
            </a:r>
            <a:r>
              <a:rPr b="0" lang="es-ES_tradnl" sz="1600" spc="-1" strike="noStrike">
                <a:solidFill>
                  <a:srgbClr val="ffcc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2585" t="3431" r="3360" b="8821"/>
          <a:stretch/>
        </p:blipFill>
        <p:spPr>
          <a:xfrm>
            <a:off x="2209680" y="6480"/>
            <a:ext cx="6935760" cy="6851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" y="320040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importante cuidar la infancia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orque los niños son el futuro de nuestro mund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2812" t="3431" r="3579" b="7841"/>
          <a:stretch/>
        </p:blipFill>
        <p:spPr>
          <a:xfrm>
            <a:off x="2209680" y="7920"/>
            <a:ext cx="6934320" cy="6850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52280" y="281952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ada niño que viene al mundo nos dice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"Dios aún confía en el hombre"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3619" t="2205" r="3619" b="8821"/>
          <a:stretch/>
        </p:blipFill>
        <p:spPr>
          <a:xfrm>
            <a:off x="2362320" y="0"/>
            <a:ext cx="6781680" cy="6873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28600" y="2971800"/>
            <a:ext cx="1981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léjame de la sabiduría que no llora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a filosofía que no ríe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la grandeza que no se inclina ante los niñ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rcRect l="2843" t="2205" r="2843" b="8821"/>
          <a:stretch/>
        </p:blipFill>
        <p:spPr>
          <a:xfrm>
            <a:off x="2286000" y="-14400"/>
            <a:ext cx="6858000" cy="6872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0600" y="3200400"/>
            <a:ext cx="166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¿Qué sería el mundo sin niños?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rcRect l="3619" t="2205" r="3102" b="7841"/>
          <a:stretch/>
        </p:blipFill>
        <p:spPr>
          <a:xfrm>
            <a:off x="0" y="0"/>
            <a:ext cx="6772320" cy="68565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091280" y="3124080"/>
            <a:ext cx="16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resencia la sonrisa de un niño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tu día triste habrá acabad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rcRect l="3102" t="3431" r="3102" b="7841"/>
          <a:stretch/>
        </p:blipFill>
        <p:spPr>
          <a:xfrm>
            <a:off x="0" y="0"/>
            <a:ext cx="6859440" cy="684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86600" y="243828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Hay un solo niño bello en el mundo  y cada madre lo tien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2831" t="3431" r="2831" b="7841"/>
          <a:stretch/>
        </p:blipFill>
        <p:spPr>
          <a:xfrm>
            <a:off x="-6480" y="6480"/>
            <a:ext cx="6940800" cy="6833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169040" y="2212920"/>
            <a:ext cx="174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todo está perdido cuando puedes ver en el rostro de un niño su magnífica inocenci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rcRect l="3619" t="2205" r="3877" b="8821"/>
          <a:stretch/>
        </p:blipFill>
        <p:spPr>
          <a:xfrm>
            <a:off x="0" y="0"/>
            <a:ext cx="6772320" cy="6869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10280" y="350532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¿Dónde va el niño?  Donde le tratan con car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22320"/>
            <a:ext cx="6859440" cy="683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90520" y="347976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a ternura cura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rcRect l="3360" t="3431" r="3360" b="8821"/>
          <a:stretch/>
        </p:blipFill>
        <p:spPr>
          <a:xfrm>
            <a:off x="2198520" y="0"/>
            <a:ext cx="694548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24382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se aprende en la cuna siempre dur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2301" t="3431" r="3579" b="7841"/>
          <a:stretch/>
        </p:blipFill>
        <p:spPr>
          <a:xfrm>
            <a:off x="0" y="14400"/>
            <a:ext cx="6945480" cy="68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010280" y="243828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olor, el del pan;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sabor, el de la sal;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amor, el de los niños.</a:t>
            </a: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rcRect l="3323" t="2205" r="3323" b="8821"/>
          <a:stretch/>
        </p:blipFill>
        <p:spPr>
          <a:xfrm>
            <a:off x="0" y="0"/>
            <a:ext cx="685152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934320" y="2514600"/>
            <a:ext cx="21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quél que no es capaz de comunicarse con un niño, no es capaz de comunicarse con nadi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rcRect l="2843" t="3431" r="2843" b="8821"/>
          <a:stretch/>
        </p:blipFill>
        <p:spPr>
          <a:xfrm>
            <a:off x="2133720" y="0"/>
            <a:ext cx="7010280" cy="686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242568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ame los primeros siete años de vida de un niño y te diré lo que será el hombre del mañan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rcRect l="3375" t="4123" r="3187" b="11642"/>
          <a:stretch/>
        </p:blipFill>
        <p:spPr>
          <a:xfrm>
            <a:off x="0" y="227160"/>
            <a:ext cx="9144000" cy="6402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620800" y="8888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 mayor prueba de que Dios existe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2843" t="3431" r="3877" b="7841"/>
          <a:stretch/>
        </p:blipFill>
        <p:spPr>
          <a:xfrm>
            <a:off x="0" y="0"/>
            <a:ext cx="6873840" cy="6861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086600" y="2333520"/>
            <a:ext cx="201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s personas más sabias del mundo, sólo que sin malici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11160"/>
            <a:ext cx="6859440" cy="6846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32004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futuro de los niños depende del presente que viv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3579" t="3431" r="3579" b="8821"/>
          <a:stretch/>
        </p:blipFill>
        <p:spPr>
          <a:xfrm>
            <a:off x="0" y="6480"/>
            <a:ext cx="6945480" cy="6856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086600" y="28954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Mi alegría es la mirada limpia y llena de amor de un niño feliz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rcRect l="3619" t="2205" r="3619" b="7841"/>
          <a:stretch/>
        </p:blipFill>
        <p:spPr>
          <a:xfrm>
            <a:off x="0" y="-3240"/>
            <a:ext cx="6689880" cy="6861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781680" y="29718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i todos siguiéramos siendo niños no habría guerra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rcRect l="2301" t="3431" r="3579" b="7841"/>
          <a:stretch/>
        </p:blipFill>
        <p:spPr>
          <a:xfrm>
            <a:off x="0" y="0"/>
            <a:ext cx="6945480" cy="6845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10280" y="4876920"/>
            <a:ext cx="2133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dijo también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«Dejad que los niños se acerquen a mí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se lo impidáis; de los que son como ellos es el Reino de los cielos.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457200"/>
            <a:ext cx="2133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llamando Jesús a un niño, lo puso en medio de ellos, y dijo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n verdad os digo, que si no os  hacéis como niños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entraréis en el reino de los ciel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sí, cualquiera que se humille como este niño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ése es el mayor en el reino de los cielos”. </a:t>
            </a: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(Mateo 18:2-4)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rcRect l="3102" t="3431" r="3102" b="8821"/>
          <a:stretch/>
        </p:blipFill>
        <p:spPr>
          <a:xfrm>
            <a:off x="2198520" y="0"/>
            <a:ext cx="6945480" cy="6842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28600" y="2209680"/>
            <a:ext cx="1905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duca a tu hijo desde niño y cuando llegue a viejo, </a:t>
            </a: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eguirá tus enseñanzas.             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    Proverbios 22:6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ocument"/>
          <p:cNvSpPr/>
          <p:nvPr/>
        </p:nvSpPr>
        <p:spPr>
          <a:xfrm>
            <a:off x="228600" y="0"/>
            <a:ext cx="5943600" cy="6858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04920"/>
            <a:ext cx="4550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Me gustaría que todos los niños, aquí en América y alrededor del mundo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pudiesen vivir el tipo de infancia alegre, segura y feliz que se transmite en mis pinturas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llena de amor,  besos y abrazos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libre de temor y de miseria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donde los niños pueden expresarse en su individualidad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donde los niños pueden ser niños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Creo que se lo debemos a los niños del mundo y que cada paso que se tome acercándonos a estos objetivos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nos hace mejores personas”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Donald Zola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84880" y="60199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Gill Sans MT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Gill Sans MT"/>
              </a:rPr>
              <a:t>F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3360" t="2205" r="3360" b="8821"/>
          <a:stretch/>
        </p:blipFill>
        <p:spPr>
          <a:xfrm>
            <a:off x="2284560" y="0"/>
            <a:ext cx="68594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28195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medio mejor para hacer buenos a los niños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hacerlos felice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0"/>
            <a:ext cx="6859440" cy="6851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25146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se les dé a los niños, darán los niños a la sociedad.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rcRect l="3360" t="2205" r="3360" b="7841"/>
          <a:stretch/>
        </p:blipFill>
        <p:spPr>
          <a:xfrm>
            <a:off x="2367000" y="0"/>
            <a:ext cx="6777000" cy="6859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25909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ducad a los niños y no será necesari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astigar a los hombres.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3619" t="2205" r="3360" b="7841"/>
          <a:stretch/>
        </p:blipFill>
        <p:spPr>
          <a:xfrm>
            <a:off x="2367000" y="-11160"/>
            <a:ext cx="6777000" cy="6869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28600" y="2438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maravilloso de la infancia es que cualquier cosa en ella es maravillos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2326" t="2205" r="3360" b="7841"/>
          <a:stretch/>
        </p:blipFill>
        <p:spPr>
          <a:xfrm>
            <a:off x="0" y="0"/>
            <a:ext cx="685944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750000" y="2666880"/>
            <a:ext cx="23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omos lo que fue nuestra niñez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2326" t="3431" r="3360" b="7841"/>
          <a:stretch/>
        </p:blipFill>
        <p:spPr>
          <a:xfrm>
            <a:off x="0" y="0"/>
            <a:ext cx="6945480" cy="6848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861240" y="2971800"/>
            <a:ext cx="22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a un poco de amor a un niño y ganarás un corazón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57:45Z</dcterms:created>
  <dc:creator/>
  <dc:description/>
  <dc:language>en-US</dc:language>
  <cp:lastModifiedBy>Lita Ramonda</cp:lastModifiedBy>
  <dcterms:modified xsi:type="dcterms:W3CDTF">2009-06-27T15:43:20Z</dcterms:modified>
  <cp:revision>11</cp:revision>
  <dc:subject/>
  <dc:title>Diapositiva 1</dc:title>
</cp:coreProperties>
</file>