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Ernesto%20Cort%C3%A1zar%20-%20Piruette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F3B-20DC-4712-90EE-F97109A1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F58-9252-4258-B9AB-AC6B25D9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DFF-2FFD-44D6-9E83-47D8F1D5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3FA-5E40-4767-8868-CABA41E1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F516-0DE8-4AF9-A993-01137A1F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94CD-B105-43A5-8AC9-8ADAB656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54EA-1E9C-4F2C-AA2E-B94A2275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3D85-1AF5-49B5-9968-54621FC7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6971-13E9-4F4A-BFA0-6552E128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873E-E404-48FE-BFE1-ACA80E65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5185-4421-4AA6-8978-6EA31D6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FD4-E51A-4315-807F-412D039E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48AA-1F48-4D8E-ABF8-2D7B9C71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4B42-27D5-46BC-A460-ABBB6C7C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7D0D-DBE2-4E78-8B29-D37A9E90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10CB-3799-4C25-B241-3D6841BA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CEC7-D27B-41A9-8B99-0E8E8268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3F3-A4A0-4A22-AAB8-B7957CC0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AB9-24DF-4E29-BA34-16136AD7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633-AA17-40BF-A5CE-45F85B30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0F3-1E20-4AAB-AD4F-83154A2F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E38-769A-4F3B-8D09-43D41A0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657-23F2-4356-8CA9-78A17580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821-848C-4675-AF57-1A3B179E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CD67-B8AB-476A-88DE-C57587455A47}" type="slidenum"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316A-FEE1-4829-8B23-C69087AAFC52}" type="slidenum">
              <a:rPr b="0" lang="zh-TW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Ernesto%20Cort&#225;zar%20-%20Piruett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2584" t="3396" r="2584" b="109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352680" y="49975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Comic Sans MS"/>
              </a:rPr>
              <a:t>Los niños…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-6400800" y="6021360"/>
            <a:ext cx="915660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rcRect l="3360" t="3431" r="3360" b="7841"/>
          <a:stretch/>
        </p:blipFill>
        <p:spPr>
          <a:xfrm>
            <a:off x="2284560" y="-1440"/>
            <a:ext cx="6859440" cy="68594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0" y="281952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y el genio tienen en común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l mismo órgano motor: la curiosidad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rcRect l="2316" t="2205" r="3603" b="8821"/>
          <a:stretch/>
        </p:blipFill>
        <p:spPr>
          <a:xfrm>
            <a:off x="0" y="0"/>
            <a:ext cx="6927840" cy="68594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7010280" y="2133720"/>
            <a:ext cx="2133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no tienen pasado ni futuro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por eso gozan del presente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cosa que rara vez nos ocurre a nosotros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rcRect l="3579" t="3431" r="4857" b="7841"/>
          <a:stretch/>
        </p:blipFill>
        <p:spPr>
          <a:xfrm>
            <a:off x="0" y="-76320"/>
            <a:ext cx="6772320" cy="6859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781680" y="3489480"/>
            <a:ext cx="2208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Quien no aprende de los niños, no aprenderá nada de los mayores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rcRect l="3360" t="2205" r="3360" b="8821"/>
          <a:stretch/>
        </p:blipFill>
        <p:spPr>
          <a:xfrm>
            <a:off x="2284560" y="-11160"/>
            <a:ext cx="6859440" cy="6869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28600" y="3276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He llegado por fin a lo que quería ser de mayor: un niñ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4601" t="2205" r="2301" b="8821"/>
          <a:stretch/>
        </p:blipFill>
        <p:spPr>
          <a:xfrm>
            <a:off x="2198520" y="-15840"/>
            <a:ext cx="6945480" cy="6873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6320" y="2730600"/>
            <a:ext cx="20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adivinan qué personas los aman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s un don natural que con el tiempo se pierde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rcRect l="2301" t="2205" r="2301" b="8821"/>
          <a:stretch/>
        </p:blipFill>
        <p:spPr>
          <a:xfrm>
            <a:off x="-6480" y="-1440"/>
            <a:ext cx="7032600" cy="6856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162920" y="2819520"/>
            <a:ext cx="1828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 que pongas en los primeros años de tu vida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quedará en ella hasta más allá de la muerte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rcRect l="3102" t="3431" r="4394" b="8821"/>
          <a:stretch/>
        </p:blipFill>
        <p:spPr>
          <a:xfrm>
            <a:off x="2284560" y="0"/>
            <a:ext cx="685944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52280" y="2590920"/>
            <a:ext cx="20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Que ni una palabra ni una mirada obscena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manchen la casa en donde haya un niñ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rcRect l="3579" t="3431" r="3579" b="7841"/>
          <a:stretch/>
        </p:blipFill>
        <p:spPr>
          <a:xfrm>
            <a:off x="0" y="0"/>
            <a:ext cx="6859440" cy="68515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162920" y="2666880"/>
            <a:ext cx="157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n cada niño nace la humanidad.</a:t>
            </a:r>
            <a:r>
              <a:rPr b="0" lang="es-ES" sz="1400" spc="-1" strike="noStrike">
                <a:solidFill>
                  <a:srgbClr val="ffe10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rcRect l="2316" t="3431" r="3603" b="7841"/>
          <a:stretch/>
        </p:blipFill>
        <p:spPr>
          <a:xfrm>
            <a:off x="0" y="0"/>
            <a:ext cx="694548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086600" y="2362320"/>
            <a:ext cx="177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son la esperanza del mundo.</a:t>
            </a:r>
            <a:r>
              <a:rPr b="0" lang="es-ES" sz="1400" spc="-1" strike="noStrike">
                <a:solidFill>
                  <a:srgbClr val="ffe103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rcRect l="3579" t="2205" r="3579" b="7841"/>
          <a:stretch/>
        </p:blipFill>
        <p:spPr>
          <a:xfrm>
            <a:off x="2367000" y="0"/>
            <a:ext cx="6777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80880" y="281952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Donde hay niños, existe la Edad de Or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rcRect l="5169" t="3185" r="3360" b="9311"/>
          <a:stretch/>
        </p:blipFill>
        <p:spPr>
          <a:xfrm>
            <a:off x="0" y="3240"/>
            <a:ext cx="6732720" cy="6854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781680" y="1238040"/>
            <a:ext cx="2362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e103"/>
                </a:solidFill>
                <a:latin typeface="Comic Sans MS"/>
              </a:rPr>
              <a:t>Las pinturas que siguen son del pintor norteamericano Donald Zolan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e103"/>
                </a:solidFill>
                <a:latin typeface="Comic Sans MS"/>
              </a:rPr>
              <a:t>Los comentarios son también de Zolan y expresan su amor a los niños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e103"/>
                </a:solidFill>
                <a:latin typeface="Comic Sans MS"/>
              </a:rPr>
              <a:t> </a:t>
            </a:r>
            <a:r>
              <a:rPr b="0" lang="es-ES_tradnl" sz="1600" spc="-1" strike="noStrike">
                <a:solidFill>
                  <a:srgbClr val="ffe103"/>
                </a:solidFill>
                <a:latin typeface="Comic Sans MS"/>
              </a:rPr>
              <a:t>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ffe103"/>
                </a:solidFill>
                <a:latin typeface="Comic Sans MS"/>
              </a:rPr>
              <a:t>Su trabajo celebra la alegría de la niñez, con todas sus maravillas, inocencia y amor.</a:t>
            </a:r>
            <a:r>
              <a:rPr b="0" lang="es-ES_tradnl" sz="1600" spc="-1" strike="noStrike">
                <a:solidFill>
                  <a:srgbClr val="ffcc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rcRect l="2585" t="3431" r="3360" b="8821"/>
          <a:stretch/>
        </p:blipFill>
        <p:spPr>
          <a:xfrm>
            <a:off x="2209680" y="6480"/>
            <a:ext cx="6935760" cy="6851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28600" y="3200400"/>
            <a:ext cx="1828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s importante cuidar la infancia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porque los niños son el futuro de nuestro mund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rcRect l="2812" t="3431" r="3579" b="7841"/>
          <a:stretch/>
        </p:blipFill>
        <p:spPr>
          <a:xfrm>
            <a:off x="2209680" y="7920"/>
            <a:ext cx="6934320" cy="68500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52280" y="2819520"/>
            <a:ext cx="1905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Cada niño que viene al mundo nos dice: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"Dios aún confía en el hombre"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rcRect l="3619" t="2205" r="3619" b="8821"/>
          <a:stretch/>
        </p:blipFill>
        <p:spPr>
          <a:xfrm>
            <a:off x="2362320" y="0"/>
            <a:ext cx="6781680" cy="6873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28600" y="2971800"/>
            <a:ext cx="1981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Aléjame de la sabiduría que no llora,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a filosofía que no ríe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y la grandeza que no se inclina ante los niños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rcRect l="2843" t="2205" r="2843" b="8821"/>
          <a:stretch/>
        </p:blipFill>
        <p:spPr>
          <a:xfrm>
            <a:off x="2286000" y="-14400"/>
            <a:ext cx="6858000" cy="6872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0600" y="3200400"/>
            <a:ext cx="166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¿Qué sería el mundo sin niños?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rcRect l="3619" t="2205" r="3102" b="7841"/>
          <a:stretch/>
        </p:blipFill>
        <p:spPr>
          <a:xfrm>
            <a:off x="0" y="0"/>
            <a:ext cx="6772320" cy="68565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091280" y="3124080"/>
            <a:ext cx="16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Presencia la sonrisa de un niño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y tu día triste habrá acabad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rcRect l="3102" t="3431" r="3102" b="7841"/>
          <a:stretch/>
        </p:blipFill>
        <p:spPr>
          <a:xfrm>
            <a:off x="0" y="0"/>
            <a:ext cx="6859440" cy="684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086600" y="2438280"/>
            <a:ext cx="195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Hay un solo niño bello en el mundo  y cada madre lo tiene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rcRect l="2831" t="3431" r="2831" b="7841"/>
          <a:stretch/>
        </p:blipFill>
        <p:spPr>
          <a:xfrm>
            <a:off x="-6480" y="6480"/>
            <a:ext cx="6940800" cy="68338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7169040" y="2212920"/>
            <a:ext cx="174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No todo está perdido cuando puedes ver en el rostro de un niño su magnífica inocencia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rcRect l="3619" t="2205" r="3877" b="8821"/>
          <a:stretch/>
        </p:blipFill>
        <p:spPr>
          <a:xfrm>
            <a:off x="0" y="0"/>
            <a:ext cx="6772320" cy="68691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010280" y="350532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¿Dónde va el niño?  Donde le tratan con cariño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rcRect l="3579" t="3431" r="3579" b="7841"/>
          <a:stretch/>
        </p:blipFill>
        <p:spPr>
          <a:xfrm>
            <a:off x="2284560" y="22320"/>
            <a:ext cx="6859440" cy="68356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290520" y="347976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a ternura cura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rcRect l="3360" t="3431" r="3360" b="8821"/>
          <a:stretch/>
        </p:blipFill>
        <p:spPr>
          <a:xfrm>
            <a:off x="2198520" y="0"/>
            <a:ext cx="694548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24382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 que se aprende en la cuna siempre dura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rcRect l="2301" t="3431" r="3579" b="7841"/>
          <a:stretch/>
        </p:blipFill>
        <p:spPr>
          <a:xfrm>
            <a:off x="0" y="14400"/>
            <a:ext cx="6945480" cy="6843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7010280" y="2438280"/>
            <a:ext cx="213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Gill Sans MT"/>
              </a:rPr>
              <a:t>El mejor olor, el del pan;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Gill Sans MT"/>
              </a:rPr>
              <a:t>el mejor sabor, el de la sal;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Gill Sans MT"/>
              </a:rPr>
              <a:t>el mejor amor, el de los niños.</a:t>
            </a:r>
            <a:r>
              <a:rPr b="0" lang="es-ES" sz="1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rcRect l="3323" t="2205" r="3323" b="8821"/>
          <a:stretch/>
        </p:blipFill>
        <p:spPr>
          <a:xfrm>
            <a:off x="0" y="0"/>
            <a:ext cx="685152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934320" y="2514600"/>
            <a:ext cx="213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Aquél que no es capaz de comunicarse con un niño, no es capaz de comunicarse con nadie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rcRect l="2843" t="3431" r="2843" b="8821"/>
          <a:stretch/>
        </p:blipFill>
        <p:spPr>
          <a:xfrm>
            <a:off x="2133720" y="0"/>
            <a:ext cx="7010280" cy="6861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0" y="2425680"/>
            <a:ext cx="20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Dame los primeros siete años de vida de un niño y te diré lo que será el hombre del mañana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rcRect l="3375" t="4123" r="3187" b="11642"/>
          <a:stretch/>
        </p:blipFill>
        <p:spPr>
          <a:xfrm>
            <a:off x="0" y="227160"/>
            <a:ext cx="9144000" cy="64022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620800" y="88884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son la mayor prueba de que Dios existe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rcRect l="2843" t="3431" r="3877" b="7841"/>
          <a:stretch/>
        </p:blipFill>
        <p:spPr>
          <a:xfrm>
            <a:off x="0" y="0"/>
            <a:ext cx="6873840" cy="6861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086600" y="2333520"/>
            <a:ext cx="201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s niños son las personas más sabias del mundo, sólo que sin malicia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rcRect l="3579" t="3431" r="3579" b="7841"/>
          <a:stretch/>
        </p:blipFill>
        <p:spPr>
          <a:xfrm>
            <a:off x="2284560" y="11160"/>
            <a:ext cx="6859440" cy="6846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0" y="32004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l futuro de los niños depende del presente que vivan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rcRect l="3579" t="3431" r="3579" b="8821"/>
          <a:stretch/>
        </p:blipFill>
        <p:spPr>
          <a:xfrm>
            <a:off x="0" y="6480"/>
            <a:ext cx="6945480" cy="6856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7086600" y="289548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Mi alegría es la mirada limpia y llena de amor de un niño feliz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rcRect l="3619" t="2205" r="3619" b="7841"/>
          <a:stretch/>
        </p:blipFill>
        <p:spPr>
          <a:xfrm>
            <a:off x="0" y="-3240"/>
            <a:ext cx="6689880" cy="6861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781680" y="29718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Si todos siguiéramos siendo niños no habría guerras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rcRect l="2301" t="3431" r="3579" b="7841"/>
          <a:stretch/>
        </p:blipFill>
        <p:spPr>
          <a:xfrm>
            <a:off x="0" y="0"/>
            <a:ext cx="6945480" cy="6845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010280" y="4876920"/>
            <a:ext cx="2133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Y dijo también: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«Dejad que los niños se acerquen a mí: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no se lo impidáis; de los que son como ellos es el Reino de los cielos.»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457200"/>
            <a:ext cx="2133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Y llamando Jesús a un niño, lo puso en medio de ellos, y dijo: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n verdad os digo, que si no os  hacéis como niños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no entraréis en el reino de los cielos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Así, cualquiera que se humille como este niño,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ése es el mayor en el reino de los cielos”. </a:t>
            </a:r>
            <a:br>
              <a:rPr sz="1600"/>
            </a:b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(Mateo 18:2-4)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rcRect l="3102" t="3431" r="3102" b="8821"/>
          <a:stretch/>
        </p:blipFill>
        <p:spPr>
          <a:xfrm>
            <a:off x="2198520" y="0"/>
            <a:ext cx="6945480" cy="68421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28600" y="2209680"/>
            <a:ext cx="1905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duca a tu hijo desde niño y cuando llegue a viejo, </a:t>
            </a:r>
            <a:br>
              <a:rPr sz="1600"/>
            </a:b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seguirá tus enseñanzas.             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    Proverbios 22:6</a:t>
            </a: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ocument"/>
          <p:cNvSpPr/>
          <p:nvPr/>
        </p:nvSpPr>
        <p:spPr>
          <a:xfrm>
            <a:off x="228600" y="0"/>
            <a:ext cx="5943600" cy="6858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304920"/>
            <a:ext cx="45500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“</a:t>
            </a: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Me gustaría que todos los niños, aquí en América y alrededor del mundo,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pudiesen vivir el tipo de infancia alegre, segura y feliz que se transmite en mis pinturas.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Una infancia llena de amor,  besos y abrazos,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una infancia libre de temor y de miseria,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una infancia donde los niños pueden expresarse en su individualidad,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una infancia donde los niños pueden ser niños.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Creo que se lo debemos a los niños del mundo y que cada paso que se tome acercándonos a estos objetivos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nos hace mejores personas”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Gill Sans MT"/>
              </a:rPr>
              <a:t>Donald Zolan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184880" y="601992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Gill Sans MT"/>
              </a:rPr>
              <a:t>   </a:t>
            </a:r>
            <a:r>
              <a:rPr b="1" lang="es-ES" sz="2800" spc="-1" strike="noStrike">
                <a:solidFill>
                  <a:srgbClr val="800000"/>
                </a:solidFill>
                <a:latin typeface="Gill Sans MT"/>
              </a:rPr>
              <a:t>F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rcRect l="3360" t="2205" r="3360" b="8821"/>
          <a:stretch/>
        </p:blipFill>
        <p:spPr>
          <a:xfrm>
            <a:off x="2284560" y="0"/>
            <a:ext cx="685944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28195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l medio mejor para hacer buenos a los niños,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s hacerlos felices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rcRect l="3579" t="3431" r="3579" b="7841"/>
          <a:stretch/>
        </p:blipFill>
        <p:spPr>
          <a:xfrm>
            <a:off x="2284560" y="0"/>
            <a:ext cx="6859440" cy="68515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0" y="25146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 que se les dé a los niños, darán los niños a la sociedad.</a:t>
            </a: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rcRect l="3360" t="2205" r="3360" b="7841"/>
          <a:stretch/>
        </p:blipFill>
        <p:spPr>
          <a:xfrm>
            <a:off x="2367000" y="0"/>
            <a:ext cx="6777000" cy="6859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25909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Educad a los niños y no será necesario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castigar a los hombres.</a:t>
            </a:r>
            <a:r>
              <a:rPr b="0" lang="es-ES" sz="14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3619" t="2205" r="3360" b="7841"/>
          <a:stretch/>
        </p:blipFill>
        <p:spPr>
          <a:xfrm>
            <a:off x="2367000" y="-11160"/>
            <a:ext cx="6777000" cy="6869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28600" y="243828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Lo maravilloso de la infancia es que cualquier cosa en ella es maravillosa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rcRect l="2326" t="2205" r="3360" b="7841"/>
          <a:stretch/>
        </p:blipFill>
        <p:spPr>
          <a:xfrm>
            <a:off x="0" y="0"/>
            <a:ext cx="685944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750000" y="2666880"/>
            <a:ext cx="239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Somos lo que fue nuestra niñez.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rcRect l="2326" t="3431" r="3360" b="7841"/>
          <a:stretch/>
        </p:blipFill>
        <p:spPr>
          <a:xfrm>
            <a:off x="0" y="0"/>
            <a:ext cx="6945480" cy="68486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861240" y="2971800"/>
            <a:ext cx="22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Comic Sans MS"/>
              </a:rPr>
              <a:t>Da un poco de amor a un niño y ganarás un corazón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0:57:45Z</dcterms:created>
  <dc:creator/>
  <dc:description/>
  <dc:language>en-US</dc:language>
  <cp:lastModifiedBy>Lita Ramonda</cp:lastModifiedBy>
  <dcterms:modified xsi:type="dcterms:W3CDTF">2009-06-27T15:43:20Z</dcterms:modified>
  <cp:revision>11</cp:revision>
  <dc:subject/>
  <dc:title>Diapositiva 1</dc:title>
</cp:coreProperties>
</file>