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Quizas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4A4-C235-40B2-8702-068F6ABE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208-8DDB-44C6-B37C-2A2C5057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FA8-B9AE-4872-BC58-0755D29F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64E-1E2C-46F2-965C-0FE93B44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7BB-BB92-4E94-8EDF-1D3E7533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5A0-FE3A-4529-9B3A-0D40E65F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4AD-043D-48A2-91C0-18F2AD07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30B-083B-4FE8-8D21-7D7EAE3E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FA4-F983-4C1F-9437-F2C75E75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136-35A0-48ED-BB77-76B016E4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595-CB09-4CD9-9832-A2AA766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A82-A3BF-4F64-99EB-25AD70C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0256-AEC9-4D13-9B89-83AF5BD3B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Quiza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untitled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9"/>
          <p:cNvSpPr/>
          <p:nvPr/>
        </p:nvSpPr>
        <p:spPr>
          <a:xfrm>
            <a:off x="863640" y="647640"/>
            <a:ext cx="7451640" cy="22269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cc00"/>
                </a:solidFill>
                <a:uFillTx/>
                <a:latin typeface="Bangle"/>
              </a:rPr>
              <a:t>La convivencia</a:t>
            </a:r>
            <a:r>
              <a:rPr b="1" i="1" lang="es-ES" sz="2800" spc="-1" strike="noStrike">
                <a:solidFill>
                  <a:srgbClr val="ffffff"/>
                </a:solidFill>
                <a:latin typeface="Bangle"/>
              </a:rPr>
              <a:t> es una forma de vivir que debemos escoger desde muy jóv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angle"/>
              </a:rPr>
              <a:t>Para la convivencia positiva es necesario el respeto, el amor, entre otros y debemos tolerar costumbres de otras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6248520" y="6095880"/>
            <a:ext cx="248436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6600"/>
                </a:solidFill>
                <a:latin typeface="Bangle"/>
              </a:rPr>
              <a:t>Avance auto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900000" y="4248000"/>
            <a:ext cx="266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0033"/>
                </a:solidFill>
                <a:latin typeface="Bangle"/>
              </a:rPr>
              <a:t>Lee y med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5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 rot="20520000">
            <a:off x="3573360" y="281772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Si no sa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qué deci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cál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 rot="20520000">
            <a:off x="3068640" y="2817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Si debes usar alg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que no te pertene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pide per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7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 rot="20520000">
            <a:off x="2960640" y="281736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Si te prestaron, devue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 rot="20520000">
            <a:off x="3489120" y="281736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Si no sa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cómo funcion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no to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 rot="20520000">
            <a:off x="3317760" y="2817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Si es grati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no lo desperdi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 rot="20520000">
            <a:off x="2889360" y="281736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Si no es asunto tuy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no te entrome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 rot="20520000">
            <a:off x="3615840" y="281736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Si no sa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hacerlo mejo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no crit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 rot="20520000">
            <a:off x="3652920" y="2817720"/>
            <a:ext cx="267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Si no pue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ayuda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no moles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7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 rot="20520000">
            <a:off x="3505320" y="281736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Si prometi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cu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 rot="20520000">
            <a:off x="3691080" y="2817360"/>
            <a:ext cx="239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Si ofendi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discúlp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9"/>
          <p:cNvSpPr/>
          <p:nvPr/>
        </p:nvSpPr>
        <p:spPr>
          <a:xfrm rot="20520000">
            <a:off x="3190680" y="2036880"/>
            <a:ext cx="3165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¡Sería tan fáci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 </a:t>
            </a: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...si todos   tuviésemos siempre en cuenta estas  sencillas regl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 rot="20640000">
            <a:off x="2819520" y="1219320"/>
            <a:ext cx="389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5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 rot="20520000">
            <a:off x="3724200" y="281736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Si no sab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no op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 rot="20520000">
            <a:off x="3809880" y="281736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Si opina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hazte carg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 rot="20520000">
            <a:off x="3412440" y="28069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Si algo te sirv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trátalo con cari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 rot="20520000">
            <a:off x="3105000" y="321264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Aquí viene lo mejo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 rot="20520000">
            <a:off x="3047760" y="236232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Si no pue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hacer lo que quieres,  trata de quer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lo que h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666880" y="5105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336600"/>
                </a:solidFill>
                <a:latin typeface="Bangle"/>
              </a:rPr>
              <a:t>Adiós ami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 rot="20520000">
            <a:off x="3429000" y="28191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Si abriste, cier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 rot="20520000">
            <a:off x="3548160" y="2817360"/>
            <a:ext cx="26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Si encendi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apag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 rot="20520000">
            <a:off x="3599640" y="2767680"/>
            <a:ext cx="274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Si conectaste,                     desconec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 rot="20520000">
            <a:off x="3429000" y="2817360"/>
            <a:ext cx="308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Si desordena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orde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 rot="20520000">
            <a:off x="3537000" y="281736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  <a:ea typeface="Tunga"/>
              </a:rPr>
              <a:t>Si ensucia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  <a:ea typeface="Tunga"/>
              </a:rPr>
              <a:t>limp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 rot="20520000">
            <a:off x="3537000" y="2817360"/>
            <a:ext cx="24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Si rompi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arreg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 rot="20520000">
            <a:off x="3537000" y="2817360"/>
            <a:ext cx="275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Si no sa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arreglar, busca al que se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3:59:30Z</dcterms:created>
  <dc:creator>El cafecito</dc:creator>
  <dc:description/>
  <dc:language>en-US</dc:language>
  <cp:lastModifiedBy>Colossus User</cp:lastModifiedBy>
  <dcterms:modified xsi:type="dcterms:W3CDTF">2010-10-01T20:11:08Z</dcterms:modified>
  <cp:revision>23</cp:revision>
  <dc:subject/>
  <dc:title>Diapositiva 1</dc:title>
</cp:coreProperties>
</file>