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Quizas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3FA-9244-445B-890C-B9CD0050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843-E393-47AA-B764-03F372AA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B79-B774-41FF-9C91-D3E97C85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C77-3B4C-4033-8369-BC3048BD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10F-281C-4173-8912-E7756781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A3F-F918-4E89-A6A3-05C3E2F7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C07-60B1-46FB-994B-74EE9977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723-B965-4738-893B-98BF3425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A06-EE59-4F39-AE44-FA789259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763-5AF1-46D4-A6F7-37542E0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7E9-E79D-4CAF-B114-A88B3C7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4BA-C9DD-4710-8AA4-A452C23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18D-2092-4CB6-91A1-76F78A22D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Quiza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untitled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9"/>
          <p:cNvSpPr/>
          <p:nvPr/>
        </p:nvSpPr>
        <p:spPr>
          <a:xfrm>
            <a:off x="863640" y="647640"/>
            <a:ext cx="7451640" cy="22269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cc00"/>
                </a:solidFill>
                <a:uFillTx/>
                <a:latin typeface="Bangle"/>
              </a:rPr>
              <a:t>La convivencia</a:t>
            </a:r>
            <a:r>
              <a:rPr b="1" i="1" lang="es-ES" sz="2800" spc="-1" strike="noStrike">
                <a:solidFill>
                  <a:srgbClr val="ffffff"/>
                </a:solidFill>
                <a:latin typeface="Bangle"/>
              </a:rPr>
              <a:t> es una forma de vivir que debemos escoger desde muy jóv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angle"/>
              </a:rPr>
              <a:t>Para la convivencia positiva es necesario el respeto, el amor, entre otros y debemos tolerar costumbres de otras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6248520" y="6095880"/>
            <a:ext cx="24843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6600"/>
                </a:solidFill>
                <a:latin typeface="Bangle"/>
              </a:rPr>
              <a:t>Avance auto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900000" y="4248000"/>
            <a:ext cx="266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0033"/>
                </a:solidFill>
                <a:latin typeface="Bangle"/>
              </a:rPr>
              <a:t>Lee y med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5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 rot="20520000">
            <a:off x="3573360" y="281772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Si no sa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qué deci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cál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 rot="20520000">
            <a:off x="3068640" y="2817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Si debes usar alg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que no te pertene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pide per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7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 rot="20520000">
            <a:off x="2960640" y="281736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Si te prestaron, devue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 rot="20520000">
            <a:off x="3489120" y="281736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Si no sa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cómo funcion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no to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 rot="20520000">
            <a:off x="3317760" y="281736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es grati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no lo desperdi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 rot="20520000">
            <a:off x="2889360" y="281736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Si no es asunto tuy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no te entrome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 rot="20520000">
            <a:off x="3615840" y="281736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Si no sa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hacerlo mej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no crit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 rot="20520000">
            <a:off x="3652920" y="2817720"/>
            <a:ext cx="267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Si no pue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ayuda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no moles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 rot="20520000">
            <a:off x="3505320" y="281736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Si prometi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cu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 rot="20520000">
            <a:off x="3691080" y="2817360"/>
            <a:ext cx="239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ofendi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discúlp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9"/>
          <p:cNvSpPr/>
          <p:nvPr/>
        </p:nvSpPr>
        <p:spPr>
          <a:xfrm rot="20520000">
            <a:off x="3190680" y="2036880"/>
            <a:ext cx="3165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¡Sería tan fáci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 </a:t>
            </a: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...si todos   tuviésemos siempre en cuenta estas  sencillas regl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 rot="20640000">
            <a:off x="2819520" y="1219320"/>
            <a:ext cx="389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5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 rot="20520000">
            <a:off x="3724200" y="281736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Si no sab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no op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 rot="20520000">
            <a:off x="3809880" y="281736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Si opina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hazte carg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 rot="20520000">
            <a:off x="3412440" y="28069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Si algo te sirv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</a:rPr>
              <a:t>trátalo con cari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 rot="20520000">
            <a:off x="3105000" y="321264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Aquí viene lo mejo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 rot="20520000">
            <a:off x="3047760" y="236232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no pue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hacer lo que quieres,  trata de quer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lo que h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666880" y="5105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6600"/>
                </a:solidFill>
                <a:latin typeface="Bangle"/>
              </a:rPr>
              <a:t>Adiós ami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 rot="20520000">
            <a:off x="3429000" y="28191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Si abriste, cier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 rot="20520000">
            <a:off x="3548160" y="2817360"/>
            <a:ext cx="26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encendi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apag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 rot="20520000">
            <a:off x="3599640" y="2767680"/>
            <a:ext cx="274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Bangle"/>
              </a:rPr>
              <a:t>Si conectaste,                     desconec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 rot="20520000">
            <a:off x="3429000" y="2817360"/>
            <a:ext cx="308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Si desordena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0000"/>
                </a:solidFill>
                <a:latin typeface="Bangle"/>
              </a:rPr>
              <a:t>orde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 rot="20520000">
            <a:off x="3537000" y="281736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  <a:ea typeface="Tunga"/>
              </a:rPr>
              <a:t>Si ensucia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Bangle"/>
                <a:ea typeface="Tunga"/>
              </a:rPr>
              <a:t>limp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 rot="20520000">
            <a:off x="3537000" y="2817360"/>
            <a:ext cx="242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Si rompi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Bangle"/>
              </a:rPr>
              <a:t>arreg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 rot="20520000">
            <a:off x="3537000" y="2817360"/>
            <a:ext cx="275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Si no sa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54e27"/>
                </a:solidFill>
                <a:latin typeface="Bangle"/>
              </a:rPr>
              <a:t>arreglar, busca al que se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3:59:30Z</dcterms:created>
  <dc:creator>El cafecito</dc:creator>
  <dc:description/>
  <dc:language>en-US</dc:language>
  <cp:lastModifiedBy>Colossus User</cp:lastModifiedBy>
  <dcterms:modified xsi:type="dcterms:W3CDTF">2010-10-01T20:11:08Z</dcterms:modified>
  <cp:revision>23</cp:revision>
  <dc:subject/>
  <dc:title>Diapositiva 1</dc:title>
</cp:coreProperties>
</file>