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Ernesto%20Cortazar%20Eternity.wav" ContentType="audio/x-wav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812-0E10-44ED-95A6-E16DE6D8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805-1262-4FE7-96B0-40318F5B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F5F-E070-414D-B3CC-8C68C587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F63-12D6-411F-AB70-CE3CCFB5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1FF-5711-4343-9038-4872F552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054-8D98-41BA-B016-49803DCC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F5E-4CBB-4BB6-A8E9-2C51D08C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CD6-F4D8-468C-A2EF-839DAB03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6AE-DA82-4642-9E61-976C4ED0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57A-C4DA-41B5-B241-73C106A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D22-55B6-47F3-BC54-6E32ADBD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E6B-4334-415A-ACCF-B10592D9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25BE-6FC1-4B46-A4D7-2882080D0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Ernesto%20Cortazar%20Eternity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quot;Zeitarbeit&quot; de Walter Niegoth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19640" y="4221000"/>
            <a:ext cx="2187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 te rindas...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35280" y="5013360"/>
            <a:ext cx="194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rio 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nedetti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564000" y="2133720"/>
            <a:ext cx="187164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Calle Los Suspiros de Luiz Cavalcante"/>
          <p:cNvPicPr/>
          <p:nvPr/>
        </p:nvPicPr>
        <p:blipFill>
          <a:blip r:embed="rId1"/>
          <a:stretch/>
        </p:blipFill>
        <p:spPr>
          <a:xfrm>
            <a:off x="0" y="0"/>
            <a:ext cx="9252000" cy="694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7600" y="551664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yo te quiero.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120" y="4941720"/>
            <a:ext cx="32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no estás sola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Empedrado de malandraca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9960" y="155592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Imágenes de fond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Colonia, 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42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Presentació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Berlin Sans FB"/>
              </a:rPr>
              <a:t>J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000" y="304560"/>
            <a:ext cx="281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erlin Sans FB"/>
              </a:rPr>
              <a:t>Autor: Mario Benedett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erlin Sans FB"/>
              </a:rPr>
              <a:t>ensayista, poeta y escritor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Berlin Sans FB"/>
              </a:rPr>
              <a:t>(Uruguay, 1920-2009)</a:t>
            </a:r>
            <a:r>
              <a:rPr b="1" i="1" lang="en-US" sz="1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ome sweet home de Luiz Cavalcante"/>
          <p:cNvPicPr/>
          <p:nvPr/>
        </p:nvPicPr>
        <p:blipFill>
          <a:blip r:embed="rId1"/>
          <a:stretch/>
        </p:blipFill>
        <p:spPr>
          <a:xfrm>
            <a:off x="-252360" y="-171360"/>
            <a:ext cx="9575640" cy="7142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1040" y="148428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ceptar tus sombra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nterrar tus mied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liberar el lastr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retomar el v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aún estás a tiempo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de alcanzar y comenzar de nuevo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40000" y="1268280"/>
            <a:ext cx="41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No te rindas que la vida es e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Windows 2000 de Rolf Gerber"/>
          <p:cNvPicPr/>
          <p:nvPr/>
        </p:nvPicPr>
        <p:blipFill>
          <a:blip r:embed="rId1"/>
          <a:stretch/>
        </p:blipFill>
        <p:spPr>
          <a:xfrm>
            <a:off x="-612720" y="-243000"/>
            <a:ext cx="11306160" cy="724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36200" y="3141720"/>
            <a:ext cx="335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No te ri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que la vida es e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continuar el viaje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perseguir tus sueños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destrabar el tiempo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correr los escombro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y destapar el cie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Colonia... de Jürgen Atmanspacher"/>
          <p:cNvPicPr/>
          <p:nvPr/>
        </p:nvPicPr>
        <p:blipFill>
          <a:blip r:embed="rId1"/>
          <a:stretch/>
        </p:blipFill>
        <p:spPr>
          <a:xfrm>
            <a:off x="-181080" y="0"/>
            <a:ext cx="9609120" cy="70977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2411280" y="4221000"/>
            <a:ext cx="45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por favor no ce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frío quem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miedo muer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sol se escon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se calle el vient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fuego en tu alm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vida en tus sueños.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Colonia in silence de Maripa Silv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41960" y="549360"/>
            <a:ext cx="3002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Porque la vida es tu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y tuyo también el dese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porque lo has 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erlin Sans FB"/>
              </a:rPr>
              <a:t>y porque te qu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existe el v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el amor, es cierto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no hay heridas que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ure el tiempo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Colonia del Sacramento de Cecilie Schlueb 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86360" y="4107600"/>
            <a:ext cx="433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brir las puerta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itar los cerroj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bandonar las mural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e te protegieron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vivir la vida y aceptar el reto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Colonia 2 de Walter Niegoth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81680" y="5013360"/>
            <a:ext cx="31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Desplegar las alas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 intentar de nuev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elebrar la vid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retomar los cie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8680" y="3357720"/>
            <a:ext cx="316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Recuperar la ris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nsayar el cant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bajar la guardi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xtender las manos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Colônia del Sacramento de Otaz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25760" y="4757040"/>
            <a:ext cx="631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por favor no ce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frío quem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miedo muer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sol se ponga y se calle el viento,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Gasse in Colonia (Uruguay) de Nicole Poltsch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75480" y="486576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fuego en tu a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vida en tus sue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cada día es un comienzo nuevo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ésta es la hora y el mejor momento.</a:t>
            </a: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3:01:03Z</dcterms:created>
  <dc:creator>.Alicia Castellote</dc:creator>
  <dc:description/>
  <dc:language>en-US</dc:language>
  <cp:lastModifiedBy>Grupo Televisa</cp:lastModifiedBy>
  <dcterms:modified xsi:type="dcterms:W3CDTF">2009-05-21T23:41:52Z</dcterms:modified>
  <cp:revision>14</cp:revision>
  <dc:subject/>
  <dc:title>Diapositiva 1</dc:title>
</cp:coreProperties>
</file>