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Ernesto%20Cortazar%20Eternity.wav" ContentType="audio/x-wav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1F65-79FD-4346-9F4E-E05008FE2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05C7-8498-4AD6-9F80-06B6D27A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D48A-8C61-43B7-8B4E-2BA12756C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40D9-6C21-47C3-AEBC-5C6A8E379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F06F-B83C-4AC8-8DFB-2E180113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BEC2-DC60-4D89-BBF2-9CC20DE9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5CF6-D37D-457E-A359-040A4788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2CBE-84B3-4C6C-8319-EC636262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9A5B-EBCB-4D2D-8E43-98F20AED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87A6-6478-4F62-90B3-367F5F46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29E5-3F3B-448F-BEC9-CC4342DA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CDC1-2FD8-455C-9D69-D59AD869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11A1-A71B-4891-BE94-4B2AC1D7E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Ernesto%20Cortazar%20Eternity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&quot;Zeitarbeit&quot; de Walter Niegoth"/>
          <p:cNvPicPr/>
          <p:nvPr/>
        </p:nvPicPr>
        <p:blipFill>
          <a:blip r:embed="rId2"/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419640" y="4221000"/>
            <a:ext cx="21873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No te rindas...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635280" y="5013360"/>
            <a:ext cx="194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ario 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enedetti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564000" y="2133720"/>
            <a:ext cx="187164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Calle Los Suspiros de Luiz Cavalcante"/>
          <p:cNvPicPr/>
          <p:nvPr/>
        </p:nvPicPr>
        <p:blipFill>
          <a:blip r:embed="rId1"/>
          <a:stretch/>
        </p:blipFill>
        <p:spPr>
          <a:xfrm>
            <a:off x="0" y="0"/>
            <a:ext cx="9252000" cy="6943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7600" y="5516640"/>
            <a:ext cx="31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porque yo te quiero.</a:t>
            </a: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120" y="4941720"/>
            <a:ext cx="32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Porque no estás sola</a:t>
            </a: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Empedrado de malandraca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9960" y="1555920"/>
            <a:ext cx="22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Berlin Sans FB"/>
              </a:rPr>
              <a:t>Imágenes de fond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Berlin Sans FB"/>
              </a:rPr>
              <a:t>Colonia, Urugu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2421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Berlin Sans FB"/>
              </a:rPr>
              <a:t>Presentació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Berlin Sans FB"/>
              </a:rPr>
              <a:t>J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000" y="304560"/>
            <a:ext cx="281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erlin Sans FB"/>
              </a:rPr>
              <a:t>Autor: Mario Benedetti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erlin Sans FB"/>
              </a:rPr>
              <a:t>ensayista, poeta y escritor</a:t>
            </a:r>
            <a:br>
              <a:rPr sz="1800"/>
            </a:br>
            <a:r>
              <a:rPr b="0" i="1" lang="en-US" sz="1800" spc="-1" strike="noStrike">
                <a:solidFill>
                  <a:srgbClr val="ffffff"/>
                </a:solidFill>
                <a:latin typeface="Berlin Sans FB"/>
              </a:rPr>
              <a:t>(Uruguay, 1920-2009)</a:t>
            </a:r>
            <a:r>
              <a:rPr b="1" i="1" lang="en-US" sz="18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Home sweet home de Luiz Cavalcante"/>
          <p:cNvPicPr/>
          <p:nvPr/>
        </p:nvPicPr>
        <p:blipFill>
          <a:blip r:embed="rId1"/>
          <a:stretch/>
        </p:blipFill>
        <p:spPr>
          <a:xfrm>
            <a:off x="-252360" y="-171360"/>
            <a:ext cx="9575640" cy="7142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41040" y="1484280"/>
            <a:ext cx="327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ceptar tus sombras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enterrar tus miedos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liberar el lastre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retomar el vue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47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No te rindas, aún estás a tiempo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de alcanzar y comenzar de nuevo,</a:t>
            </a: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40000" y="1268280"/>
            <a:ext cx="412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No te rindas que la vida es e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Windows 2000 de Rolf Gerber"/>
          <p:cNvPicPr/>
          <p:nvPr/>
        </p:nvPicPr>
        <p:blipFill>
          <a:blip r:embed="rId1"/>
          <a:stretch/>
        </p:blipFill>
        <p:spPr>
          <a:xfrm>
            <a:off x="-612720" y="-243000"/>
            <a:ext cx="11306160" cy="7242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236200" y="3141720"/>
            <a:ext cx="3359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No te rin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que la vida es es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continuar el viaje,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perseguir tus sueños,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destrabar el tiempo,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correr los escombros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y destapar el ciel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Colonia... de Jürgen Atmanspacher"/>
          <p:cNvPicPr/>
          <p:nvPr/>
        </p:nvPicPr>
        <p:blipFill>
          <a:blip r:embed="rId1"/>
          <a:stretch/>
        </p:blipFill>
        <p:spPr>
          <a:xfrm>
            <a:off x="-181080" y="0"/>
            <a:ext cx="9609120" cy="70977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2411280" y="4221000"/>
            <a:ext cx="453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No te rindas, por favor no ce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unque el frío queme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unque el miedo muerda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unque el sol se esconda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y se calle el viento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ún hay fuego en tu alma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ún hay vida en tus sueños.</a:t>
            </a: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Colonia in silence de Maripa Silv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141960" y="549360"/>
            <a:ext cx="30020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erlin Sans FB"/>
              </a:rPr>
              <a:t>Porque la vida es tu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erlin Sans FB"/>
              </a:rPr>
              <a:t>y tuyo también el dese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erlin Sans FB"/>
              </a:rPr>
              <a:t>porque lo has que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erlin Sans FB"/>
              </a:rPr>
              <a:t>y porque te qu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porque existe el vi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y el amor, es cierto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porque no hay heridas que 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cure el tiempo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Colonia del Sacramento de Cecilie Schlueb "/>
          <p:cNvPicPr/>
          <p:nvPr/>
        </p:nvPicPr>
        <p:blipFill>
          <a:blip r:embed="rId1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186360" y="4107600"/>
            <a:ext cx="433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brir las puertas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quitar los cerrojos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bandonar las mural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que te protegieron.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vivir la vida y aceptar el reto,</a:t>
            </a: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Colonia 2 de Walter Niegoth"/>
          <p:cNvPicPr/>
          <p:nvPr/>
        </p:nvPicPr>
        <p:blipFill>
          <a:blip r:embed="rId1"/>
          <a:stretch/>
        </p:blipFill>
        <p:spPr>
          <a:xfrm>
            <a:off x="0" y="0"/>
            <a:ext cx="9144000" cy="6951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181680" y="5013360"/>
            <a:ext cx="314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Desplegar las alas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e intentar de nuevo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celebrar la vida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retomar los cie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8680" y="3357720"/>
            <a:ext cx="3163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Recuperar la risa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ensayar el canto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bajar la guardia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extender las manos,</a:t>
            </a: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Colônia del Sacramento de Otaz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25760" y="4757040"/>
            <a:ext cx="6314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No te rindas, por favor no ce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unque el frío queme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unque el miedo muerda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unque el sol se ponga y se calle el viento,</a:t>
            </a: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Gasse in Colonia (Uruguay) de Nicole Poltsch"/>
          <p:cNvPicPr/>
          <p:nvPr/>
        </p:nvPicPr>
        <p:blipFill>
          <a:blip r:embed="rId1"/>
          <a:stretch/>
        </p:blipFill>
        <p:spPr>
          <a:xfrm>
            <a:off x="0" y="0"/>
            <a:ext cx="9144000" cy="6967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75480" y="4865760"/>
            <a:ext cx="652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ún hay fuego en tu al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ún hay vida en tus sue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porque cada día es un comienzo nuevo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porque ésta es la hora y el mejor momento.</a:t>
            </a: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03:01:03Z</dcterms:created>
  <dc:creator>.Alicia Castellote</dc:creator>
  <dc:description/>
  <dc:language>en-US</dc:language>
  <cp:lastModifiedBy>Grupo Televisa</cp:lastModifiedBy>
  <dcterms:modified xsi:type="dcterms:W3CDTF">2009-05-21T23:41:52Z</dcterms:modified>
  <cp:revision>14</cp:revision>
  <dc:subject/>
  <dc:title>Diapositiva 1</dc:title>
</cp:coreProperties>
</file>