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Roger%20Williams%20-%20Till.wav" ContentType="audio/x-wav"/>
  <Override PartName="/ppt/media/image18.jpeg" ContentType="image/jpeg"/>
  <Override PartName="/ppt/media/image4.jpeg" ContentType="image/jpeg"/>
  <Override PartName="/ppt/media/image3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C37-8F04-4FA0-9C36-DF44B9B8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3D6-628A-4FCC-AD80-83E2C344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6B3E-EBCF-47D1-B3FB-D870661D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7E28-3D08-452C-89D2-9C72E4DD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545-5ABA-4DA3-9D28-59164FD3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0AE-302A-40CD-9559-417953B6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685A-1C77-4486-B831-F8EA7E15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7F6-7B4E-4064-A5FD-CFAA9E74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97FD-750A-4824-8BB4-7CE99218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BF2-08D6-4FF8-A812-B266907B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C929-489D-4DA2-81CA-9E1DE838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AF49-8CCE-48B1-942E-0F7F8DB8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6E07-0511-459A-B1A7-2848FBB0D33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Roger%20Williams%20-%20Ti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mini11"/>
          <p:cNvPicPr/>
          <p:nvPr/>
        </p:nvPicPr>
        <p:blipFill>
          <a:blip r:embed="rId1"/>
          <a:stretch/>
        </p:blipFill>
        <p:spPr>
          <a:xfrm>
            <a:off x="2209680" y="228600"/>
            <a:ext cx="1676520" cy="3200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2" name="Picture 5" descr="mini9"/>
          <p:cNvPicPr/>
          <p:nvPr/>
        </p:nvPicPr>
        <p:blipFill>
          <a:blip r:embed="rId2"/>
          <a:stretch/>
        </p:blipFill>
        <p:spPr>
          <a:xfrm>
            <a:off x="5257800" y="228600"/>
            <a:ext cx="1676520" cy="31240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3" name="Picture 8" descr="mini1"/>
          <p:cNvPicPr/>
          <p:nvPr/>
        </p:nvPicPr>
        <p:blipFill>
          <a:blip r:embed="rId3"/>
          <a:stretch/>
        </p:blipFill>
        <p:spPr>
          <a:xfrm>
            <a:off x="304920" y="3581280"/>
            <a:ext cx="1676160" cy="30481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4" name="Picture 9" descr="mini10"/>
          <p:cNvPicPr/>
          <p:nvPr/>
        </p:nvPicPr>
        <p:blipFill>
          <a:blip r:embed="rId4"/>
          <a:stretch/>
        </p:blipFill>
        <p:spPr>
          <a:xfrm>
            <a:off x="7162920" y="3429000"/>
            <a:ext cx="1676160" cy="3200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45" name="Text Box 10"/>
          <p:cNvSpPr/>
          <p:nvPr/>
        </p:nvSpPr>
        <p:spPr>
          <a:xfrm>
            <a:off x="2143080" y="457200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663300"/>
                </a:solidFill>
                <a:latin typeface="Times New Roman"/>
              </a:rPr>
              <a:t>Acuarelas de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981080" y="510552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663300"/>
                </a:solidFill>
                <a:latin typeface="Times New Roman"/>
              </a:rPr>
              <a:t>Marcel Reynae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2857680" y="6000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663300"/>
                </a:solidFill>
                <a:latin typeface="Times New Roman"/>
              </a:rPr>
              <a:t>Musica: Roger Willia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10 CuadroTexto"/>
          <p:cNvSpPr/>
          <p:nvPr/>
        </p:nvSpPr>
        <p:spPr>
          <a:xfrm>
            <a:off x="2102400" y="3905280"/>
            <a:ext cx="48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PROVERBIOS CON HUM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052" descr="aqua17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143000" y="1143000"/>
            <a:ext cx="678672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054"/>
          <p:cNvSpPr/>
          <p:nvPr/>
        </p:nvSpPr>
        <p:spPr>
          <a:xfrm>
            <a:off x="0" y="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Times New Roman"/>
              </a:rPr>
              <a:t>Los jóvenes piensan que los viejos son tontos; los viejos saben que los jóvenes lo so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4 Rectángulo"/>
          <p:cNvSpPr/>
          <p:nvPr/>
        </p:nvSpPr>
        <p:spPr>
          <a:xfrm>
            <a:off x="500040" y="571500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-Mi mujer es un ángel...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-¡Que suerte tienes, la mía todavía vive"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aqua13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71720" y="1071720"/>
            <a:ext cx="6715080" cy="4857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500040" y="54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a madurez del hombre es haber vuelto a encontrar la seriedad con la que jugaba cuando era niñ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4 Rectángulo"/>
          <p:cNvSpPr/>
          <p:nvPr/>
        </p:nvSpPr>
        <p:spPr>
          <a:xfrm>
            <a:off x="1214280" y="6048360"/>
            <a:ext cx="65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Mi tía toca el violín y mi tío, la viola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aqua12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357200" y="785880"/>
            <a:ext cx="6715080" cy="48578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85716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Nada va más deprisa que los añ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4 Rectángulo"/>
          <p:cNvSpPr/>
          <p:nvPr/>
        </p:nvSpPr>
        <p:spPr>
          <a:xfrm>
            <a:off x="642960" y="578628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No importa el tamaño de la pieza...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sino el tiempo  que esté tiesa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aqua6Copy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83" name="Text Box 10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Cuando era joven decía: “ ya verás cuando tenga cincuenta años” Tengo cincuenta años y no he visto nad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4 Rectángulo"/>
          <p:cNvSpPr/>
          <p:nvPr/>
        </p:nvSpPr>
        <p:spPr>
          <a:xfrm>
            <a:off x="428760" y="585792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Ser viejo no es un problema ni un estorbo, pues  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viejos son los caminos y  todavía echan polvo"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aqua9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14280" y="928800"/>
            <a:ext cx="6715440" cy="4429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1280" y="3240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En los ojos del joven arde la llama, en los ojos del viejo  brilla la luz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 Rectángulo"/>
          <p:cNvSpPr/>
          <p:nvPr/>
        </p:nvSpPr>
        <p:spPr>
          <a:xfrm>
            <a:off x="142920" y="539892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Cuando una dama dice: ¡no!, quiere decir quizás; 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cuando dice ¡quizás!, quiere  decir sí; y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si dice sí, ¡no es una dama!"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aqua5Copy"/>
          <p:cNvPicPr/>
          <p:nvPr/>
        </p:nvPicPr>
        <p:blipFill>
          <a:blip r:embed="rId1"/>
          <a:stretch/>
        </p:blipFill>
        <p:spPr>
          <a:xfrm>
            <a:off x="785880" y="1000080"/>
            <a:ext cx="7572240" cy="4714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071720" y="0"/>
            <a:ext cx="695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a iniciativa de la juventud vale tanto como la experiencia de los viej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4 Rectángulo"/>
          <p:cNvSpPr/>
          <p:nvPr/>
        </p:nvSpPr>
        <p:spPr>
          <a:xfrm>
            <a:off x="642960" y="571500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*"Sea consciente ¡use condón!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     Más vale prevenir que  alimentar"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59"/>
          <p:cNvPicPr/>
          <p:nvPr/>
        </p:nvPicPr>
        <p:blipFill>
          <a:blip r:embed="rId1"/>
          <a:stretch/>
        </p:blipFill>
        <p:spPr>
          <a:xfrm>
            <a:off x="1143000" y="785880"/>
            <a:ext cx="6715080" cy="4857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92" name="Text Box 7"/>
          <p:cNvSpPr/>
          <p:nvPr/>
        </p:nvSpPr>
        <p:spPr>
          <a:xfrm>
            <a:off x="1214280" y="123840"/>
            <a:ext cx="67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Siempre hay un niño en todos los hombr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4 Rectángulo"/>
          <p:cNvSpPr/>
          <p:nvPr/>
        </p:nvSpPr>
        <p:spPr>
          <a:xfrm>
            <a:off x="928800" y="568944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*"Hay tres tipos de Mujeres:  1)las lindas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    2)las  inteligentes y  3)la mayoría."  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55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857160" y="6072120"/>
            <a:ext cx="74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A cada edad le cae bien una conducta diferent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Rectángulo"/>
          <p:cNvSpPr/>
          <p:nvPr/>
        </p:nvSpPr>
        <p:spPr>
          <a:xfrm>
            <a:off x="1643040" y="0"/>
            <a:ext cx="578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El sexo sin boda es tan bueno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como el whisky sin  soda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57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285840" y="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Feliz el que fue joven en su juventud y                                    feliz el que fue sabio en su vejez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500120" y="5840280"/>
            <a:ext cx="61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os jóvenes van en grupo, los adultos en parejas, y los viejos van sol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hampagne"/>
          <p:cNvPicPr/>
          <p:nvPr/>
        </p:nvPicPr>
        <p:blipFill>
          <a:blip r:embed="rId1"/>
          <a:stretch/>
        </p:blipFill>
        <p:spPr>
          <a:xfrm>
            <a:off x="857160" y="857160"/>
            <a:ext cx="7500960" cy="5000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304920" y="5867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ESTO DE LOS AÑOS YO NO LO ENTIENDO, QUE AUNQUE ES BUENO CUMPLIRLOS, NO LO ES TENERL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36"/>
          <p:cNvSpPr/>
          <p:nvPr/>
        </p:nvSpPr>
        <p:spPr>
          <a:xfrm>
            <a:off x="1143000" y="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Todos deseamos llegar a viejos y todos negamos que hemos llegad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aqua3Copy"/>
          <p:cNvPicPr/>
          <p:nvPr/>
        </p:nvPicPr>
        <p:blipFill>
          <a:blip r:embed="rId1"/>
          <a:stretch/>
        </p:blipFill>
        <p:spPr>
          <a:xfrm>
            <a:off x="1214280" y="928800"/>
            <a:ext cx="6715440" cy="485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95280" y="195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Envejecer es el único medio de vivir mucho tiemp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4 Rectángulo"/>
          <p:cNvSpPr/>
          <p:nvPr/>
        </p:nvSpPr>
        <p:spPr>
          <a:xfrm>
            <a:off x="1071720" y="5832360"/>
            <a:ext cx="700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Si Marìa concibió sin pecar ¿Por qué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yo no puedo  pecar sin concebir?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5" descr="45"/>
          <p:cNvPicPr/>
          <p:nvPr/>
        </p:nvPicPr>
        <p:blipFill>
          <a:blip r:embed="rId1"/>
          <a:stretch/>
        </p:blipFill>
        <p:spPr>
          <a:xfrm>
            <a:off x="1143000" y="571680"/>
            <a:ext cx="6715080" cy="42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4 Rectángulo"/>
          <p:cNvSpPr/>
          <p:nvPr/>
        </p:nvSpPr>
        <p:spPr>
          <a:xfrm>
            <a:off x="285840" y="507204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Curioso pensamiento:"Todo aquel  que profane mi tumba tendra años de sufrimientos y sus seguidores moriran en lotes“.                       Simon Bolivar.......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3 Imagen" descr="1cib2.gif"/>
          <p:cNvPicPr/>
          <p:nvPr/>
        </p:nvPicPr>
        <p:blipFill>
          <a:blip r:embed="rId2"/>
          <a:stretch/>
        </p:blipFill>
        <p:spPr>
          <a:xfrm>
            <a:off x="8215200" y="600084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aqua7Copy"/>
          <p:cNvPicPr/>
          <p:nvPr/>
        </p:nvPicPr>
        <p:blipFill>
          <a:blip r:embed="rId1"/>
          <a:stretch/>
        </p:blipFill>
        <p:spPr>
          <a:xfrm>
            <a:off x="1214280" y="1071720"/>
            <a:ext cx="6715440" cy="4857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71280" y="11736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a edad madura es aquella en la cual se es todavía joven, pero con mucho más esfuerz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4 Rectángulo"/>
          <p:cNvSpPr/>
          <p:nvPr/>
        </p:nvSpPr>
        <p:spPr>
          <a:xfrm>
            <a:off x="714240" y="590400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Después de hacer el amor, da las gracias...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 ... Por  educación sexual"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32"/>
          <p:cNvPicPr/>
          <p:nvPr/>
        </p:nvPicPr>
        <p:blipFill>
          <a:blip r:embed="rId1"/>
          <a:stretch/>
        </p:blipFill>
        <p:spPr>
          <a:xfrm>
            <a:off x="1214280" y="1357200"/>
            <a:ext cx="6715440" cy="4500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De mis disparates de juventud, lo que me da más pena,       no es el haberlos cometido, sino el no poder volver                 a cometerl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4 Rectángulo"/>
          <p:cNvSpPr/>
          <p:nvPr/>
        </p:nvSpPr>
        <p:spPr>
          <a:xfrm>
            <a:off x="428760" y="5761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El abogado y las prostitutas son igualitos: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  si  no le pagas por  adelantado: ¡no se mueven!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qua4 copyCopy"/>
          <p:cNvPicPr/>
          <p:nvPr/>
        </p:nvPicPr>
        <p:blipFill>
          <a:blip r:embed="rId1"/>
          <a:stretch/>
        </p:blipFill>
        <p:spPr>
          <a:xfrm>
            <a:off x="1214280" y="928800"/>
            <a:ext cx="6715440" cy="4857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59" name="Text Box 7"/>
          <p:cNvSpPr/>
          <p:nvPr/>
        </p:nvSpPr>
        <p:spPr>
          <a:xfrm>
            <a:off x="495360" y="1951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Envejecer es pasar de la pasión a la compasió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4 Rectángulo"/>
          <p:cNvSpPr/>
          <p:nvPr/>
        </p:nvSpPr>
        <p:spPr>
          <a:xfrm>
            <a:off x="1143000" y="597708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La leche en polvo... ¿No es redundancia?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39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929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Muchas personas no cumplen los ochenta porque intentan durante demasiado tiempo quedarse en los cuarent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4 Rectángulo"/>
          <p:cNvSpPr/>
          <p:nvPr/>
        </p:nvSpPr>
        <p:spPr>
          <a:xfrm>
            <a:off x="285840" y="583236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El amor es como la enfermedad: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siempre termina en  la cama"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4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14280" y="1428840"/>
            <a:ext cx="6715440" cy="4500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250920" y="71280"/>
            <a:ext cx="867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El que no es bello a los veinte, ni fuerte a los treinta, ni rico a los cuarenta, ni sabio a los cincuenta, nunca será ni bello, ni fuerte, ni rico, ni sabi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4 Rectángulo"/>
          <p:cNvSpPr/>
          <p:nvPr/>
        </p:nvSpPr>
        <p:spPr>
          <a:xfrm>
            <a:off x="642960" y="611964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La rama femenina va siempre detrás del tronco"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39 bis"/>
          <p:cNvPicPr/>
          <p:nvPr/>
        </p:nvPicPr>
        <p:blipFill>
          <a:blip r:embed="rId1"/>
          <a:stretch/>
        </p:blipFill>
        <p:spPr>
          <a:xfrm>
            <a:off x="1357200" y="1071720"/>
            <a:ext cx="6715080" cy="4857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307800" y="4608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A los veinte años reina la  voluntad, a los treinta el espíritu, a los cuarenta el juici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4 Rectángulo"/>
          <p:cNvSpPr/>
          <p:nvPr/>
        </p:nvSpPr>
        <p:spPr>
          <a:xfrm>
            <a:off x="928800" y="583236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Substancia nueva contra el SIDA: 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Nitrato Demeterlo.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44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Es verdad que cuando se pasa de los sesenta son muy pocas las cosas que nos parecen disparat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4 Rectángulo"/>
          <p:cNvSpPr/>
          <p:nvPr/>
        </p:nvSpPr>
        <p:spPr>
          <a:xfrm>
            <a:off x="1357200" y="604836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Vagina llena... ¡ con razón contenta !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21:25:02Z</dcterms:created>
  <dc:creator/>
  <dc:description/>
  <dc:language>en-US</dc:language>
  <cp:lastModifiedBy/>
  <dcterms:modified xsi:type="dcterms:W3CDTF">2012-02-09T03:10:07Z</dcterms:modified>
  <cp:revision>32</cp:revision>
  <dc:subject/>
  <dc:title>ACQUARELAS</dc:title>
</cp:coreProperties>
</file>