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Taps.wav" ContentType="audio/x-wav"/>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0.gif" ContentType="image/gi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A02DF-A3DD-4B39-8E1E-243ED21E4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52D35-375C-4480-97F4-34EF1EFCC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7487F9-1236-4F96-BAE7-2E40FF8244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CFD33F-011C-427D-8B85-F1ACE95DE1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DF86E6-4C6E-4085-936B-1E02C7CA09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C7257B-7A7C-4287-98E7-A6B67E4EF7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8094C3-B432-4AEC-BA1E-9C22CB4BB8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D532BC-1599-49C8-A9C4-20F1139D08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778B22-DD75-4FB2-BF63-A18F41B5C0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101CFC-B28E-4817-934B-3945758B53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FEC425-99BB-47A7-B7F1-F488A10CF5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8D6006-0E5C-496A-8207-3D92B97428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FB3EE-40CA-4631-A3C6-5E3467C57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7F2D18-307E-46BE-A67A-9099322F03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96C0E1-2D0F-427F-B9E1-62F0BA4F19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A9F797-F08B-407F-98AF-D75734BFD7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FF8F3D-1852-4793-8E85-C9DE5626D8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E91AA7-3EA5-4AD9-949F-94AEE8AAB5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1F8D9A-45EC-48DA-B6B2-B6D57AF0F8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9ADF58-6EAE-4995-BAEE-086AD88EB9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B06AC3-EA71-4354-8B84-0A7488C2E3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9048C1-3EAF-40D9-81F8-2364E89A2F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870BC7-F2BD-4F36-913E-BB1B296F29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7867E-95CD-4C48-9780-F8211C79E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A6178C-6D1F-44BD-B8EE-B6E96ED313D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58A306-25B6-4468-A099-A5CB68A6DD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88D813-F6BC-402C-A8EC-0958FDAEBD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F47CB4-25FA-43D9-8399-E1EE72073B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E584BC-3931-49C0-8649-7FFFF3E427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78CBB5-AC1E-4634-8117-3C71E2F0DE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6A9C36-A26E-4C5B-B457-6B458578A7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5F7657-02FA-4AD9-8897-86B63103E5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7AB424-896F-44CD-954C-06FCE3991A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147EB0-BD7D-45C2-B416-B727083A63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F9D71A-FAE7-45DE-9B94-D7C8D33616D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023D79-EF3F-441A-91CA-7199B96F7A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304D92-3E34-4A36-A586-A14B3AC362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234E479-238B-4E0F-B860-AE5D058610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4B1B23C-DF3A-4BB7-BCE2-A0FFC4A6BF2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AFB234-1018-44C8-91DB-8EB1064A99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D9586E-6D66-4BA2-ABE3-5FEFFB719B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74E317-DCA5-413A-89BE-8A82546E0C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8D0F5A-8A7B-48CC-8F7B-4AC7FC3BC8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B22231-96BA-4498-BEDD-20D4299AA5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DE631D-FB85-4A38-8BA3-DFE8E8C642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AD216F-33E7-4014-8103-C803901ED4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926AC4-1DAD-470A-87F0-C63F8AF093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25A5F3-7CD5-4825-81F7-15FA65EFB6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ABDC96-FC06-4239-9915-D9B3E66ECF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5BE16B-9C77-4592-A4A3-AAE31B4F0E0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A7787CF-B5D1-4440-8363-60F7BF0398A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C0098-C6B9-45BC-B5F2-6D08B15E09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5CAF7B-A17D-4C6D-AA2E-53A45DFA3A7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C02BE5-8F75-45B8-BB5B-30C43A2AC9C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ADB07-6DB2-4FE3-A967-16B1CF4D2A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3F465-686E-418F-B70D-E16C82B71D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60B44-3218-4CD0-935C-1512F97A8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DD23B-0B0C-4E87-B08E-8617FBD707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AB3481-AB36-4068-956E-D89BB12E03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0C040E-7A0E-46E4-9F43-6D094E23019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DEF075-2587-47D1-B635-C91DBD11447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FEF669-CDE2-467F-8DD9-BA669628558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85ED1C-7BBF-4C69-817B-7431AF46AA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91B8EF-DF74-4146-9BC5-8168C06EB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BAA8C1-AD20-4A8D-88AD-D4261404F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D006FA-F9D0-4961-8918-88F2B66362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084E7F-CD4F-410F-A0BF-55625389C8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F5390-480D-4EF7-A335-BD94FED4F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F8F08-1477-4AFB-B8C3-CF54828439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E5DA0-5EB8-4FB4-A34E-7AB344E50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EE2FB-233E-4239-9081-2FC6E5DF7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5C753-5717-4DC2-B622-A74DA2301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355452-0629-4715-83FA-3C3C19087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583D4E-1AA9-4B9A-B1B6-C95DE571AC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1568DE-C15B-472C-8550-2A79C23AAB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089F25-5F6B-4744-9598-DA93EC5886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2A131-8E7D-458D-A624-06E453B898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1D687-AE84-4262-9DF0-10F568384B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B6EBA-97C4-4703-A332-8E948B2A7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1A1D2B-4B10-4539-AF49-B597D84911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5A2170-BBFA-4E67-9B50-7C89365747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E8024C-5861-4DC8-B022-A884E6D113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1CBE6-9F78-4920-8A30-BB31538EA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E109D-A628-42E4-B2DC-1581979DF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BFC03-6AE0-4D75-815A-6BB8924EE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3FEEE-815C-4856-95B9-E3FA52A25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08D47E-C40F-4B7C-92B8-B089CCB231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DC1E70-FCC1-464E-AD7B-DB6D6FA4EF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7E3CCC-D5CC-4DA6-B23E-CB62291FA0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E632E-A415-4E8E-A055-E3AB0ED95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4F89B3-5FAF-4A98-A761-901B3B9B1E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C0544D-FF6F-43CC-9457-35596FCD82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DD173E-1F36-44C9-976A-0B841ECF0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E1C198-8754-4166-BCFC-1D343D0765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97C515-0D19-4463-AD1B-7EF2150A74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90445-AB4F-4334-926E-F9613E278D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D93B8A-4E35-4374-80E5-38AA9F4826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5361CC-5879-4257-BDA5-81218473D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F6FA5F-5BC7-4105-BD4F-AF4B889F6D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9769ED-F930-431E-A402-A97E82BB0F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CB1FE-C150-471A-93FA-293463E9A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123BBC-460B-4781-AF69-5F01974675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59C2EA-91C1-4B77-83E6-FCD8312DDE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2BF323-7850-465F-B5CA-B464A92735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EAEB2-9CB0-4C4B-B8C5-D0232F4DDC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B2DE1A-5862-4346-B112-6B393D6CE7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7FC43C-8AA7-4F21-B906-F20D5DF1D1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2764D5-B811-488A-ACE4-DD00E67317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32E8A-8DBE-4645-BC0B-5E69E9D6AE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864CF7-873A-435C-BFC1-817EFD3462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CCF69E-2434-47C0-A193-6107A6FAAC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DB71D-9681-47DB-9430-A7CE12EE1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6AF0EC-2DA4-4FA8-BA24-28171697B0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4723C1-003A-4BA6-98D5-E94CB17EF9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A74FE3-8C74-4434-AB07-F4FD5AF376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0AA7B2-4292-4C39-8AEC-B8295FDB1F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FC12F7-B407-4E8C-8820-7D0C500A68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DD6E2D-D4AE-4DD6-9ABA-B98578267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897453-964F-461F-8452-C6438E6F73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051926-976D-4EEB-85AA-2CF8F6AF5E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72F30F-CD64-46AC-B0DA-22A59BDF7D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AEC73B-30A1-4A70-BA88-6B258AE06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DAD43-BB25-4760-A0D0-5D86AF8C3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F8829F-DB63-4CD9-9E69-7680021A76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F08BE-3C7D-43D2-8C42-CB271A07B9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FF9C40-D075-4F7B-8EB5-B8DF65FDF7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0DB02F-72C9-4E55-895F-1C5F934745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C20490-2544-47B4-BB4B-ACF7E158C0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0738A8-58EE-4F38-9E08-737F461E27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AD6CB7-74E4-41A9-8DC5-05816B0694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A50C2B-BA25-4EBE-BC6B-6EA0EB5130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0F250A-BCFF-4475-90BF-72C63EE0DC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D840AB-C10F-44BE-830E-4D4DAD5A1F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03F86-B080-421E-ACFB-B84A20E90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F816C9-7963-45CB-A9C1-D67A551B7C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B19B89-0DDF-435F-A650-3F272E35EE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2839E3-852A-4954-9D0F-4ADC0ACBAE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C7B764-73A0-4EAA-8EB2-5DA582AC55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11B0ED-4C7A-4568-9173-0EF79D3F48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1FCE66-CF27-43AA-A1DD-D07633AEEB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29E8F9-BCB7-4317-A905-1B4D4250C4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513D0B-47DB-472F-975A-01FE632053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40E43C-81A4-4B3E-9530-0A163A8AF6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6919AB-03A7-429C-B9FC-C55B697B66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CC93-57D7-4DA1-96AB-4CE6F9A5DD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7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4"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A269-C998-442C-8B59-47C575C8A2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1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EE2A-BDCE-4476-B950-FD3053544B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5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E818-5437-40FC-83D6-DAC0CB7E85D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FF3D-7DE4-45AE-BC06-C5CE0FECC9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41E4-D99A-482B-B3F7-F547AC4E56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1902-A583-461F-BD62-C898CF3AD49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6"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86FA-77F9-4080-A4F7-0202483A32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BBA8-CE50-45E4-A5AB-91C9463F20B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BC48-B997-45A8-B1AA-B4DFA087A74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8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2E1D-087D-4157-BE49-04B605ABAF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EDAF-8FDB-4AF1-91B6-E372FA0638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Taps.wav"/><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4"/>
          <p:cNvSpPr/>
          <p:nvPr/>
        </p:nvSpPr>
        <p:spPr>
          <a:xfrm>
            <a:off x="900000" y="1844640"/>
            <a:ext cx="727236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Arial"/>
              </a:rPr>
              <a:t>FUNERAL MILITAR</a:t>
            </a:r>
            <a:endParaRPr b="0" lang="en-US" sz="5400" spc="-1" strike="noStrike">
              <a:solidFill>
                <a:srgbClr val="ffffff"/>
              </a:solidFill>
              <a:latin typeface="Tahoma"/>
            </a:endParaRPr>
          </a:p>
        </p:txBody>
      </p:sp>
      <p:sp>
        <p:nvSpPr>
          <p:cNvPr id="494" name="Text Box 12"/>
          <p:cNvSpPr/>
          <p:nvPr/>
        </p:nvSpPr>
        <p:spPr>
          <a:xfrm>
            <a:off x="3059280" y="6381720"/>
            <a:ext cx="29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Rounded MT Bold"/>
                <a:ea typeface="新細明體"/>
              </a:rPr>
              <a:t>Avanzar manualmente</a:t>
            </a:r>
            <a:endParaRPr b="0" lang="en-US" sz="1800" spc="-1" strike="noStrike">
              <a:solidFill>
                <a:srgbClr val="ffffff"/>
              </a:solidFill>
              <a:latin typeface="Tahoma"/>
            </a:endParaRPr>
          </a:p>
        </p:txBody>
      </p:sp>
      <p:pic>
        <p:nvPicPr>
          <p:cNvPr id="495" name="Picture 5" descr="Clic-Mano"/>
          <p:cNvPicPr/>
          <p:nvPr/>
        </p:nvPicPr>
        <p:blipFill>
          <a:blip r:embed="rId1"/>
          <a:stretch/>
        </p:blipFill>
        <p:spPr>
          <a:xfrm>
            <a:off x="7812000" y="5997600"/>
            <a:ext cx="1332000" cy="860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7" repeatCount="indefinite">
                                  <p:stCondLst>
                                    <p:cond delay="0"/>
                                  </p:stCondLst>
                                  <p:childTnLst>
                                    <p:animClr clrSpc="rgb">
                                      <p:cBhvr>
                                        <p:cTn id="6" dur="500" autoRev="1" fill="hold"/>
                                        <p:tgtEl>
                                          <p:spTgt spid="494">
                                            <p:txEl>
                                              <p:pRg st="0" end="0"/>
                                            </p:txEl>
                                          </p:spTgt>
                                        </p:tgtEl>
                                        <p:attrNameLst>
                                          <p:attrName>style.color</p:attrName>
                                        </p:attrNameLst>
                                      </p:cBhvr>
                                      <p:to>
                                        <a:srgbClr val="ff0000"/>
                                      </p:to>
                                    </p:animClr>
                                    <p:animClr clrSpc="rgb">
                                      <p:cBhvr>
                                        <p:cTn id="7" dur="500" autoRev="1" fill="hold"/>
                                        <p:tgtEl>
                                          <p:spTgt spid="494">
                                            <p:txEl>
                                              <p:pRg st="0" end="0"/>
                                            </p:txEl>
                                          </p:spTgt>
                                        </p:tgtEl>
                                        <p:attrNameLst>
                                          <p:attrName>fillcolor</p:attrName>
                                        </p:attrNameLst>
                                      </p:cBhvr>
                                      <p:to>
                                        <a:srgbClr val="ff0000"/>
                                      </p:to>
                                    </p:animClr>
                                    <p:set>
                                      <p:cBhvr>
                                        <p:cTn id="8" dur="500" autoRev="1" fill="hold"/>
                                        <p:tgtEl>
                                          <p:spTgt spid="49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4"/>
          <p:cNvSpPr/>
          <p:nvPr/>
        </p:nvSpPr>
        <p:spPr>
          <a:xfrm>
            <a:off x="1258920" y="1125360"/>
            <a:ext cx="6553080" cy="5655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800" spc="-1" strike="noStrike">
                <a:solidFill>
                  <a:srgbClr val="ffffff"/>
                </a:solidFill>
                <a:latin typeface="Tahoma"/>
              </a:rPr>
              <a:t>El día ha terminado.  Se fue el sol, </a:t>
            </a:r>
            <a:br>
              <a:rPr sz="2800"/>
            </a:br>
            <a:endParaRPr b="0" lang="en-US" sz="2800" spc="-1" strike="noStrike">
              <a:solidFill>
                <a:srgbClr val="ffffff"/>
              </a:solidFill>
              <a:latin typeface="Tahom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de los lagos, de las colinas,   </a:t>
            </a:r>
            <a:br>
              <a:rPr sz="2800"/>
            </a:br>
            <a:endParaRPr b="0" lang="en-US" sz="2800" spc="-1" strike="noStrike">
              <a:solidFill>
                <a:srgbClr val="ffffff"/>
              </a:solidFill>
              <a:latin typeface="Tahom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de los cielos. Todo está bien.   </a:t>
            </a:r>
            <a:br>
              <a:rPr sz="2800"/>
            </a:br>
            <a:endParaRPr b="0" lang="en-US" sz="28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Descansa protegido.  Dios está cerca.  </a:t>
            </a:r>
            <a:br>
              <a:rPr sz="2400"/>
            </a:br>
            <a:br>
              <a:rPr sz="2400"/>
            </a:br>
            <a:endParaRPr b="0" lang="en-US" sz="2800" spc="-1" strike="noStrike">
              <a:solidFill>
                <a:srgbClr val="ffffff"/>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  </a:t>
            </a:r>
            <a:endParaRPr b="0" lang="en-US" sz="1800" spc="-1" strike="noStrike">
              <a:solidFill>
                <a:srgbClr val="ffffff"/>
              </a:solidFill>
              <a:latin typeface="Tahom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4"/>
          <p:cNvSpPr/>
          <p:nvPr/>
        </p:nvSpPr>
        <p:spPr>
          <a:xfrm>
            <a:off x="1476360" y="1322280"/>
            <a:ext cx="6480360" cy="4522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La luz tenue, oscurece la vista </a:t>
            </a:r>
            <a:br>
              <a:rPr sz="3200"/>
            </a:b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y la estrella, embellece el cielo </a:t>
            </a:r>
            <a:br>
              <a:rPr sz="3200"/>
            </a:b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brillando luminosa, desde lejos.</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cercándose, cae la noche.</a:t>
            </a:r>
            <a:endParaRPr b="0" lang="en-US" sz="3200" spc="-1" strike="noStrike">
              <a:solidFill>
                <a:srgbClr val="ffffff"/>
              </a:solidFill>
              <a:latin typeface="Tahom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4"/>
          <p:cNvSpPr/>
          <p:nvPr/>
        </p:nvSpPr>
        <p:spPr>
          <a:xfrm>
            <a:off x="1116000" y="907920"/>
            <a:ext cx="7099200" cy="5264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gradecimientos y alabanzas</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ara nuestros días</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bajo del sol, debajo de las estrellas,</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bajo del cielo. </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Así vamos.</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Esto sabemos. Dios está cerca </a:t>
            </a:r>
            <a:br>
              <a:rPr sz="3200"/>
            </a:br>
            <a:endParaRPr b="0" lang="en-US" sz="3200" spc="-1" strike="noStrike">
              <a:solidFill>
                <a:srgbClr val="ffffff"/>
              </a:solidFill>
              <a:latin typeface="Tahoma"/>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1 Imagen" descr=""/>
          <p:cNvPicPr/>
          <p:nvPr/>
        </p:nvPicPr>
        <p:blipFill>
          <a:blip r:embed="rId1"/>
          <a:stretch/>
        </p:blipFill>
        <p:spPr>
          <a:xfrm>
            <a:off x="2952720" y="957240"/>
            <a:ext cx="3238560" cy="4943520"/>
          </a:xfrm>
          <a:prstGeom prst="rect">
            <a:avLst/>
          </a:prstGeom>
          <a:ln w="0">
            <a:noFill/>
          </a:ln>
        </p:spPr>
      </p:pic>
    </p:spTree>
  </p:cSld>
  <p:transition advTm="7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4"/>
          <p:cNvSpPr/>
          <p:nvPr/>
        </p:nvSpPr>
        <p:spPr>
          <a:xfrm>
            <a:off x="826920" y="907920"/>
            <a:ext cx="72741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Yo tambien sentí escalofríos mientras escuchaba el “silencio” (taps), pero nunca supe todas las palabras de la melodía hasta ahora. Tampoco sabía que existía más de un verso. Ni siquiera sabía la historia de la canción.</a:t>
            </a:r>
            <a:endParaRPr b="0" lang="en-US" sz="2400" spc="-1" strike="noStrike">
              <a:solidFill>
                <a:srgbClr val="ffffff"/>
              </a:solidFill>
              <a:latin typeface="Tahoma"/>
            </a:endParaRPr>
          </a:p>
        </p:txBody>
      </p:sp>
      <p:pic>
        <p:nvPicPr>
          <p:cNvPr id="514" name="1 Imagen" descr=""/>
          <p:cNvPicPr/>
          <p:nvPr/>
        </p:nvPicPr>
        <p:blipFill>
          <a:blip r:embed="rId1"/>
          <a:stretch/>
        </p:blipFill>
        <p:spPr>
          <a:xfrm>
            <a:off x="2268360" y="2833560"/>
            <a:ext cx="4081680" cy="30607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4"/>
          <p:cNvSpPr/>
          <p:nvPr/>
        </p:nvSpPr>
        <p:spPr>
          <a:xfrm>
            <a:off x="1116000" y="755640"/>
            <a:ext cx="68407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ffff"/>
                </a:solidFill>
                <a:latin typeface="Tahoma"/>
              </a:rPr>
              <a:t>Recuerda con cariño a los que no volvieron de las guerras fratricidas, eleva una oración para los soldados de todo el mundo que entregan sus vidas inútilmente.</a:t>
            </a:r>
            <a:endParaRPr b="0" lang="en-US" sz="2800" spc="-1" strike="noStrike">
              <a:solidFill>
                <a:srgbClr val="ffffff"/>
              </a:solidFill>
              <a:latin typeface="Tahoma"/>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16" name="Picture 4" descr="stop_G"/>
          <p:cNvPicPr/>
          <p:nvPr/>
        </p:nvPicPr>
        <p:blipFill>
          <a:blip r:embed="rId1"/>
          <a:stretch/>
        </p:blipFill>
        <p:spPr>
          <a:xfrm>
            <a:off x="3857760" y="2714760"/>
            <a:ext cx="1428480" cy="1428480"/>
          </a:xfrm>
          <a:prstGeom prst="rect">
            <a:avLst/>
          </a:prstGeom>
          <a:ln w="0">
            <a:noFill/>
          </a:ln>
        </p:spPr>
      </p:pic>
      <p:sp>
        <p:nvSpPr>
          <p:cNvPr id="517" name="2 CuadroTexto"/>
          <p:cNvSpPr/>
          <p:nvPr/>
        </p:nvSpPr>
        <p:spPr>
          <a:xfrm>
            <a:off x="8715240" y="6087960"/>
            <a:ext cx="428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ff"/>
                </a:solidFill>
                <a:latin typeface="Comic Sans MS"/>
                <a:ea typeface="ヒラギノ角ゴ ProN W3"/>
              </a:rPr>
              <a:t>.</a:t>
            </a:r>
            <a:endParaRPr b="0" lang="en-US" sz="4400" spc="-1" strike="noStrike">
              <a:solidFill>
                <a:srgbClr val="ffffff"/>
              </a:solidFill>
              <a:latin typeface="Tahoma"/>
            </a:endParaRPr>
          </a:p>
        </p:txBody>
      </p:sp>
    </p:spTree>
  </p:cSld>
  <p:transition advTm="7000">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4"/>
          <p:cNvSpPr/>
          <p:nvPr/>
        </p:nvSpPr>
        <p:spPr>
          <a:xfrm>
            <a:off x="971640" y="3295800"/>
            <a:ext cx="7343640" cy="28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i alguien ha estado en un entierro militar donde se tocó este silencio, ahora conocerá su significado.</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ste toque de queda TAPS nos hace un nudo en la garganta y usualmente nos trae lágrimas en los ojo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97" name="1 Imagen" descr=""/>
          <p:cNvPicPr/>
          <p:nvPr/>
        </p:nvPicPr>
        <p:blipFill>
          <a:blip r:embed="rId1"/>
          <a:stretch/>
        </p:blipFill>
        <p:spPr>
          <a:xfrm>
            <a:off x="1692360" y="476280"/>
            <a:ext cx="5486400" cy="281952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4"/>
          <p:cNvSpPr/>
          <p:nvPr/>
        </p:nvSpPr>
        <p:spPr>
          <a:xfrm>
            <a:off x="611280" y="404640"/>
            <a:ext cx="7921440" cy="521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400" spc="-1" strike="noStrike">
                <a:solidFill>
                  <a:srgbClr val="ffffff"/>
                </a:solidFill>
                <a:latin typeface="Arial"/>
              </a:rPr>
              <a:t>Pero ustedes saben </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a verdadera historia de esta canción?</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n caso que no la sepan, seguramente estarán interesados en saber su humilde origen.</a:t>
            </a:r>
            <a:endParaRPr b="0" lang="en-US" sz="2400" spc="-1" strike="noStrike">
              <a:solidFill>
                <a:srgbClr val="ffffff"/>
              </a:solidFill>
              <a:latin typeface="Tahoma"/>
            </a:endParaRPr>
          </a:p>
        </p:txBody>
      </p:sp>
      <p:pic>
        <p:nvPicPr>
          <p:cNvPr id="499" name="1 Imagen" descr=""/>
          <p:cNvPicPr/>
          <p:nvPr/>
        </p:nvPicPr>
        <p:blipFill>
          <a:blip r:embed="rId1"/>
          <a:stretch/>
        </p:blipFill>
        <p:spPr>
          <a:xfrm>
            <a:off x="3714840" y="2571840"/>
            <a:ext cx="1714320" cy="1714320"/>
          </a:xfrm>
          <a:prstGeom prst="rect">
            <a:avLst/>
          </a:prstGeom>
          <a:ln w="0">
            <a:noFill/>
          </a:ln>
        </p:spPr>
      </p:pic>
    </p:spTree>
  </p:cSld>
  <p:transition advTm="700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4"/>
          <p:cNvSpPr/>
          <p:nvPr/>
        </p:nvSpPr>
        <p:spPr>
          <a:xfrm>
            <a:off x="971640" y="907920"/>
            <a:ext cx="7345440" cy="303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 reporta, que todo comenzó en 1862 durante la Guerra Civil cuando el Capitan del Ejército de la Unión Robert Elly estaba con sus hombres cerca de Harrison’s Landing en Virginia. </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l Ejército Confederado estaba al otro lado del angosto terreno.</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501" name="1 Imagen" descr=""/>
          <p:cNvPicPr/>
          <p:nvPr/>
        </p:nvPicPr>
        <p:blipFill>
          <a:blip r:embed="rId1"/>
          <a:stretch/>
        </p:blipFill>
        <p:spPr>
          <a:xfrm>
            <a:off x="2771640" y="3357720"/>
            <a:ext cx="3273480" cy="30589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4"/>
          <p:cNvSpPr/>
          <p:nvPr/>
        </p:nvSpPr>
        <p:spPr>
          <a:xfrm>
            <a:off x="755640" y="1052640"/>
            <a:ext cx="763272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urante la noche, el Capitan Elly escuchó los quejidos de un soldado que estaba mal herido en el campo. Sin saber si se trataba de un soldado de la Unión o de la Confederación, el Capitán decidió arriesgar su vida y traer al hombre herido para la atención médica.</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rrastrándose de vientre a través de los disparos, el capitán llegó al soldado herido y empezó a tirar de él hacia su campamento.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ando el Capitán llegó finalmente a sus propias líneas, descubrió que en realidad era un soldado confederado, pero el soldado estaba muerto.</a:t>
            </a:r>
            <a:endParaRPr b="0" lang="en-US" sz="2400" spc="-1" strike="noStrike">
              <a:solidFill>
                <a:srgbClr val="ffffff"/>
              </a:solidFill>
              <a:latin typeface="Tahom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4"/>
          <p:cNvSpPr/>
          <p:nvPr/>
        </p:nvSpPr>
        <p:spPr>
          <a:xfrm>
            <a:off x="766800" y="1268280"/>
            <a:ext cx="7416720" cy="37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capitán encendió una linterna y, de repente se quedó sin aliento y se paralizó por el shock. En la penumbra, vio el rostro del soldado.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e trataba de su propio hijo. El chico estaba estudiando música en el Sur cuando estalló la guerra. Sin decirle nada a su padre, el muchacho se alistó en el ejército confederado. </a:t>
            </a:r>
            <a:endParaRPr b="0" lang="en-US" sz="2400" spc="-1" strike="noStrike">
              <a:solidFill>
                <a:srgbClr val="ffffff"/>
              </a:solidFill>
              <a:latin typeface="Tahom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4"/>
          <p:cNvSpPr/>
          <p:nvPr/>
        </p:nvSpPr>
        <p:spPr>
          <a:xfrm>
            <a:off x="684360" y="692280"/>
            <a:ext cx="7848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 la mañana siguiente y con el corazón destrozado, el padre pidió permiso a sus superiores para dar a su hijo un entierro con honores militares a pesar de estar en el bando enemigo. Su pedido fue parcialmente aprobado.</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l Capitan pidió si podría tener un grupo de los miembros de la banda de músicos que tocaran en el funeral de su hijo.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a solicitud fue negada en vista que el soldado pertenecía al ejército del la Confederación.</a:t>
            </a:r>
            <a:endParaRPr b="0" lang="en-US" sz="2400" spc="-1" strike="noStrike">
              <a:solidFill>
                <a:srgbClr val="ffffff"/>
              </a:solidFill>
              <a:latin typeface="Tahoma"/>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4"/>
          <p:cNvSpPr/>
          <p:nvPr/>
        </p:nvSpPr>
        <p:spPr>
          <a:xfrm>
            <a:off x="1042920" y="981000"/>
            <a:ext cx="7416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ero, por respeto al padre, le dijeron que solo podían únicamente darle un solo músico.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l Capitán escogió a un cornetero para que tocara una serie de notas musicales que encontró en el bolsillo del uniforme del jóven fallecido.</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sta solicitud fue otorgada. </a:t>
            </a:r>
            <a:endParaRPr b="0" lang="en-US" sz="2400" spc="-1" strike="noStrike">
              <a:solidFill>
                <a:srgbClr val="ffffff"/>
              </a:solidFill>
              <a:latin typeface="Tahoma"/>
            </a:endParaRPr>
          </a:p>
        </p:txBody>
      </p:sp>
      <p:pic>
        <p:nvPicPr>
          <p:cNvPr id="506" name="1 Imagen" descr=""/>
          <p:cNvPicPr/>
          <p:nvPr/>
        </p:nvPicPr>
        <p:blipFill>
          <a:blip r:embed="rId1"/>
          <a:stretch/>
        </p:blipFill>
        <p:spPr>
          <a:xfrm>
            <a:off x="3419640" y="1844640"/>
            <a:ext cx="1828800" cy="123192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4"/>
          <p:cNvSpPr/>
          <p:nvPr/>
        </p:nvSpPr>
        <p:spPr>
          <a:xfrm>
            <a:off x="1116000" y="115920"/>
            <a:ext cx="6913440" cy="619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ació así la melodía inolvidable que ahora conocemos como Taps.</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a letra de esta angustiosa melodía que se toca en los entierros militares es:</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508" name="1 Imagen" descr=""/>
          <p:cNvPicPr/>
          <p:nvPr/>
        </p:nvPicPr>
        <p:blipFill>
          <a:blip r:embed="rId1"/>
          <a:stretch/>
        </p:blipFill>
        <p:spPr>
          <a:xfrm>
            <a:off x="3497400" y="2478240"/>
            <a:ext cx="1950840" cy="14634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10:12:45Z</dcterms:created>
  <dc:creator>lagunas</dc:creator>
  <dc:description/>
  <dc:language>en-US</dc:language>
  <cp:lastModifiedBy>Usuario</cp:lastModifiedBy>
  <dcterms:modified xsi:type="dcterms:W3CDTF">2014-07-09T19:11:52Z</dcterms:modified>
  <cp:revision>1</cp:revision>
  <dc:subject>Funeral Militar</dc:subject>
  <dc:title>Toque de Silencio "Taps"</dc:title>
</cp:coreProperties>
</file>