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9A5-B8BF-47D8-A3B2-C41FA583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071-27F2-4906-B808-8F70C24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8DE-F720-4BF1-86D7-8E97BC64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489-3E31-436B-8D56-3BD06F2A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0DC7-DD70-4361-BEF5-808BBC7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0661-A020-4898-A313-02501CC7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D9E7-2486-4775-87F5-B0EA122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8F2B-03DA-493D-B976-9DD23DC8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C1E5-4829-4472-A1DC-07A5FF64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33B-23B5-419F-9182-3E214CCD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117-DB52-4E5B-815D-BE664E4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D83-8A87-41D0-A719-C5F3A0B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837-A751-4669-AD2D-48613D1E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CD0E-AC7F-4DE1-BD2B-B239FDB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E3C-C38B-4361-9921-A0C939A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6E46-06A0-44C9-A7D2-F73885FD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2801-428E-447F-8953-04289055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CA5-A3CE-4044-93C4-2DAE26D2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05C-33FE-49C6-B4B3-D8125769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4F2-FE5F-432A-BB37-8D2B928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019-8CBA-4431-BE44-8E466C5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C3C-7D7C-4737-93A9-C7ACC5E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A3E-7991-4FB1-9040-A650021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464-5D9B-4B83-B751-E01A0CA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2EB-D8FF-4EC4-8DF0-D8AFEAC59CBA}" type="datetime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0897-5124-489A-95D3-5DA157F69AAF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scribble2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BA0C-C323-4028-8789-D4A712A36D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5064-63F8-471F-9A8A-40498239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2349360"/>
            <a:ext cx="6096240" cy="187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663300"/>
                </a:solidFill>
                <a:latin typeface="Almagro"/>
              </a:rPr>
              <a:t>DE QUÉ NACIONALIDAD ERAN ADAN Y EVA?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4859280" y="1628640"/>
            <a:ext cx="3888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Un Alemán, un Francés, un Inglés y un Argentino comentan sobre un cuadro de Adán y Eva en el Paraís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00720" y="1413000"/>
            <a:ext cx="417816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El Alemán dice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-Miren que perfección de cuerpos: ella esbelta y espigada, el con ese cuerpo atlético, los  músculos perfilados..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ben ser alemanes</a:t>
            </a:r>
            <a:r>
              <a:rPr b="1" lang="es-ES" sz="3600" spc="-1" strike="noStrike">
                <a:solidFill>
                  <a:srgbClr val="663300"/>
                </a:solidFill>
                <a:latin typeface="Almagro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95640" y="549360"/>
            <a:ext cx="482436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Inmediatamente, el francés reaccionó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- No lo creo, es claro el erotismo que se desprende de ambas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figuras..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Ella tan femenina...él tan masculino...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Saben que pronto llegará la tentació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ben ser franceses</a:t>
            </a:r>
            <a:r>
              <a:rPr b="1" lang="es-ES" sz="2800" spc="-1" strike="noStrike">
                <a:solidFill>
                  <a:srgbClr val="663300"/>
                </a:solidFill>
                <a:latin typeface="Almagro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00720" y="1413000"/>
            <a:ext cx="4321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Moviendo negativamente la cabeza el Inglés comenta:                           - Noten... la serenidad de sus rostros, la delicadeza de la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pose, la sobriedad del g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     </a:t>
            </a: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Sólo pueden ser Ingles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419640" y="692280"/>
            <a:ext cx="51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14880" y="500040"/>
            <a:ext cx="464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Después de unos segundos más de contemplación el argentino exclama:</a:t>
            </a:r>
            <a:br>
              <a:rPr sz="2400"/>
            </a:br>
            <a:r>
              <a:rPr b="1" lang="es-ES" sz="2400" spc="-1" strike="noStrike">
                <a:solidFill>
                  <a:srgbClr val="663300"/>
                </a:solidFill>
                <a:latin typeface="Almagro"/>
              </a:rPr>
              <a:t>No estoy de acuerdo. Miren bien: Andan en bolas, descalzos, duermen abajo de un árbol , sólo tienen una miserable  manzana para morfar, no protestan y todavía los muy boludos creen que están en el Paraí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Gold%20Frame"/>
          <p:cNvPicPr/>
          <p:nvPr/>
        </p:nvPicPr>
        <p:blipFill>
          <a:blip r:embed="rId1"/>
          <a:stretch/>
        </p:blipFill>
        <p:spPr>
          <a:xfrm>
            <a:off x="395280" y="549360"/>
            <a:ext cx="3571920" cy="511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adan_eva"/>
          <p:cNvPicPr/>
          <p:nvPr/>
        </p:nvPicPr>
        <p:blipFill>
          <a:blip r:embed="rId2"/>
          <a:stretch/>
        </p:blipFill>
        <p:spPr>
          <a:xfrm>
            <a:off x="826920" y="1341360"/>
            <a:ext cx="273708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286160" y="4672080"/>
            <a:ext cx="4391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lmagro"/>
              </a:rPr>
              <a:t>.</a:t>
            </a:r>
            <a:br>
              <a:rPr sz="2800"/>
            </a:br>
            <a:r>
              <a:rPr b="1" lang="es-ES" sz="3600" spc="-1" strike="noStrike">
                <a:solidFill>
                  <a:srgbClr val="663300"/>
                </a:solidFill>
                <a:latin typeface="Almagro"/>
              </a:rPr>
              <a:t>¡¡¡Esos son Argentinos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12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22:44:30Z</dcterms:created>
  <dc:creator>Sonia Coleman</dc:creator>
  <dc:description/>
  <dc:language>en-US</dc:language>
  <cp:lastModifiedBy>Tere Landajo</cp:lastModifiedBy>
  <cp:lastPrinted>2009-04-22T19:24:48Z</cp:lastPrinted>
  <dcterms:modified xsi:type="dcterms:W3CDTF">2008-03-29T13:43:03Z</dcterms:modified>
  <cp:revision>10</cp:revision>
  <dc:subject/>
  <dc:title>Title</dc:title>
</cp:coreProperties>
</file>