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EC4-6E4C-4198-9E95-2E798A9B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6B5-3528-45A0-B8DE-4A039577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8BF-801D-4416-8867-CAC8FDFF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CB2-628D-4BA3-BDA5-958FAF08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FE70-1D68-4DE0-981B-292DC0DA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29A-865E-49A8-8265-76E4CF75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435-E2B4-405E-A09E-BD0854EF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0D1-4723-448A-93BB-AEF4DF62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CC11-E6EA-46E3-9F95-AC3BB015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2750-4FCF-4BD1-8565-3F2BF268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E13-5B2C-428E-A7A3-97BDF87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C4E-BF86-4A59-9649-1121F397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6C20-A1D7-466B-AC90-1EA1452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CC43-6B7E-413E-A2E8-6FB2013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AFE9-98B6-46F9-ABDD-2A15FF1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36F8-14AC-47D2-97ED-CE60AB1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4A9-22DE-4C51-9D02-BFD0996D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307-18B8-4F0E-A9F6-C0993E84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652-5450-4ACD-B377-85E6CCF7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0DF-3B6E-43D8-8EB8-D856CDB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642-163E-496A-AB70-E0EC0C9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348-0F4C-44ED-A225-9BB72AF0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6A4-014F-4675-8140-9D71C93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A36-66DC-4AE8-A0A1-8AE32F2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F9D-D50A-4A23-85F8-381500D995D9}" type="datetime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4B9B-6A70-4550-B9EA-F48E3151ACE3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scribble2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515-1D5E-4B98-A501-54B62B9CD2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501-36D1-4783-A9CD-119DE12C1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2349360"/>
            <a:ext cx="6096240" cy="18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663300"/>
                </a:solidFill>
                <a:latin typeface="Almagro"/>
              </a:rPr>
              <a:t>DE QUÉ NACIONALIDAD ERAN ADAN Y EVA?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4859280" y="1628640"/>
            <a:ext cx="388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Un Alemán, un Francés, un Inglés y un Argentino comentan sobre un cuadro de Adán y Eva en el Paraís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00720" y="1413000"/>
            <a:ext cx="417816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El Alemán dice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-Miren que perfección de cuerpos: ella esbelta y espigada, el con ese cuerpo atlético, los  músculos perfilados..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ben ser alemanes</a:t>
            </a:r>
            <a:r>
              <a:rPr b="1" lang="es-ES" sz="3600" spc="-1" strike="noStrike">
                <a:solidFill>
                  <a:srgbClr val="663300"/>
                </a:solidFill>
                <a:latin typeface="Almagro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95640" y="549360"/>
            <a:ext cx="482436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Inmediatamente, el francés reaccionó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- No lo creo, es claro el erotismo que se desprende de ambas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figuras..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Ella tan femenina...él tan masculino..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Saben que pronto llegará la tentació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ben ser franceses</a:t>
            </a:r>
            <a:r>
              <a:rPr b="1" lang="es-ES" sz="2800" spc="-1" strike="noStrike">
                <a:solidFill>
                  <a:srgbClr val="663300"/>
                </a:solidFill>
                <a:latin typeface="Almagro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00720" y="1413000"/>
            <a:ext cx="4321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Moviendo negativamente la cabeza el Inglés comenta:                           - Noten... la serenidad de sus rostros, la delicadeza de la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pose, la sobriedad del g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     </a:t>
            </a: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Sólo pueden ser Ingles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14880" y="500040"/>
            <a:ext cx="464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spués de unos segundos más de contemplación el argentino exclama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No estoy de acuerdo. Miren bien: Andan en bolas, descalzos, duermen abajo de un árbol , sólo tienen una miserable  manzana para morfar, no protestan y todavía los muy boludos creen que están en el Paraí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286160" y="4672080"/>
            <a:ext cx="4391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lmagro"/>
              </a:rPr>
              <a:t>.</a:t>
            </a:r>
            <a:br>
              <a:rPr sz="2800"/>
            </a:br>
            <a:r>
              <a:rPr b="1" lang="es-ES" sz="3600" spc="-1" strike="noStrike">
                <a:solidFill>
                  <a:srgbClr val="663300"/>
                </a:solidFill>
                <a:latin typeface="Almagro"/>
              </a:rPr>
              <a:t>¡¡¡Esos son Argentinos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12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22:44:30Z</dcterms:created>
  <dc:creator>Sonia Coleman</dc:creator>
  <dc:description/>
  <dc:language>en-US</dc:language>
  <cp:lastModifiedBy>Tere Landajo</cp:lastModifiedBy>
  <cp:lastPrinted>2009-04-22T19:24:48Z</cp:lastPrinted>
  <dcterms:modified xsi:type="dcterms:W3CDTF">2008-03-29T13:43:03Z</dcterms:modified>
  <cp:revision>10</cp:revision>
  <dc:subject/>
  <dc:title>Title</dc:title>
</cp:coreProperties>
</file>