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hoven%20-%20Triple%20Concerto%20in%20C,%20II-Largo%20307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5A0-DC22-47AD-8D13-FB49AEAC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C78-1176-4DF1-8A31-410C53D3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79E-9CA5-43C5-8DA8-1FC7DEFC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12D-A923-4DB1-80B3-B297F920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BC3-8507-4CFA-9402-0A917557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CEA-0EB5-4248-AD89-248CF2CF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BC6-D83F-419A-A4A0-A9B9D806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6CB-4462-4F35-BE21-69711F7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798-E3F0-4929-BC52-6A0F83A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847-A9A7-438C-9669-4F9182B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473-3B29-4A8E-A096-0F4F5A91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A00-FAD1-4CD8-B168-B42B298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0D8-D8F9-4E90-BEAC-E3CF9964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Triple%20Concerto%20in%20C,%20II-Largo%2030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IA%20abierta%20luz%20gran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1409200">
            <a:off x="151920" y="1676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pan que no usas es el pan del hambr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vestido colgado en tu armario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s el vestido del que está desnudo.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os zapatos que no te pones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son los zapatos de quien está descal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dinero que tienes guardado es el dinero de los po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bien que dejas de hacer son injusticias que come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Comic Sans MS"/>
              </a:rPr>
              <a:t>(San Basil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403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Lucas 12, 13-21 // 18 Tiempo Ordinario –C-</a:t>
            </a:r>
            <a:br>
              <a:rPr sz="1400"/>
            </a:b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Autora: Asun Gutiérrez. Música: Beethoven. Triple Concierto en Do. Lar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eethoven%20-%20Triple%20Concerto%20in%20C,%20II-Largo%2030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522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no de entre la gente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Maestro, di a mi hermano que reparta conmigo la herenci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Jesús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Amigo, ¿quién me ha hecho juez o árbitro entre vosotr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54688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se niega a ejercer de juez. Como en otras ocasiones, se distancia del caso concreto y va al fondo de la cuestión. Aprovecha la ocasión para referirse a la actitud que sus seguidores y seguidoras deben mantener frente a las posesiones mate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hicos%20HERMANOS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15000" cy="397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O%20moneda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5120" y="762120"/>
            <a:ext cx="5562360" cy="468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Georgia"/>
              </a:rPr>
              <a:t>Y añadió: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Georgia"/>
              </a:rPr>
              <a:t>–Tened mucho cuidado con toda clase de avaricia; que aunque se nade en la abundancia, la vida no depende de las riquezas.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18120"/>
            <a:ext cx="883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stá convencido de que la felicidad no depende de los bienes materiales, por muchos que se tengan. Jesús nos previene ante el deseo de acaparar, usurpar,  acumular posesiones y privilegios... porque esa actitud esclaviza, aleja del amor generoso y gratuito del Padre y rompe la solidaridad entre l@s herman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spíritu del Reino es abandonar el futuro en manos de Dios y compartir lo que se tiene, especialmente con quienes más necesit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sechado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0"/>
            <a:ext cx="701028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Les dijo una parábola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–Había un hombre rico, cuyos campos dieron una gran cosecha. Entonces empezó a pensar: “¿Qué puedo hacer? Porque no tengo donde almacenar mi cosecha”. Y se dijo: “Ya sé lo que voy a hacer; derribaré mis graneros, construiré otros más grandes, almacenaré en ellos todas mis cosechas y mis bienes, y me diré: Ahora ya tienes bienes almacenados para muchos años; descansa, come, bebe y pásalo bien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8120"/>
            <a:ext cx="914400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diálogo que mantiene este hombre consigo mismo desvela sus prioridad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 intereses en la vi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vierte en un porvenir egoísta,piensa en tener sólo para él sin pensar 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hubiera desentonado en nuestra sociedad consumista, donde una de las mayores idolatrías, también entre l@s cristian@s, es el dinero. ¿En qué valores invier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es lo que realmente enriquece a una perso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sumismo%25203" descr=""/>
          <p:cNvPicPr/>
          <p:nvPr/>
        </p:nvPicPr>
        <p:blipFill>
          <a:blip r:embed="rId1"/>
          <a:stretch/>
        </p:blipFill>
        <p:spPr>
          <a:xfrm>
            <a:off x="2400480" y="0"/>
            <a:ext cx="674352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Pero Dios le dijo: “¡Insensato! Esta misma noche vas a morir. ¿Para quién va a ser todo lo que has acaparado?”. Así le sucede a quien atesora para sí, en lugar de hacerse rico ant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El dinero y todos los bienes materiales tienen valor si valen para la vida definitiva,</a:t>
            </a:r>
            <a:br>
              <a:rPr sz="1800"/>
            </a:b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que ya ha comenz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Con lo que consumimos y tiramos, además de embotar nuestro espíritu, aumentamos la miseria del resto del mundo y destruimos el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3300"/>
                </a:solidFill>
                <a:latin typeface="Comic Sans MS"/>
              </a:rPr>
              <a:t>Jesús nos invita a plantearnos que el verdadero tesoro para nuestras vidas no proviene de las posesiones materiales que consigamos y acumulemos, sino de lo que seamos capaces de dar y recibir como don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¿Quién es ric@ ante 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no%20grande%20anil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657600" y="380880"/>
            <a:ext cx="2286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otum"/>
              </a:rPr>
              <a:t>Envía tu Luz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otum"/>
              <a:ea typeface="Dotum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209680"/>
            <a:ext cx="5715000" cy="35697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Envía tu luz a esta tierra injusta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para que se reparta el pan al po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bre nuestros ojos para ver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bre nuestros oídos para oír el do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Haz que seamos personas de Paz,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que llevemos la paz con nos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parta de nosotros el ansia de consumir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y ayúdanos a saber compartir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Que demos la mano a quien lo necesite.Amén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Monotype Corsiva"/>
              </a:rPr>
              <a:t>Juanjo Elezkano</a:t>
            </a: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8:00:42Z</dcterms:created>
  <dc:creator> Asun Gutiérrez</dc:creator>
  <dc:description/>
  <dc:language>en-US</dc:language>
  <cp:lastModifiedBy> </cp:lastModifiedBy>
  <dcterms:modified xsi:type="dcterms:W3CDTF">2010-07-25T16:17:31Z</dcterms:modified>
  <cp:revision>14</cp:revision>
  <dc:subject>jeasam@gmail.com</dc:subject>
  <dc:title>18 Tiempo Ordinario -C-</dc:title>
</cp:coreProperties>
</file>