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6E4-3A99-46FD-A82A-EC0FC4D2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CAB-C1D9-4E20-9E4C-08413480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02E-EE4E-4C0A-94D6-2FDF6D50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CDC-6AC7-4215-868C-BBAA7DAC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6B9-F90B-4E01-84CF-0AC6D69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BF9-818E-4A17-AE23-1D1FD38C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842-CC7D-46DF-AF51-607673A6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B8F-B757-4CE5-AE2A-81DF0094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A4A-540A-4684-A0A6-E4AC3F8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81F-B65A-4234-8670-8499992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8AA-61C3-4971-ADED-14BA4EE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B3E-0F37-4734-B727-D3F0754B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CCDF-F6E0-4D70-9D3A-B6ED4912DF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40004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stas fotografías empezaron a circular en noviembre del 2002, y se creyó que serían las “fotos del año”.  ..Una de ellas se publicó en la portada del NY Times como gran acont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4267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l texto del artículo resume ..esta historia ..que es         .. un bellísimo canto a la </a:t>
            </a:r>
            <a:r>
              <a:rPr b="1" i="1" lang="pt-BR" sz="2000" spc="-1" strike="noStrike">
                <a:solidFill>
                  <a:srgbClr val="ffd41b"/>
                </a:solidFill>
                <a:latin typeface="Arial"/>
              </a:rPr>
              <a:t>Vida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1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5200" y="1630440"/>
            <a:ext cx="85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d41b"/>
                </a:solidFill>
                <a:latin typeface="Arial"/>
              </a:rPr>
              <a:t>.. Que la historia de Samuel toque su corazó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9120" y="30780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d41b"/>
                </a:solidFill>
                <a:latin typeface="Arial"/>
              </a:rPr>
              <a:t>..y Dios le bend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¡Que tenga un bonito día, lleno de salud y trabajo!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0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44468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La foto es de un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b e b é de  21  s e m a n a s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, aún sin nacer,       llamado </a:t>
            </a:r>
            <a:r>
              <a:rPr b="1" i="1" lang="pt-BR" sz="2000" spc="-1" strike="noStrike">
                <a:solidFill>
                  <a:srgbClr val="ffd41b"/>
                </a:solidFill>
                <a:latin typeface="Arial"/>
              </a:rPr>
              <a:t>Samuel Armas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 al que se le había diagnosticado         una espina bífida y nunca sobreviviría, a menos que                   se le practicara una operación intrauter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962520"/>
            <a:ext cx="7925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l Dr. Bruner, tras numerosos estudios realizados en el         Centro Médico Universitario de Vanderbilt, en Nashville, anunció que él podría llevar a cabo la operación,                                                      con el bebé dentro de la matríz ma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47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38098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..El Dr. Bruner estaba acabando exitosamente la operación, cuando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S a m u e l  s a c ó su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pequeñísima pero bien desarrollada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m a n o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 a través de la incisión practicada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y  se a g a r r ó  del  d e d o 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del atónito méd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417680"/>
            <a:ext cx="7543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Durante la intervención, el cirujano extrajo el útero mediante una cesárea y practicó una pequeña incisión a la bolsa, a través de la cual le fue posible operar al pequeño Sam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2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2477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ste pestigioso cirujano declaró haber vivido el momento más emotivo de toda su vida, cuando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s i n t i ó  la  m a n o  de              S a m u e l    a s i é n d o l e  uno  de sus d e d o s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, a modo de agradecimiento por obsequiarle con el regalo de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7162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Por supuesto, el Dr. Bruner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p e r m a n e c i ó  h e l a d o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,                --totalmente inmóvil por varios segundos-- durante los cuales Samuel seguía cogiéndole el dedo, lo cual dio el suficiente tiempo para que el ..personal del quirófamo pudiera fotografiar el momento con toda cla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19040" y="1676520"/>
            <a:ext cx="6529680" cy="4419360"/>
          </a:xfrm>
          <a:prstGeom prst="rect">
            <a:avLst/>
          </a:prstGeom>
          <a:ln w="76320">
            <a:solidFill>
              <a:srgbClr val="f4c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s editores del NYTimes titularon la foto            “Hand of Hope” (Mano de la espera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98760" y="1905120"/>
            <a:ext cx="6249960" cy="4216320"/>
          </a:xfrm>
          <a:prstGeom prst="rect">
            <a:avLst/>
          </a:prstGeom>
          <a:ln w="76320">
            <a:solidFill>
              <a:srgbClr val="f4c6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685800" y="838080"/>
            <a:ext cx="79246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 madre declaró haber llorado emocionada  ..por varios días, viendo la increible fot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589040"/>
            <a:ext cx="6019560" cy="3897360"/>
          </a:xfrm>
          <a:prstGeom prst="rect">
            <a:avLst/>
          </a:prstGeom>
          <a:ln w="76320">
            <a:solidFill>
              <a:srgbClr val="f4c6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23880" y="57150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amuel,  meses despué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25400"/>
            <a:ext cx="777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e es Samuel hoy.. Lleva  una vida 100% norma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88928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d41b"/>
                </a:solidFill>
                <a:latin typeface="Arial"/>
              </a:rPr>
              <a:t>..Y todavía seguimos cuestionand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d41b"/>
                </a:solidFill>
                <a:latin typeface="Arial"/>
              </a:rPr>
              <a:t>¿¿por qué será el aborto un delito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25750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d41b"/>
                </a:solidFill>
                <a:latin typeface="Arial"/>
              </a:rPr>
              <a:t>.. Y todavía nos preguntamos si Dios exis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0:25:32Z</dcterms:created>
  <dc:creator>MI_2057</dc:creator>
  <dc:description/>
  <dc:language>en-US</dc:language>
  <cp:lastModifiedBy>PC</cp:lastModifiedBy>
  <dcterms:modified xsi:type="dcterms:W3CDTF">2005-06-01T09:30:35Z</dcterms:modified>
  <cp:revision>18</cp:revision>
  <dc:subject/>
  <dc:title>Slide sem título </dc:title>
</cp:coreProperties>
</file>