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126-3F82-45F4-AA6C-0CB59A0F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5D3-01A5-488D-BA81-98016441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C47-A7EB-4B89-B1D0-E07B1A9A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F87-2F4D-404E-B24D-C9DAF5A9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27A-A8A1-4A4D-9680-3846C10D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1F2-BC31-4AED-9BAF-F59EE643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A6D-3607-43AC-B691-99E701C5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DDD-2BF6-44AE-BBA8-823C046A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C40-A50B-4177-B9F2-ED0BFBCA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A59-04BD-46D9-824E-7A616473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08F-BE74-4071-8E6D-51846F2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694-0181-4134-BCD1-35281003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3A4C-A714-46E5-BE4E-5587D31571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40004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Estas fotografías empezaron a circular en noviembre del 2002, y se creyó que serían las “fotos del año”.  ..Una de ellas se publicó en la portada del NY Times como gran acont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42670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El texto del artículo resume ..esta historia ..que es         .. un bellísimo canto a la </a:t>
            </a:r>
            <a:r>
              <a:rPr b="1" i="1" lang="pt-BR" sz="2000" spc="-1" strike="noStrike">
                <a:solidFill>
                  <a:srgbClr val="ffd41b"/>
                </a:solidFill>
                <a:latin typeface="Arial"/>
              </a:rPr>
              <a:t>Vida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1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5200" y="1630440"/>
            <a:ext cx="85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d41b"/>
                </a:solidFill>
                <a:latin typeface="Arial"/>
              </a:rPr>
              <a:t>.. Que la historia de Samuel toque su corazó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79120" y="30780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d41b"/>
                </a:solidFill>
                <a:latin typeface="Arial"/>
              </a:rPr>
              <a:t>..y Dios le bend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¡Que tenga un bonito día, lleno de salud y trabajo!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700"/>
                            </p:stCondLst>
                            <p:childTnLst>
                              <p:par>
                                <p:cTn id="11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44468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La foto es de un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b e b é de  21  s e m a n a s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, aún sin nacer,       llamado </a:t>
            </a:r>
            <a:r>
              <a:rPr b="1" i="1" lang="pt-BR" sz="2000" spc="-1" strike="noStrike">
                <a:solidFill>
                  <a:srgbClr val="ffd41b"/>
                </a:solidFill>
                <a:latin typeface="Arial"/>
              </a:rPr>
              <a:t>Samuel Armas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 al que se le había diagnosticado         una espina bífida y nunca sobreviviría, a menos que                   se le practicara una operación intrauter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962520"/>
            <a:ext cx="7925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El Dr. Bruner, tras numerosos estudios realizados en el         Centro Médico Universitario de Vanderbilt, en Nashville, anunció que él podría llevar a cabo la operación,                                                      con el bebé dentro de la matríz mat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47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380988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..El Dr. Bruner estaba acabando exitosamente la operación, cuando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S a m u e l  s a c ó su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pequeñísima pero bien desarrollada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m a n o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 a través de la incisión practicada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y  se a g a r r ó  del  d e d o 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del atónito méd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417680"/>
            <a:ext cx="7543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Durante la intervención, el cirujano extrajo el útero mediante una cesárea y practicó una pequeña incisión a la bolsa, a través de la cual le fue posible operar al pequeño Sam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2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2477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Este pestigioso cirujano declaró haber vivido el momento más emotivo de toda su vida, cuando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s i n t i ó  la  m a n o  de              S a m u e l    a s i é n d o l e  uno  de sus d e d o s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, a modo de agradecimiento por obsequiarle con el regalo de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71628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Por supuesto, el Dr. Bruner 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p e r m a n e c i ó  h e l a d o</a:t>
            </a:r>
            <a:r>
              <a:rPr b="1" lang="pt-BR" sz="2000" spc="-1" strike="noStrike">
                <a:solidFill>
                  <a:srgbClr val="ffd41b"/>
                </a:solidFill>
                <a:latin typeface="Arial"/>
              </a:rPr>
              <a:t>,                --totalmente inmóvil por varios segundos-- durante los cuales Samuel seguía cogiéndole el dedo, lo cual dio el suficiente tiempo para que el ..personal del quirófamo pudiera fotografiar el momento con toda clar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19040" y="1676520"/>
            <a:ext cx="6529680" cy="4419360"/>
          </a:xfrm>
          <a:prstGeom prst="rect">
            <a:avLst/>
          </a:prstGeom>
          <a:ln w="76320">
            <a:solidFill>
              <a:srgbClr val="f4c6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143000" y="685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s editores del NYTimes titularon la foto            “Hand of Hope” (Mano de la esperan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98760" y="1905120"/>
            <a:ext cx="6249960" cy="4216320"/>
          </a:xfrm>
          <a:prstGeom prst="rect">
            <a:avLst/>
          </a:prstGeom>
          <a:ln w="76320">
            <a:solidFill>
              <a:srgbClr val="f4c6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685800" y="838080"/>
            <a:ext cx="79246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 madre declaró haber llorado emocionada  ..por varios días, viendo la increible fot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1589040"/>
            <a:ext cx="6019560" cy="3897360"/>
          </a:xfrm>
          <a:prstGeom prst="rect">
            <a:avLst/>
          </a:prstGeom>
          <a:ln w="76320">
            <a:solidFill>
              <a:srgbClr val="f4c6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523880" y="571500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amuel,  meses despué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25400"/>
            <a:ext cx="777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e es Samuel hoy.. Lleva  una vida 100% normal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889280"/>
            <a:ext cx="6705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d41b"/>
                </a:solidFill>
                <a:latin typeface="Arial"/>
              </a:rPr>
              <a:t>..Y todavía seguimos cuestionand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d41b"/>
                </a:solidFill>
                <a:latin typeface="Arial"/>
              </a:rPr>
              <a:t>¿¿por qué será el aborto un delito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25750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d41b"/>
                </a:solidFill>
                <a:latin typeface="Arial"/>
              </a:rPr>
              <a:t>.. Y todavía nos preguntamos si Dios exis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0:25:32Z</dcterms:created>
  <dc:creator>MI_2057</dc:creator>
  <dc:description/>
  <dc:language>en-US</dc:language>
  <cp:lastModifiedBy>PC</cp:lastModifiedBy>
  <dcterms:modified xsi:type="dcterms:W3CDTF">2005-06-01T09:30:35Z</dcterms:modified>
  <cp:revision>18</cp:revision>
  <dc:subject/>
  <dc:title>Slide sem título </dc:title>
</cp:coreProperties>
</file>