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5.gif" ContentType="image/gif"/>
  <Override PartName="/ppt/media/image8.wmf" ContentType="image/x-wmf"/>
  <Override PartName="/ppt/media/saint%20seiya%20-%20athena's%20violin%20theme.wav" ContentType="audio/x-wav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000000"/>
                </a:solidFill>
                <a:latin typeface="Berlin Sans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FBD-A7FF-410E-BDFE-9A7CEC141557}" type="datetime">
              <a:rPr b="1" i="1" lang="es-ES_tradnl" sz="1200" spc="-1" strike="noStrike">
                <a:solidFill>
                  <a:srgbClr val="000000"/>
                </a:solidFill>
                <a:latin typeface="Berlin Sans FB"/>
              </a:rPr>
              <a:t>31/07/26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000000"/>
                </a:solidFill>
                <a:latin typeface="Berlin Sans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209-51B8-4133-BAFF-42AF26C5A921}" type="slidenum">
              <a:rPr b="1" i="1" lang="es-ES_tradnl" sz="1200" spc="-1" strike="noStrike">
                <a:solidFill>
                  <a:srgbClr val="000000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BCFD-C623-4499-90CC-033A2DCC4F06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51A3-1A79-4B4E-B683-C6A08A7075CE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6A02-DF08-4322-A29B-4DFAC5DCE6CD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E27-79C5-4506-8DC5-677E875D563A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8EB-25A1-456E-A1DA-6C294E53769E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0DE-2081-46DB-A4CD-86248014016C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632-9715-4FD9-B804-60D5BCBFCE8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709-ED8C-4E7D-AB37-4139F4CC41C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98FA-F252-49C1-A38E-3728272A82A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0D83-E947-4472-8D71-8E541D471FB3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CA3F-4D11-4E1A-9121-BFD91A71E032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"Hoy la escuela no puede educar porque no tiene medios y para instruirlos le cuesta muchísimo. Pero instrucción es trasmisión de conocimientos y educar es inculcar valores, por lo que ninguno puede suplir lo que compete a otro. Yo fui educado por una familia de analfabetos, que me inculcaron valores, sin muchas palabras, pero los aprendí"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58E-7E90-47D8-A1C6-6540D6EC1F7F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E473-C7DB-482F-B02F-F57D7A323B2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F257-86B7-46F6-93FC-08E028D3B38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C9B-A271-4E8E-9FCD-470EA14751B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CAFD-FFAF-423C-B326-F7BDBF6CC3DE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276-BAD4-4CA2-8939-32BF85ED9C4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D9B-C3EB-4CA9-A7A6-661AE998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BE4-A748-440A-9A40-596A094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2C4-3C8D-4F26-A09C-DEC16680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150-E587-4D5D-AE25-4093C5D7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8608-444D-4987-83F6-22F66743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719B-F591-49E3-8D58-514C34F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BEA6-D78F-4393-BDE5-1E59072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8408-E51B-41B6-8CD2-8D842D8D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D737-AC83-497F-A11F-B80D029E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5BEE-A1B5-4757-891E-45D19C1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8E8-412A-443A-BAD3-3EEAF125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C48-6D98-4069-A5D9-ADF8C461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813A-F7EE-4AAE-83AF-C2BBA78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3C19-E29C-40C9-94B1-BE2DAC3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3EA-576A-4612-A8F3-F0545E1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84D-8A30-4098-A91D-AF12E802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C97C-27FC-4444-A417-4CE0617F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49A1-763D-42C3-BB3A-AE8EE0D3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D832-69F5-42B0-8164-B3B6BBB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1FA6-B1D5-4619-8BDB-AA0A63BD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8F77-1908-4E41-8205-4415A356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49D8-E36C-4B1E-90B3-2FDE377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854-C066-4E83-81E5-CC4238E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1201-B3DC-4F4C-8B70-F1F6AFE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038F-D0F8-46C9-A93B-231A85F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54F0-C279-4443-97C0-C0E5809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0CA6-EAF8-4AB2-B841-1F655AC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BCED-69C0-457E-9834-270E44E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E800-D6B4-43AD-87E3-A8ABDE2C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25ED-4C68-49F2-B74D-8BC4F4EC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559D-075F-4C32-BBB8-E0BB9E00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032F-E096-4B87-B72B-2CD4F25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29F4-EE41-419E-AF9B-8DB7C1DC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CA7-40F5-4ED5-A18B-0778A57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9AE4-4D57-4757-8EF6-B6389B9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D30D-DA75-4448-9E71-B859BFB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9026-DE23-42A9-8DEC-D970776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DEB7-5B37-4DBA-ABB0-54B8E52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0D19-12A8-425A-821E-1B02242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5617-C5C6-4F19-99D7-6E2342F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9B5F-7574-4A10-B20C-CED230B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14EF-118F-463E-8B7C-7274C315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E6B9-48C3-4F78-BE01-59A73C58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A702-0BF6-4C0A-B547-B6C1A5BB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DF5-CCFB-40B9-90F7-D25A71E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0EA0-BF43-4C0E-802E-0A3577E4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60B9-D7BC-496E-A8D1-0EAC124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53FE-DE57-40E7-AA4F-0DD31849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1D52-84DF-44DE-BA22-5244578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85B6-38DF-4BC1-9EC6-4DF6BD6F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6757-B2BC-4266-B924-2146489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3C34-0E1C-49F8-9A19-CB914B6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CE51-25E9-49D6-A890-A2ACA573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5E95-B403-406E-B190-58E1E85B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E7EE-A8D7-42C3-95B3-25984400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423-4281-43A8-BDF9-0B35D57C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7DCE-0B14-4BDE-AAFB-3B285574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0EA-006B-4097-A0A2-7E928CA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7A2-E7DA-435C-9DD3-3FB172C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D64-F066-4C23-AF24-116306D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E50-4AF5-4F28-A92C-856493ADC40E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icket7R.png"/>
          <p:cNvPicPr/>
          <p:nvPr/>
        </p:nvPicPr>
        <p:blipFill>
          <a:blip r:embed="rId3"/>
          <a:stretch/>
        </p:blipFill>
        <p:spPr>
          <a:xfrm rot="1082400">
            <a:off x="5549760" y="1755360"/>
            <a:ext cx="1097280" cy="55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ticket8R.png"/>
          <p:cNvPicPr/>
          <p:nvPr/>
        </p:nvPicPr>
        <p:blipFill>
          <a:blip r:embed="rId4"/>
          <a:stretch/>
        </p:blipFill>
        <p:spPr>
          <a:xfrm rot="20712000">
            <a:off x="5382720" y="2155680"/>
            <a:ext cx="1096920" cy="5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42-16393499.png"/>
          <p:cNvPicPr/>
          <p:nvPr/>
        </p:nvPicPr>
        <p:blipFill>
          <a:blip r:embed="rId5"/>
          <a:stretch/>
        </p:blipFill>
        <p:spPr>
          <a:xfrm>
            <a:off x="2516040" y="304920"/>
            <a:ext cx="342756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27B-29B2-43F6-B4DE-95AA6B1D498C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ticket7R.png"/>
          <p:cNvPicPr/>
          <p:nvPr/>
        </p:nvPicPr>
        <p:blipFill>
          <a:blip r:embed="rId3"/>
          <a:stretch/>
        </p:blipFill>
        <p:spPr>
          <a:xfrm rot="1398600">
            <a:off x="6492960" y="15969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ticket8R.png"/>
          <p:cNvPicPr/>
          <p:nvPr/>
        </p:nvPicPr>
        <p:blipFill>
          <a:blip r:embed="rId4"/>
          <a:stretch/>
        </p:blipFill>
        <p:spPr>
          <a:xfrm rot="21078000">
            <a:off x="5945040" y="2293920"/>
            <a:ext cx="2213280" cy="112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99F-4342-46B2-A19F-248A2CBBC8B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ticket7R.png"/>
          <p:cNvPicPr/>
          <p:nvPr/>
        </p:nvPicPr>
        <p:blipFill>
          <a:blip r:embed="rId3"/>
          <a:stretch/>
        </p:blipFill>
        <p:spPr>
          <a:xfrm rot="1398600">
            <a:off x="6035760" y="45687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ticket8R.png"/>
          <p:cNvPicPr/>
          <p:nvPr/>
        </p:nvPicPr>
        <p:blipFill>
          <a:blip r:embed="rId4"/>
          <a:stretch/>
        </p:blipFill>
        <p:spPr>
          <a:xfrm rot="20218200">
            <a:off x="5236920" y="5035320"/>
            <a:ext cx="2212920" cy="1122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3F2F-AE4C-4EC0-B9CC-D0ACBEFB2B11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10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9B8-F0EF-482E-B4CD-8C8E3D89C473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audio" Target="../media/saint%20seiya%20-%20athena&apos;s%20violin%20them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Jose_Saramago-Sep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Cj039783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34348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75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55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543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26" name="Picture 21" descr="caricatura-jose-saramago2"/>
          <p:cNvPicPr/>
          <p:nvPr/>
        </p:nvPicPr>
        <p:blipFill>
          <a:blip r:embed="rId2"/>
          <a:stretch/>
        </p:blipFill>
        <p:spPr>
          <a:xfrm>
            <a:off x="1979640" y="765000"/>
            <a:ext cx="4962600" cy="54007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2"/>
          <p:cNvSpPr txBox="1"/>
          <p:nvPr/>
        </p:nvSpPr>
        <p:spPr>
          <a:xfrm>
            <a:off x="1258920" y="3933720"/>
            <a:ext cx="633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José Saramago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Textual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</p:txBody>
      </p:sp>
    </p:spTree>
  </p:cSld>
  <p:transition>
    <p:newsflash/>
    <p:sndAc>
      <p:stSnd>
        <p:snd r:embed="rId3" name="saint%20seiya%20-%20athena's%20violin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7"/>
          <p:cNvSpPr/>
          <p:nvPr/>
        </p:nvSpPr>
        <p:spPr>
          <a:xfrm>
            <a:off x="5148360" y="1628640"/>
            <a:ext cx="37796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3300"/>
                </a:solidFill>
                <a:latin typeface="Berlin Sans FB"/>
              </a:rPr>
              <a:t>- Es hora de aullar, porque si nos dejamos llevar por los poderes que nos gobiernan, y no hacemos nada por contrarrestarlos, se puede decir que nos merecemos lo que tenemos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6" name="Picture 18" descr="JoseZaramago"/>
          <p:cNvPicPr/>
          <p:nvPr/>
        </p:nvPicPr>
        <p:blipFill>
          <a:blip r:embed="rId2"/>
          <a:stretch/>
        </p:blipFill>
        <p:spPr>
          <a:xfrm>
            <a:off x="324000" y="260280"/>
            <a:ext cx="4738680" cy="633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literaturalibre.com/wp-content/uploads/2010/06/Jos%C3%A9-Saramago.jpg"/>
          <p:cNvPicPr/>
          <p:nvPr/>
        </p:nvPicPr>
        <p:blipFill>
          <a:blip r:embed="rId2"/>
          <a:stretch/>
        </p:blipFill>
        <p:spPr>
          <a:xfrm>
            <a:off x="179280" y="620640"/>
            <a:ext cx="8753760" cy="561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"/>
          <p:cNvSpPr/>
          <p:nvPr/>
        </p:nvSpPr>
        <p:spPr>
          <a:xfrm>
            <a:off x="395280" y="476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El tiempo no es una cuerda que se pueda medir nudo a nudo, el tiempo es una superficie oblicua y ondulante que sólo la memoria es capaz de hacer que se mueva y aproxime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9" name="Picture 6" descr="http://www.almamagazine.com/images/biblioteca/notas/arte_y_cultura/literatura/jose_saramago_y_dios/jose_saramago_02.jpg"/>
          <p:cNvPicPr/>
          <p:nvPr/>
        </p:nvPicPr>
        <p:blipFill>
          <a:blip r:embed="rId2"/>
          <a:stretch/>
        </p:blipFill>
        <p:spPr>
          <a:xfrm>
            <a:off x="1403280" y="256536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4140360" y="2205000"/>
            <a:ext cx="475272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Existen dos superpotencias en el mundo; una es Estados Unidos; otra, eres tú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 </a:t>
            </a: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Yo no invento, sólo miro por detrás de lo que ya existe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1" name="Picture 6" descr="intermitencias-muerte-jose-saramago"/>
          <p:cNvPicPr/>
          <p:nvPr/>
        </p:nvPicPr>
        <p:blipFill>
          <a:blip r:embed="rId2"/>
          <a:stretch/>
        </p:blipFill>
        <p:spPr>
          <a:xfrm>
            <a:off x="179280" y="765000"/>
            <a:ext cx="4027680" cy="547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324000" y="2492280"/>
            <a:ext cx="3382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En un matrimonio hay tres personas: el hombre, la mujer y la tercera persona formada por los dos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3" name="Picture 5" descr="caricatura-jose-saramago2"/>
          <p:cNvPicPr/>
          <p:nvPr/>
        </p:nvPicPr>
        <p:blipFill>
          <a:blip r:embed="rId2"/>
          <a:stretch/>
        </p:blipFill>
        <p:spPr>
          <a:xfrm>
            <a:off x="3995640" y="836640"/>
            <a:ext cx="4962600" cy="54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4500720" y="2492280"/>
            <a:ext cx="403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Si hay que buscar el sentido de la música, de la filosofía, de una rosa, es que no estamos entendiendo nada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5" name="Picture 5" descr="Jose-Saramago-1"/>
          <p:cNvPicPr/>
          <p:nvPr/>
        </p:nvPicPr>
        <p:blipFill>
          <a:blip r:embed="rId2"/>
          <a:stretch/>
        </p:blipFill>
        <p:spPr>
          <a:xfrm>
            <a:off x="395280" y="1197000"/>
            <a:ext cx="3902040" cy="477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Premio Nobel"/>
          <p:cNvPicPr/>
          <p:nvPr/>
        </p:nvPicPr>
        <p:blipFill>
          <a:blip r:embed="rId2"/>
          <a:stretch/>
        </p:blipFill>
        <p:spPr>
          <a:xfrm>
            <a:off x="395280" y="476280"/>
            <a:ext cx="3998880" cy="5832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José Saramago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591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835280" y="333360"/>
            <a:ext cx="540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José Saramago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Textual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26920" y="3933720"/>
            <a:ext cx="741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1d86cd"/>
                </a:solidFill>
                <a:latin typeface="Berlin Sans FB"/>
              </a:rPr>
              <a:t>José Saramago, escritor, novelista y poeta portugués, premio Nobel de Literatura. </a:t>
            </a:r>
            <a:endParaRPr b="1" i="1" lang="en-US" sz="32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1d86cd"/>
                </a:solidFill>
                <a:latin typeface="Berlin Sans FB"/>
              </a:rPr>
              <a:t>HOMENAJE.</a:t>
            </a:r>
            <a:endParaRPr b="1" i="1" lang="en-US" sz="32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60" name="Picture 11" descr="http://www.epdlp.com/fotos/pluma.gif"/>
          <p:cNvPicPr/>
          <p:nvPr/>
        </p:nvPicPr>
        <p:blipFill>
          <a:blip r:embed="rId2"/>
          <a:stretch/>
        </p:blipFill>
        <p:spPr>
          <a:xfrm>
            <a:off x="6516720" y="5157720"/>
            <a:ext cx="503280" cy="100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8"/>
          <p:cNvSpPr/>
          <p:nvPr/>
        </p:nvSpPr>
        <p:spPr>
          <a:xfrm>
            <a:off x="5580000" y="2133720"/>
            <a:ext cx="33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La derrota tiene algo positivo, nunca es definitiva. En cambio la victoria tiene algo negativo, jamás es definitiva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29" name="Picture 9" descr="15-jose-saramago-por-pedro-covo"/>
          <p:cNvPicPr/>
          <p:nvPr/>
        </p:nvPicPr>
        <p:blipFill>
          <a:blip r:embed="rId2"/>
          <a:stretch/>
        </p:blipFill>
        <p:spPr>
          <a:xfrm>
            <a:off x="324000" y="144360"/>
            <a:ext cx="5003640" cy="6524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2463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1341360"/>
            <a:ext cx="37432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Las tres enfermedades del hombre actual son la incomunicación, la revolución tecnológica y su vida centrada en su triunfo personal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2" name="Picture 10" descr="Jose-Saramago-1"/>
          <p:cNvPicPr/>
          <p:nvPr/>
        </p:nvPicPr>
        <p:blipFill>
          <a:blip r:embed="rId2"/>
          <a:stretch/>
        </p:blipFill>
        <p:spPr>
          <a:xfrm>
            <a:off x="4211640" y="549360"/>
            <a:ext cx="4741920" cy="580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1" descr="jose-saramago"/>
          <p:cNvPicPr/>
          <p:nvPr/>
        </p:nvPicPr>
        <p:blipFill>
          <a:blip r:embed="rId2"/>
          <a:stretch/>
        </p:blipFill>
        <p:spPr>
          <a:xfrm>
            <a:off x="152280" y="152280"/>
            <a:ext cx="2971800" cy="2894040"/>
          </a:xfrm>
          <a:prstGeom prst="rect">
            <a:avLst/>
          </a:prstGeom>
          <a:ln w="0">
            <a:noFill/>
          </a:ln>
        </p:spPr>
      </p:pic>
      <p:sp>
        <p:nvSpPr>
          <p:cNvPr id="234" name="Rectángulo 8"/>
          <p:cNvSpPr/>
          <p:nvPr/>
        </p:nvSpPr>
        <p:spPr>
          <a:xfrm>
            <a:off x="3352680" y="228600"/>
            <a:ext cx="556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"Hoy la escuela no puede educar porque no tiene medios y para instruirlos le cuesta muchísimo. Pero instrucción es trasmisión de conocimientos y educar es inculcar valores, por lo que ninguno puede suplir lo que compete a otro. Yo fui educado por una familia de analfabetos, que me inculcaron valores, sin muchas palabras, pero los aprendí"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8"/>
          <p:cNvSpPr/>
          <p:nvPr/>
        </p:nvSpPr>
        <p:spPr>
          <a:xfrm>
            <a:off x="684360" y="3789360"/>
            <a:ext cx="792144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¿Qué clase de mundo es éste que puede mandar máquinas a Marte y no hace nada para detener el asesinato de un ser humano?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Pienso que todos estamos ciegos. Somos ciegos que pueden ver, pero que no miran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6" name="Picture 9" descr="1247275795_Jose%20Saramago-Libros"/>
          <p:cNvPicPr/>
          <p:nvPr/>
        </p:nvPicPr>
        <p:blipFill>
          <a:blip r:embed="rId2"/>
          <a:stretch/>
        </p:blipFill>
        <p:spPr>
          <a:xfrm>
            <a:off x="2340000" y="189000"/>
            <a:ext cx="4610160" cy="3328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7"/>
          <p:cNvSpPr/>
          <p:nvPr/>
        </p:nvSpPr>
        <p:spPr>
          <a:xfrm>
            <a:off x="250920" y="1000080"/>
            <a:ext cx="410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No te pido que me lo cuentes todo, tienes derecho a guardar tus secretos, con una única e irrenunciable excepción, aquellos de los que dependa tu vida, tu futuro, tu felicidad, ésos quiero saberlos, tengo derecho, y tú no me lo puedes negar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8" name="Picture 18" descr="jose-saramago 2"/>
          <p:cNvPicPr/>
          <p:nvPr/>
        </p:nvPicPr>
        <p:blipFill>
          <a:blip r:embed="rId2"/>
          <a:stretch/>
        </p:blipFill>
        <p:spPr>
          <a:xfrm>
            <a:off x="4510080" y="189000"/>
            <a:ext cx="4667400" cy="60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9"/>
          <p:cNvSpPr/>
          <p:nvPr/>
        </p:nvSpPr>
        <p:spPr>
          <a:xfrm>
            <a:off x="1547640" y="4395960"/>
            <a:ext cx="6337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El poder real es económico, entonces no tiene sentido hablar de democracia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No busques trabajo: escribe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0" name="Picture 2" descr="Las gafas y la maquina de escribir"/>
          <p:cNvPicPr/>
          <p:nvPr/>
        </p:nvPicPr>
        <p:blipFill>
          <a:blip r:embed="rId2"/>
          <a:stretch/>
        </p:blipFill>
        <p:spPr>
          <a:xfrm>
            <a:off x="900000" y="765000"/>
            <a:ext cx="4754520" cy="3146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bibliblogue.files.wordpress.com/2009/01/memorial4lx.jpg"/>
          <p:cNvPicPr/>
          <p:nvPr/>
        </p:nvPicPr>
        <p:blipFill>
          <a:blip r:embed="rId3"/>
          <a:stretch/>
        </p:blipFill>
        <p:spPr>
          <a:xfrm>
            <a:off x="6012000" y="765000"/>
            <a:ext cx="2004840" cy="321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Archivo:Jose Saramago-Sep20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2 Rectángulo"/>
          <p:cNvSpPr/>
          <p:nvPr/>
        </p:nvSpPr>
        <p:spPr>
          <a:xfrm>
            <a:off x="1042920" y="4076640"/>
            <a:ext cx="70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3300"/>
                </a:solidFill>
                <a:latin typeface="Berlin Sans FB"/>
              </a:rPr>
              <a:t>"Todo el mundo me dice que tengo que hacer ejercicio. Que es bueno para mi salud. Pero nunca he escuchado a nadie que le diga a un deportista; tienes que leer."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4" name="Picture 2" descr="José Saramago"/>
          <p:cNvPicPr/>
          <p:nvPr/>
        </p:nvPicPr>
        <p:blipFill>
          <a:blip r:embed="rId2"/>
          <a:stretch/>
        </p:blipFill>
        <p:spPr>
          <a:xfrm>
            <a:off x="611280" y="836640"/>
            <a:ext cx="7972200" cy="287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8:19:09Z</dcterms:created>
  <dc:creator>Refleja</dc:creator>
  <dc:description/>
  <dc:language>en-US</dc:language>
  <cp:lastModifiedBy>Jorge F. Bujdud Cervantes</cp:lastModifiedBy>
  <dcterms:modified xsi:type="dcterms:W3CDTF">2011-02-08T18:33:49Z</dcterms:modified>
  <cp:revision>32</cp:revision>
  <dc:subject/>
  <dc:title>Diapositiva 1</dc:title>
</cp:coreProperties>
</file>