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5.gif" ContentType="image/gif"/>
  <Override PartName="/ppt/media/image8.wmf" ContentType="image/x-wmf"/>
  <Override PartName="/ppt/media/saint%20seiya%20-%20athena's%20violin%20theme.wav" ContentType="audio/x-wav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_tradnl" sz="1200" spc="-1" strike="noStrike">
                <a:solidFill>
                  <a:srgbClr val="000000"/>
                </a:solidFill>
                <a:latin typeface="Berlin Sans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56F1-BF9D-49F6-878B-3EAA78026907}" type="datetime">
              <a:rPr b="1" i="1" lang="es-ES_tradnl" sz="1200" spc="-1" strike="noStrike">
                <a:solidFill>
                  <a:srgbClr val="000000"/>
                </a:solidFill>
                <a:latin typeface="Berlin Sans FB"/>
              </a:rPr>
              <a:t>29/07/26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_tradnl" sz="1200" spc="-1" strike="noStrike">
                <a:solidFill>
                  <a:srgbClr val="000000"/>
                </a:solidFill>
                <a:latin typeface="Berlin Sans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F237-8560-423C-934D-93F34F0C9CD1}" type="slidenum">
              <a:rPr b="1" i="1" lang="es-ES_tradnl" sz="1200" spc="-1" strike="noStrike">
                <a:solidFill>
                  <a:srgbClr val="000000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FD97-3E28-4668-8688-1566DCEE7616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F65F-6AB1-466D-870A-7BFC5574B9F7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3918-48D7-4E53-875B-D09CDE3AE792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112B-6705-4787-98E4-C29E11FC7F0F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4586-FC2A-4006-821A-10D3742C3EE4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9879-969B-4703-B6C3-12E3FA71A954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9663-92DB-4C59-B882-26B56DBC2DE9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64A7-2FB8-4713-9D43-1F02528A5D3A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8CC4-2B3A-4F93-ACEB-2FE31BB299F3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D6AD-BE4D-462E-99D2-A1E1498BF1DD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790B-6D1C-493B-B513-3A822F63BEF3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"Hoy la escuela no puede educar porque no tiene medios y para instruirlos le cuesta muchísimo. Pero instrucción es trasmisión de conocimientos y educar es inculcar valores, por lo que ninguno puede suplir lo que compete a otro. Yo fui educado por una familia de analfabetos, que me inculcaron valores, sin muchas palabras, pero los aprendí"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CC05-5595-4162-B646-103D4DF41979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9A8B-4B99-481A-A266-64C556F35428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C5F2-9C13-44BE-B1EF-6AA1760D3438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64A0-047D-4D89-A033-DD72C133F78D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84D1-DF08-46B1-91B7-4B6881182824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F2F6-DC8E-4B0B-A75F-16F0ED4F4AF9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1F8-4095-4570-8714-4CBE46EA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1A3-D96A-44B9-BCB0-6E3D5B71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430-D468-4592-B98F-275CD790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9E6-E7E2-40B0-869A-D2CFD0EC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1347-1A29-4547-AA64-50812D51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0139-DB80-48FB-9A97-0CC51766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4096-FDDD-4955-82CB-20F61246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2BCD-E941-40AA-8686-D195963E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DE53-CC78-477B-A730-CDBD154E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E382-62BA-42C9-A177-B8423ACA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E66D-E700-49FB-85F7-9263FFA5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7AC-1E43-439E-BDA3-34F043DC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DD1F-D5C0-4832-BB5A-DA778F56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5949-2C09-4CF6-B83C-85F626ED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355A-69FA-4355-BE10-5DEFBF3D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2C0A-DF6E-4271-9751-8BBE0519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86F8-E1FF-466C-A854-3E4FDC97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85DE-B3AC-428A-A495-9ED22FE6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E01A-A150-4969-87EA-AB3EB004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5603-8E59-406C-B019-9948488A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A0A2-3E8E-48FD-9AD0-B46F8581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0EC2-4F11-4FB9-8043-F3826AA9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511-BC3C-4532-8867-44C5B3CB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FFC3-8758-49C9-9120-8FDE58F1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FFBB-2CA8-4506-A2B0-C1588406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ED330-FE52-4972-8493-986111DC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71E1C-4615-4BDE-9923-9079A1FB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4E0D-31E8-427B-94D7-396ADF78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4965-69AC-49DA-A95A-725C2DB5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1AFB-4BED-449A-82F5-37E06538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E9C1-85CB-4C6F-9CB3-F5E8C4E3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E22C3-7596-4522-A7AF-AE53FAFA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400F-4D06-4B2D-99C2-93E050C8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7BB-ECD9-4BD3-89F8-ED6890D7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DBF2-0ABD-4D57-BA1B-97135F91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53FFA-C9E1-43C5-8B83-BE755A87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73E1-E167-4F6B-931B-3B1D2FDF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FEBFC-BF17-428F-A143-7D26F1E7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A026-667B-462E-9B27-4A8DAF6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D582-B15E-4784-90E5-4EC875A9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377FB-EA09-4FBC-80CF-150F8D84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4713-6486-4775-9F2F-0D7331AE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C2F12-DD21-4E13-9A47-BA03A02E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6AACA-84AF-4F02-80B5-95D45129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A5D-6686-4D89-8B6C-BBE6D0F8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8622B-89DE-4313-941E-0323ECB4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B360B-38BC-4EE2-912D-7F1AD07D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AB96-9FCD-4F06-BF00-FB1AB909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2106D-0871-4112-B57F-BFBF1595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B6692-7045-4096-919E-D6F42A37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3E55F-E270-4E50-B9E2-5EDC6827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9512C-2934-438C-B22A-65819C1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BF8D6-C135-4D72-87A3-A8C016DD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87FE-80ED-44E6-9DBA-D5695FEC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AB922-5AF2-4CE2-8C53-19DACCB0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846-CC26-4F8B-8A17-8F5EE1F4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BBD3-0FDB-4353-88BD-F5E891EC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8F4-17BF-4035-BFAF-DC29DD7A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A2F-625D-442F-A4E4-84EF1752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578-D2F0-4F56-9B34-1E0F9F3E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ffffff"/>
                </a:solidFill>
                <a:latin typeface="Berlin Sans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7D5D-9171-4A1D-ADAD-6CB19BD24B9F}" type="slidenum">
              <a:rPr b="1" i="1" lang="es-ES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ticket7R.png"/>
          <p:cNvPicPr/>
          <p:nvPr/>
        </p:nvPicPr>
        <p:blipFill>
          <a:blip r:embed="rId3"/>
          <a:stretch/>
        </p:blipFill>
        <p:spPr>
          <a:xfrm rot="1082400">
            <a:off x="5549760" y="1755360"/>
            <a:ext cx="1097280" cy="557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ticket8R.png"/>
          <p:cNvPicPr/>
          <p:nvPr/>
        </p:nvPicPr>
        <p:blipFill>
          <a:blip r:embed="rId4"/>
          <a:stretch/>
        </p:blipFill>
        <p:spPr>
          <a:xfrm rot="20712000">
            <a:off x="5382720" y="2155680"/>
            <a:ext cx="1096920" cy="5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42-16393499.png"/>
          <p:cNvPicPr/>
          <p:nvPr/>
        </p:nvPicPr>
        <p:blipFill>
          <a:blip r:embed="rId5"/>
          <a:stretch/>
        </p:blipFill>
        <p:spPr>
          <a:xfrm>
            <a:off x="2516040" y="304920"/>
            <a:ext cx="342756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ffffff"/>
                </a:solidFill>
                <a:latin typeface="Berlin Sans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527C-A709-48C9-B65D-0A59BA521CAE}" type="slidenum">
              <a:rPr b="1" i="1" lang="es-ES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ticket7R.png"/>
          <p:cNvPicPr/>
          <p:nvPr/>
        </p:nvPicPr>
        <p:blipFill>
          <a:blip r:embed="rId3"/>
          <a:stretch/>
        </p:blipFill>
        <p:spPr>
          <a:xfrm rot="1398600">
            <a:off x="6492960" y="1596960"/>
            <a:ext cx="2212920" cy="112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ticket8R.png"/>
          <p:cNvPicPr/>
          <p:nvPr/>
        </p:nvPicPr>
        <p:blipFill>
          <a:blip r:embed="rId4"/>
          <a:stretch/>
        </p:blipFill>
        <p:spPr>
          <a:xfrm rot="21078000">
            <a:off x="5945040" y="2293920"/>
            <a:ext cx="2213280" cy="1122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_tradnl" sz="1200" spc="-1" strike="noStrike">
                <a:solidFill>
                  <a:srgbClr val="ffffff"/>
                </a:solidFill>
                <a:latin typeface="Berlin Sans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4E78-2261-4C27-8BB4-AC1D70B583E6}" type="slidenum">
              <a:rPr b="1" i="1" lang="es-ES_tradnl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ticket7R.png"/>
          <p:cNvPicPr/>
          <p:nvPr/>
        </p:nvPicPr>
        <p:blipFill>
          <a:blip r:embed="rId3"/>
          <a:stretch/>
        </p:blipFill>
        <p:spPr>
          <a:xfrm rot="1398600">
            <a:off x="6035760" y="4568760"/>
            <a:ext cx="2212920" cy="112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ticket8R.png"/>
          <p:cNvPicPr/>
          <p:nvPr/>
        </p:nvPicPr>
        <p:blipFill>
          <a:blip r:embed="rId4"/>
          <a:stretch/>
        </p:blipFill>
        <p:spPr>
          <a:xfrm rot="20218200">
            <a:off x="5236920" y="5035320"/>
            <a:ext cx="2212920" cy="1122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ffffff"/>
                </a:solidFill>
                <a:latin typeface="Berlin Sans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345E-096D-4A61-B481-DEA5A46BD80E}" type="slidenum">
              <a:rPr b="1" i="1" lang="es-ES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10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72" name="Straight Connector 15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ffffff"/>
                </a:solidFill>
                <a:latin typeface="Berlin Sans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1B66-53CD-4545-9921-B29E9ECA1BC8}" type="slidenum">
              <a:rPr b="1" i="1" lang="es-ES" sz="1200" spc="-1" strike="noStrike">
                <a:solidFill>
                  <a:srgbClr val="ffffff"/>
                </a:solidFill>
                <a:latin typeface="Berlin Sans FB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audio" Target="../media/saint%20seiya%20-%20athena&apos;s%20violin%20them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5/Jose_Saramago-Sep2006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4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MCj039783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534348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751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5584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543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26" name="Picture 21" descr="caricatura-jose-saramago2"/>
          <p:cNvPicPr/>
          <p:nvPr/>
        </p:nvPicPr>
        <p:blipFill>
          <a:blip r:embed="rId2"/>
          <a:stretch/>
        </p:blipFill>
        <p:spPr>
          <a:xfrm>
            <a:off x="1979640" y="765000"/>
            <a:ext cx="4962600" cy="5400720"/>
          </a:xfrm>
          <a:prstGeom prst="rect">
            <a:avLst/>
          </a:prstGeom>
          <a:ln w="0">
            <a:noFill/>
          </a:ln>
        </p:spPr>
      </p:pic>
      <p:sp>
        <p:nvSpPr>
          <p:cNvPr id="227" name="WordArt 22"/>
          <p:cNvSpPr txBox="1"/>
          <p:nvPr/>
        </p:nvSpPr>
        <p:spPr>
          <a:xfrm>
            <a:off x="1258920" y="3933720"/>
            <a:ext cx="6337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erlin Sans FB"/>
              </a:rPr>
              <a:t>José Saramago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erlin Sans FB"/>
              <a:ea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erlin Sans FB"/>
              </a:rPr>
              <a:t>Textual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erlin Sans FB"/>
              <a:ea typeface="Berlin Sans FB"/>
            </a:endParaRPr>
          </a:p>
        </p:txBody>
      </p:sp>
    </p:spTree>
  </p:cSld>
  <p:transition>
    <p:newsflash/>
    <p:sndAc>
      <p:stSnd>
        <p:snd r:embed="rId3" name="saint%20seiya%20-%20athena's%20violin%20the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7"/>
          <p:cNvSpPr/>
          <p:nvPr/>
        </p:nvSpPr>
        <p:spPr>
          <a:xfrm>
            <a:off x="5148360" y="1628640"/>
            <a:ext cx="37796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3300"/>
                </a:solidFill>
                <a:latin typeface="Berlin Sans FB"/>
              </a:rPr>
              <a:t>- Es hora de aullar, porque si nos dejamos llevar por los poderes que nos gobiernan, y no hacemos nada por contrarrestarlos, se puede decir que nos merecemos lo que tenemos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46" name="Picture 18" descr="JoseZaramago"/>
          <p:cNvPicPr/>
          <p:nvPr/>
        </p:nvPicPr>
        <p:blipFill>
          <a:blip r:embed="rId2"/>
          <a:stretch/>
        </p:blipFill>
        <p:spPr>
          <a:xfrm>
            <a:off x="324000" y="260280"/>
            <a:ext cx="4738680" cy="6337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www.literaturalibre.com/wp-content/uploads/2010/06/Jos%C3%A9-Saramago.jpg"/>
          <p:cNvPicPr/>
          <p:nvPr/>
        </p:nvPicPr>
        <p:blipFill>
          <a:blip r:embed="rId2"/>
          <a:stretch/>
        </p:blipFill>
        <p:spPr>
          <a:xfrm>
            <a:off x="179280" y="620640"/>
            <a:ext cx="8753760" cy="561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8"/>
          <p:cNvSpPr/>
          <p:nvPr/>
        </p:nvSpPr>
        <p:spPr>
          <a:xfrm>
            <a:off x="395280" y="4762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- El tiempo no es una cuerda que se pueda medir nudo a nudo, el tiempo es una superficie oblicua y ondulante que sólo la memoria es capaz de hacer que se mueva y aproxime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49" name="Picture 6" descr="http://www.almamagazine.com/images/biblioteca/notas/arte_y_cultura/literatura/jose_saramago_y_dios/jose_saramago_02.jpg"/>
          <p:cNvPicPr/>
          <p:nvPr/>
        </p:nvPicPr>
        <p:blipFill>
          <a:blip r:embed="rId2"/>
          <a:stretch/>
        </p:blipFill>
        <p:spPr>
          <a:xfrm>
            <a:off x="1403280" y="2565360"/>
            <a:ext cx="6048360" cy="403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4140360" y="2205000"/>
            <a:ext cx="4752720" cy="37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Existen dos superpotencias en el mundo; una es Estados Unidos; otra, eres tú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 </a:t>
            </a: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Yo no invento, sólo miro por detrás de lo que ya existe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51" name="Picture 6" descr="intermitencias-muerte-jose-saramago"/>
          <p:cNvPicPr/>
          <p:nvPr/>
        </p:nvPicPr>
        <p:blipFill>
          <a:blip r:embed="rId2"/>
          <a:stretch/>
        </p:blipFill>
        <p:spPr>
          <a:xfrm>
            <a:off x="179280" y="765000"/>
            <a:ext cx="4027680" cy="547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324000" y="2492280"/>
            <a:ext cx="3382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- En un matrimonio hay tres personas: el hombre, la mujer y la tercera persona formada por los dos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53" name="Picture 5" descr="caricatura-jose-saramago2"/>
          <p:cNvPicPr/>
          <p:nvPr/>
        </p:nvPicPr>
        <p:blipFill>
          <a:blip r:embed="rId2"/>
          <a:stretch/>
        </p:blipFill>
        <p:spPr>
          <a:xfrm>
            <a:off x="3995640" y="836640"/>
            <a:ext cx="4962600" cy="5400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4500720" y="2492280"/>
            <a:ext cx="4033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- Si hay que buscar el sentido de la música, de la filosofía, de una rosa, es que no estamos entendiendo nada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55" name="Picture 5" descr="Jose-Saramago-1"/>
          <p:cNvPicPr/>
          <p:nvPr/>
        </p:nvPicPr>
        <p:blipFill>
          <a:blip r:embed="rId2"/>
          <a:stretch/>
        </p:blipFill>
        <p:spPr>
          <a:xfrm>
            <a:off x="395280" y="1197000"/>
            <a:ext cx="3902040" cy="477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Premio Nobel"/>
          <p:cNvPicPr/>
          <p:nvPr/>
        </p:nvPicPr>
        <p:blipFill>
          <a:blip r:embed="rId2"/>
          <a:stretch/>
        </p:blipFill>
        <p:spPr>
          <a:xfrm>
            <a:off x="395280" y="476280"/>
            <a:ext cx="3998880" cy="5832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José Saramago"/>
          <p:cNvPicPr/>
          <p:nvPr/>
        </p:nvPicPr>
        <p:blipFill>
          <a:blip r:embed="rId3"/>
          <a:stretch/>
        </p:blipFill>
        <p:spPr>
          <a:xfrm>
            <a:off x="4788000" y="404640"/>
            <a:ext cx="3887640" cy="591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"/>
          <p:cNvSpPr txBox="1"/>
          <p:nvPr/>
        </p:nvSpPr>
        <p:spPr>
          <a:xfrm>
            <a:off x="1835280" y="333360"/>
            <a:ext cx="5400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erlin Sans FB"/>
              </a:rPr>
              <a:t>José Saramago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erlin Sans FB"/>
              <a:ea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erlin Sans FB"/>
              </a:rPr>
              <a:t>Textual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erlin Sans FB"/>
              <a:ea typeface="Berlin Sans FB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826920" y="3933720"/>
            <a:ext cx="7417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1d86cd"/>
                </a:solidFill>
                <a:latin typeface="Berlin Sans FB"/>
              </a:rPr>
              <a:t>José Saramago, escritor, novelista y poeta portugués, premio Nobel de Literatura. </a:t>
            </a:r>
            <a:endParaRPr b="1" i="1" lang="en-US" sz="32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1d86cd"/>
                </a:solidFill>
                <a:latin typeface="Berlin Sans FB"/>
              </a:rPr>
              <a:t>HOMENAJE.</a:t>
            </a:r>
            <a:endParaRPr b="1" i="1" lang="en-US" sz="32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60" name="Picture 11" descr="http://www.epdlp.com/fotos/pluma.gif"/>
          <p:cNvPicPr/>
          <p:nvPr/>
        </p:nvPicPr>
        <p:blipFill>
          <a:blip r:embed="rId2"/>
          <a:stretch/>
        </p:blipFill>
        <p:spPr>
          <a:xfrm>
            <a:off x="6516720" y="5157720"/>
            <a:ext cx="503280" cy="100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8"/>
          <p:cNvSpPr/>
          <p:nvPr/>
        </p:nvSpPr>
        <p:spPr>
          <a:xfrm>
            <a:off x="5580000" y="2133720"/>
            <a:ext cx="33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Berlin Sans FB"/>
              </a:rPr>
              <a:t>- La derrota tiene algo positivo, nunca es definitiva. En cambio la victoria tiene algo negativo, jamás es definitiva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29" name="Picture 9" descr="15-jose-saramago-por-pedro-covo"/>
          <p:cNvPicPr/>
          <p:nvPr/>
        </p:nvPicPr>
        <p:blipFill>
          <a:blip r:embed="rId2"/>
          <a:stretch/>
        </p:blipFill>
        <p:spPr>
          <a:xfrm>
            <a:off x="324000" y="144360"/>
            <a:ext cx="5003640" cy="6524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2463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0920" y="1341360"/>
            <a:ext cx="374328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- Las tres enfermedades del hombre actual son la incomunicación, la revolución tecnológica y su vida centrada en su triunfo personal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32" name="Picture 10" descr="Jose-Saramago-1"/>
          <p:cNvPicPr/>
          <p:nvPr/>
        </p:nvPicPr>
        <p:blipFill>
          <a:blip r:embed="rId2"/>
          <a:stretch/>
        </p:blipFill>
        <p:spPr>
          <a:xfrm>
            <a:off x="4211640" y="549360"/>
            <a:ext cx="4741920" cy="5800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1" descr="jose-saramago"/>
          <p:cNvPicPr/>
          <p:nvPr/>
        </p:nvPicPr>
        <p:blipFill>
          <a:blip r:embed="rId2"/>
          <a:stretch/>
        </p:blipFill>
        <p:spPr>
          <a:xfrm>
            <a:off x="152280" y="152280"/>
            <a:ext cx="2971800" cy="2894040"/>
          </a:xfrm>
          <a:prstGeom prst="rect">
            <a:avLst/>
          </a:prstGeom>
          <a:ln w="0">
            <a:noFill/>
          </a:ln>
        </p:spPr>
      </p:pic>
      <p:sp>
        <p:nvSpPr>
          <p:cNvPr id="234" name="Rectángulo 8"/>
          <p:cNvSpPr/>
          <p:nvPr/>
        </p:nvSpPr>
        <p:spPr>
          <a:xfrm>
            <a:off x="3352680" y="228600"/>
            <a:ext cx="556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"Hoy la escuela no puede educar porque no tiene medios y para instruirlos le cuesta muchísimo. Pero instrucción es trasmisión de conocimientos y educar es inculcar valores, por lo que ninguno puede suplir lo que compete a otro. Yo fui educado por una familia de analfabetos, que me inculcaron valores, sin muchas palabras, pero los aprendí"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8"/>
          <p:cNvSpPr/>
          <p:nvPr/>
        </p:nvSpPr>
        <p:spPr>
          <a:xfrm>
            <a:off x="684360" y="3789360"/>
            <a:ext cx="792144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¿Qué clase de mundo es éste que puede mandar máquinas a Marte y no hace nada para detener el asesinato de un ser humano?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- Pienso que todos estamos ciegos. Somos ciegos que pueden ver, pero que no miran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36" name="Picture 9" descr="1247275795_Jose%20Saramago-Libros"/>
          <p:cNvPicPr/>
          <p:nvPr/>
        </p:nvPicPr>
        <p:blipFill>
          <a:blip r:embed="rId2"/>
          <a:stretch/>
        </p:blipFill>
        <p:spPr>
          <a:xfrm>
            <a:off x="2340000" y="189000"/>
            <a:ext cx="4610160" cy="3328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7"/>
          <p:cNvSpPr/>
          <p:nvPr/>
        </p:nvSpPr>
        <p:spPr>
          <a:xfrm>
            <a:off x="250920" y="1000080"/>
            <a:ext cx="4103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- No te pido que me lo cuentes todo, tienes derecho a guardar tus secretos, con una única e irrenunciable excepción, aquellos de los que dependa tu vida, tu futuro, tu felicidad, ésos quiero saberlos, tengo derecho, y tú no me lo puedes negar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38" name="Picture 18" descr="jose-saramago 2"/>
          <p:cNvPicPr/>
          <p:nvPr/>
        </p:nvPicPr>
        <p:blipFill>
          <a:blip r:embed="rId2"/>
          <a:stretch/>
        </p:blipFill>
        <p:spPr>
          <a:xfrm>
            <a:off x="4510080" y="189000"/>
            <a:ext cx="4667400" cy="604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9"/>
          <p:cNvSpPr/>
          <p:nvPr/>
        </p:nvSpPr>
        <p:spPr>
          <a:xfrm>
            <a:off x="1547640" y="4395960"/>
            <a:ext cx="6337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El poder real es económico, entonces no tiene sentido hablar de democracia.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cc00"/>
                </a:solidFill>
                <a:latin typeface="Berlin Sans FB"/>
              </a:rPr>
              <a:t>- No busques trabajo: escribe.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40" name="Picture 2" descr="Las gafas y la maquina de escribir"/>
          <p:cNvPicPr/>
          <p:nvPr/>
        </p:nvPicPr>
        <p:blipFill>
          <a:blip r:embed="rId2"/>
          <a:stretch/>
        </p:blipFill>
        <p:spPr>
          <a:xfrm>
            <a:off x="900000" y="765000"/>
            <a:ext cx="4754520" cy="3146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http://bibliblogue.files.wordpress.com/2009/01/memorial4lx.jpg"/>
          <p:cNvPicPr/>
          <p:nvPr/>
        </p:nvPicPr>
        <p:blipFill>
          <a:blip r:embed="rId3"/>
          <a:stretch/>
        </p:blipFill>
        <p:spPr>
          <a:xfrm>
            <a:off x="6012000" y="765000"/>
            <a:ext cx="2004840" cy="3213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Archivo:Jose Saramago-Sep20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333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2 Rectángulo"/>
          <p:cNvSpPr/>
          <p:nvPr/>
        </p:nvSpPr>
        <p:spPr>
          <a:xfrm>
            <a:off x="1042920" y="4076640"/>
            <a:ext cx="70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3300"/>
                </a:solidFill>
                <a:latin typeface="Berlin Sans FB"/>
              </a:rPr>
              <a:t>"Todo el mundo me dice que tengo que hacer ejercicio. Que es bueno para mi salud. Pero nunca he escuchado a nadie que le diga a un deportista; tienes que leer." </a:t>
            </a:r>
            <a:endParaRPr b="1" i="1" lang="en-US" sz="2800" spc="-1" strike="noStrike">
              <a:solidFill>
                <a:srgbClr val="ffffff"/>
              </a:solidFill>
              <a:latin typeface="Berlin Sans FB"/>
            </a:endParaRPr>
          </a:p>
        </p:txBody>
      </p:sp>
      <p:pic>
        <p:nvPicPr>
          <p:cNvPr id="244" name="Picture 2" descr="José Saramago"/>
          <p:cNvPicPr/>
          <p:nvPr/>
        </p:nvPicPr>
        <p:blipFill>
          <a:blip r:embed="rId2"/>
          <a:stretch/>
        </p:blipFill>
        <p:spPr>
          <a:xfrm>
            <a:off x="611280" y="836640"/>
            <a:ext cx="7972200" cy="2879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8:19:09Z</dcterms:created>
  <dc:creator>Refleja</dc:creator>
  <dc:description/>
  <dc:language>en-US</dc:language>
  <cp:lastModifiedBy>Jorge F. Bujdud Cervantes</cp:lastModifiedBy>
  <dcterms:modified xsi:type="dcterms:W3CDTF">2011-02-08T18:33:49Z</dcterms:modified>
  <cp:revision>32</cp:revision>
  <dc:subject/>
  <dc:title>Diapositiva 1</dc:title>
</cp:coreProperties>
</file>