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01%20MAMA%20VIEJA.wav" ContentType="audio/x-wav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3C15-3C6D-41CF-9BA4-4DAA16FF9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253C-37E3-4C20-8CBD-96BDF2227A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F9E2-CE76-4F6A-9F5B-DCA2334594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8B4C-57B1-416E-BD48-C08FD9D8BB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2DA7-F355-47FC-ABD6-44DBFA3EA1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68A9-5DAE-47DF-A863-77B955F5CB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95AB-8297-4FB2-9041-630C7D5C71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C85C-04C7-4F3C-80A8-BD804CFE2A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0FC2-411A-4E48-AFAA-7B9F1BE8CD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CE3E-5D11-4ECF-8651-0DE50091B2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83AC-6E89-4923-B1E0-A38D3C00AE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C353-9CB6-42D2-AF81-EEEF11013A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646D-9CAF-483D-A46E-95ED994195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5EAF-DD63-46A5-9378-75EBA6E381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753D-6E71-403F-B1D5-DDD7F14483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DE9C-F8A4-4E1C-8B7A-95CCF88489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7E89-20E3-4B6B-819E-A3FC94A3DE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69C7-B53B-4654-8E47-63A304681E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2AD8-E538-4A11-9830-498DED08B5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5A3D-1FEE-459F-B04E-304B2DBC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4A4E-B531-497C-AB8D-13B99F5A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AE52-E6E3-447B-8747-FF36268E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9031-A009-42B4-BE70-5007E4BC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66DE-672A-497E-9E05-99B76D01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8C95-4558-49A9-9112-E7F828BC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CDE4-5719-4E7F-A600-90E1643A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118C-051E-46F2-B669-B13A11A5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EC7A-B891-4376-8432-98D43CEA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B12D-C172-44D6-A901-6D96D7A4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C367-E2DD-45B0-91DA-4FA88728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2524-15A1-4717-BC20-55C6A64C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C4BB-4641-4C59-BA75-081A9A30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8328-78F8-449F-8F90-8CFD5308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0777-273C-4CDE-9421-C928FB0E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D834-B6BA-47A7-A2D5-EAC7B661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5678-DF5B-4623-933A-1B1EC2B5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698A-CA58-484B-9EF1-76ED57F2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3E61-C4D1-4730-B0CD-B5EAA200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32BA-4F6E-4CB6-B050-D2A550AA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4B8A-3A2D-45A3-9537-8B467484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C3D8-FFE8-4D90-A488-2F0FF37D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B598-56F7-4E5D-808A-2473BCB8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237D-8F19-4506-934F-C493FA92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9658-7AA7-4376-ADFE-49AD02644D57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66B9-AC2D-4226-BA96-8B720CA11BC1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audio" Target="../media/01%20MAMA%20VIEJA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2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1219320" y="57150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Narrow"/>
              </a:rPr>
              <a:t>Para que los buenos amig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Narrow"/>
              </a:rPr>
              <a:t>disfruten de estos reales pensamien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457200" y="457200"/>
            <a:ext cx="3048120" cy="217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50911" dir="2700000" blurRad="0" rotWithShape="0">
                    <a:srgbClr val="c0c0c0"/>
                  </a:outerShdw>
                </a:effectLst>
                <a:latin typeface="Impact"/>
              </a:rPr>
              <a:t>YA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50911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50911" dir="2700000" blurRad="0" rotWithShape="0">
                    <a:srgbClr val="c0c0c0"/>
                  </a:outerShdw>
                </a:effectLst>
                <a:latin typeface="Impact"/>
              </a:rPr>
              <a:t>SOY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50911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50911" dir="2700000" blurRad="0" rotWithShape="0">
                    <a:srgbClr val="c0c0c0"/>
                  </a:outerShdw>
                </a:effectLst>
                <a:latin typeface="Impact"/>
              </a:rPr>
              <a:t>VIEJO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50911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3"/>
    <p:sndAc>
      <p:stSnd>
        <p:snd r:embed="rId8" name="01%20MAMA%20VIEJ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6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3 Rectángulo"/>
          <p:cNvSpPr/>
          <p:nvPr/>
        </p:nvSpPr>
        <p:spPr>
          <a:xfrm>
            <a:off x="5410080" y="190512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o decir “No” y querer decirl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o decir “Si”   y querer decirlo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4 Rectángulo"/>
          <p:cNvSpPr/>
          <p:nvPr/>
        </p:nvSpPr>
        <p:spPr>
          <a:xfrm>
            <a:off x="4876920" y="434340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vas envejeciendo, es más fácil ser positiv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 preocupas menos          de lo que las otras personas puedan pensar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6 Imagen" descr="+++000-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50000"/>
          </a:xfrm>
          <a:prstGeom prst="rect">
            <a:avLst/>
          </a:prstGeom>
          <a:ln w="0">
            <a:noFill/>
          </a:ln>
        </p:spPr>
      </p:pic>
      <p:sp>
        <p:nvSpPr>
          <p:cNvPr id="124" name="7 Rectángulo"/>
          <p:cNvSpPr/>
          <p:nvPr/>
        </p:nvSpPr>
        <p:spPr>
          <a:xfrm>
            <a:off x="380880" y="10666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sta me he ganado el derecho de estar equivocado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8 Rectángulo" descr=""/>
          <p:cNvPicPr/>
          <p:nvPr/>
        </p:nvPicPr>
        <p:blipFill>
          <a:blip r:embed="rId2"/>
          <a:stretch/>
        </p:blipFill>
        <p:spPr>
          <a:xfrm>
            <a:off x="281160" y="3651120"/>
            <a:ext cx="4937040" cy="1165320"/>
          </a:xfrm>
          <a:prstGeom prst="rect">
            <a:avLst/>
          </a:prstGeom>
          <a:ln w="0">
            <a:noFill/>
          </a:ln>
        </p:spPr>
      </p:pic>
      <p:pic>
        <p:nvPicPr>
          <p:cNvPr id="126" name="9 Rectángulo" descr=""/>
          <p:cNvPicPr/>
          <p:nvPr/>
        </p:nvPicPr>
        <p:blipFill>
          <a:blip r:embed="rId3"/>
          <a:stretch/>
        </p:blipFill>
        <p:spPr>
          <a:xfrm>
            <a:off x="298440" y="2584440"/>
            <a:ext cx="4707000" cy="671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3 Imagen" descr="+++000-3+.jp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457200" y="111960"/>
            <a:ext cx="83818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 gusta ser la persona en la que me he converti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voy a vivir para siempre…pero mientras esté aquí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erderé tiempo en lamentar de lo que pudo se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preocuparme de lo que será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8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3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3581280" y="4456080"/>
            <a:ext cx="52578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eré postre todos los días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i así lo deseo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8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380880" y="161640"/>
            <a:ext cx="7848720" cy="18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ar sencillament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ar generosament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blar amablement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resto… dejárselo A Dios</a:t>
            </a:r>
            <a:r>
              <a:rPr b="1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3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533520" y="30492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Qué bello es contemplar las flores y aspirar su fragancia en los ratos de nuestra vejez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3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609480" y="2286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¡Que bellas son las maripos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que vuelan de flor en flo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5 Imagen" descr="+++000-3+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Rectangle 10" descr=""/>
          <p:cNvPicPr/>
          <p:nvPr/>
        </p:nvPicPr>
        <p:blipFill>
          <a:blip r:embed="rId2"/>
          <a:stretch/>
        </p:blipFill>
        <p:spPr>
          <a:xfrm>
            <a:off x="219240" y="3724200"/>
            <a:ext cx="7572240" cy="294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6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5181480" y="2209680"/>
            <a:ext cx="373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¡¡¡¡Sonrían cada mañana porque Dios se ha despertad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 que t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ha colgado el Sol en tus ventanas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7 CuadroTexto"/>
          <p:cNvSpPr/>
          <p:nvPr/>
        </p:nvSpPr>
        <p:spPr>
          <a:xfrm>
            <a:off x="7618680" y="647712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ares As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7000">
    <p:wheel spokes="3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3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8"/>
          <p:cNvSpPr/>
          <p:nvPr/>
        </p:nvSpPr>
        <p:spPr>
          <a:xfrm>
            <a:off x="152280" y="694440"/>
            <a:ext cx="40388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otro día una perso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ven me pregunt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sentía ser viejo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 sorprendió much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a que no me considero vie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4 Rectángulo"/>
          <p:cNvSpPr/>
          <p:nvPr/>
        </p:nvSpPr>
        <p:spPr>
          <a:xfrm>
            <a:off x="457200" y="4495680"/>
            <a:ext cx="33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 soy ahora, probablemente por primera vez en mi vida, la persona que siempre quise s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457200" y="3048120"/>
            <a:ext cx="37339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f7f7f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ffcc66">
                      <a:alpha val="80000"/>
                    </a:srgbClr>
                  </a:outerShdw>
                </a:effectLst>
                <a:latin typeface="Arial Black"/>
              </a:rPr>
              <a:t>Hacerse viejo,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7f7f7f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ffcc66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f7f7f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ffcc66">
                      <a:alpha val="80000"/>
                    </a:srgbClr>
                  </a:outerShdw>
                </a:effectLst>
                <a:latin typeface="Arial Black"/>
              </a:rPr>
              <a:t>he decidido,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7f7f7f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ffcc66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f7f7f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ffcc66">
                      <a:alpha val="80000"/>
                    </a:srgbClr>
                  </a:outerShdw>
                </a:effectLst>
                <a:latin typeface="Arial Black"/>
              </a:rPr>
              <a:t>es un regalo.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7f7f7f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ffcc66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heel spokes="3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7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0" y="271800"/>
            <a:ext cx="9144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Algunas veces me desespero de mi cuerpo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las arrugas, las ojeras, las canas y la calvicie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y a menudo me sorprendo de la persona vieja que vive en mi espej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4 Rectángulo"/>
          <p:cNvSpPr/>
          <p:nvPr/>
        </p:nvSpPr>
        <p:spPr>
          <a:xfrm>
            <a:off x="5105520" y="2819520"/>
            <a:ext cx="358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No cambiaría mis sorprendentes amig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ni mi maravillosa vid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por menos can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y un cuerpo musculoso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5 Rectángulo"/>
          <p:cNvSpPr/>
          <p:nvPr/>
        </p:nvSpPr>
        <p:spPr>
          <a:xfrm>
            <a:off x="4800600" y="53341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Al envejece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me he vuelto amable conmig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y menos crítico de mí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6 Rectángulo"/>
          <p:cNvSpPr/>
          <p:nvPr/>
        </p:nvSpPr>
        <p:spPr>
          <a:xfrm>
            <a:off x="38088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Pero no me preocupo de estas cosas por mucho tiempo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7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"/>
          <p:cNvSpPr/>
          <p:nvPr/>
        </p:nvSpPr>
        <p:spPr>
          <a:xfrm>
            <a:off x="3809880" y="389520"/>
            <a:ext cx="510552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 he convertido en mi mejor amig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me regaño por comer esa galleta extra, o por  no hacer mi cama o por comprar ese juego de jardí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no necesita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8 Rectángulo"/>
          <p:cNvSpPr/>
          <p:nvPr/>
        </p:nvSpPr>
        <p:spPr>
          <a:xfrm>
            <a:off x="4495680" y="26668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y en mi derec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ser un poco desordenad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vagante y oler las flores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9 Rectángulo"/>
          <p:cNvSpPr/>
          <p:nvPr/>
        </p:nvSpPr>
        <p:spPr>
          <a:xfrm>
            <a:off x="4267080" y="4495680"/>
            <a:ext cx="464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 visto a muchos amig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se de este mundo muy pronto, antes de que entendier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libertad que vie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hacerse vie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4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0" y="213480"/>
            <a:ext cx="9144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A quién le interesa si escojo leer o jugar en la computadora          hasta las 4 de la mañana y luego dormir hasta el medio dí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ilaré conmigo a esos maravillosos acordes de los 50´s y 60´s              y si deseo en ese momento llorar por algún amor perdido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5 Rectángulo"/>
          <p:cNvSpPr/>
          <p:nvPr/>
        </p:nvSpPr>
        <p:spPr>
          <a:xfrm>
            <a:off x="1534680" y="5486400"/>
            <a:ext cx="19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lo haré!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3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2743200" y="233640"/>
            <a:ext cx="6172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minaré por la playa sin un traje de baño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esar de las miradas de compas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os que usan bikini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4 Rectángulo"/>
          <p:cNvSpPr/>
          <p:nvPr/>
        </p:nvSpPr>
        <p:spPr>
          <a:xfrm>
            <a:off x="220968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Ellos también se harán viej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(si tienen suerte).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5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5715000" y="1226520"/>
            <a:ext cx="3124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é que algunas veces soy olvidadizo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me acuerdo de las cosas importan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3 Rectángulo"/>
          <p:cNvSpPr/>
          <p:nvPr/>
        </p:nvSpPr>
        <p:spPr>
          <a:xfrm>
            <a:off x="4572000" y="3886200"/>
            <a:ext cx="434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avés de los añ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 corazón se ha ro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Cómo no puede romper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razón cuando pier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alguien querid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cuando sufre un niñ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cuando muere tu mascota…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5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304920" y="1224360"/>
            <a:ext cx="41148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o el corazón ro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lo que nos da la fuerz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ndimiento y compas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6 Rectángulo"/>
          <p:cNvSpPr/>
          <p:nvPr/>
        </p:nvSpPr>
        <p:spPr>
          <a:xfrm>
            <a:off x="228600" y="30481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corazón que nunca se ha roto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nca sabrá de la felicid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ser imperfecto.</a:t>
            </a:r>
            <a:r>
              <a:rPr b="1" lang="es-E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6 Imagen" descr="+++000-3+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228600" y="2370600"/>
            <a:ext cx="434340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y bendito por haber vivido lo suficiente para que mis cabellos se vuelvan gris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 conservar la sonri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mi juventu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228600" y="4699080"/>
            <a:ext cx="44956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tos no se han reíd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tantos han muer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 de que sus cabel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volvieran platead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1:24:22Z</dcterms:created>
  <dc:creator>Amalia</dc:creator>
  <dc:description/>
  <dc:language>en-US</dc:language>
  <cp:lastModifiedBy>FARES ASAD</cp:lastModifiedBy>
  <dcterms:modified xsi:type="dcterms:W3CDTF">2010-12-03T16:37:53Z</dcterms:modified>
  <cp:revision>80</cp:revision>
  <dc:subject/>
  <dc:title>Un Regalo para ti</dc:title>
</cp:coreProperties>
</file>