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01%20MAMA%20VIEJA.wav" ContentType="audio/x-wav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5481-F7C9-4780-882B-BD5FA0688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3C8F-BDE5-459C-AD5D-1C3BAAD633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88C8-B5EE-4DF8-AAE1-207D1373EF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505B-9D76-48D8-9D2A-97D9037020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8823-5B9F-42EF-806B-D8A2E4AD9B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D6DA-FC2B-4686-9B08-16AD413A2D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90E5-ADB2-43A6-9145-CA4FF776D7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DD9A-AA8B-4C7E-A8F1-347D33CFA4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A52D-41F5-40C2-97AC-40BC72B26D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62E6-8D7F-4A30-975C-F0C0756329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326F-1BAA-4A08-9CD3-58DFF6AAA5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199F-10AD-42DA-A3E5-929DFE9E49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559F-FACC-4523-8884-89CAEED989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81EB-C2A5-4558-8C7E-D14ED76220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4830-9CA9-460A-B875-44F614A454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6974-EF59-48D8-ACD0-71F311B2DC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E1D2-F987-4603-9707-679F38C9E4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7F04-35E8-4CBA-89A1-11BE5FD907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0178-D2BC-4F5B-9F12-3B536D37A4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0CB-C338-4672-8FBE-66C8C5E2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D4B-26EC-4677-A26C-4342C543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C0F-3872-4259-AE67-032BB403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331-2325-4B13-9BD8-3A9073A0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F04D-9970-46E1-B066-7942EEEE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CE8E-FC8F-4FD6-A114-2E6CFF24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C67A-FD4C-4609-A30D-A0E482F1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A6E8-4C72-4262-A072-FC2AEEB6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260F-6FFE-4713-B654-8E2B6D0F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52BE-B296-44A8-8B46-1E442EC2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4486-5C08-4697-AB05-2FE09F9F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9B0-9CC9-4111-B606-B9BDB9FD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C693-01F0-4367-BA78-00E8D180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B205-5DDB-40B3-8213-286EE37F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EE4F-C7CB-4805-990F-09581446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DC37-5AC0-4C45-AAE6-437E69E2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0E59-CABB-4997-B899-3545BFED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346-7BE3-4558-9B6A-6D17FEB8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2A7-9B40-4011-B980-D5B324AA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1D1-5F15-4056-8104-9B84E1DF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F81-6035-4A10-B4C8-F13F05C1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ACC-CA52-4C69-A9BA-322D1B62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B6E-DF33-4FA6-89C1-ADFAC9E5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D5A4-F528-403A-B3C3-385FDA00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8CFB-1D18-4475-84FB-4B33EF9531BA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858E-3C87-477F-8CC8-F2EAC4C0582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audio" Target="../media/01%20MAMA%20VIEJA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219320" y="57150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Para que los buenos ami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disfruten de estos reales pensami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457200" y="457200"/>
            <a:ext cx="3048120" cy="21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YA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SOY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VIEJO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3"/>
    <p:sndAc>
      <p:stSnd>
        <p:snd r:embed="rId8" name="01%20MAMA%20VIEJ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6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3 Rectángulo"/>
          <p:cNvSpPr/>
          <p:nvPr/>
        </p:nvSpPr>
        <p:spPr>
          <a:xfrm>
            <a:off x="5410080" y="190512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o decir “No” y querer decir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o decir “Si”   y querer decirlo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4 Rectángulo"/>
          <p:cNvSpPr/>
          <p:nvPr/>
        </p:nvSpPr>
        <p:spPr>
          <a:xfrm>
            <a:off x="4876920" y="434340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vas envejeciendo, es más fácil ser positiv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preocupas menos          de lo que las otras personas puedan pensar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6 Imagen" descr="+++000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50000"/>
          </a:xfrm>
          <a:prstGeom prst="rect">
            <a:avLst/>
          </a:prstGeom>
          <a:ln w="0">
            <a:noFill/>
          </a:ln>
        </p:spPr>
      </p:pic>
      <p:sp>
        <p:nvSpPr>
          <p:cNvPr id="124" name="7 Rectángulo"/>
          <p:cNvSpPr/>
          <p:nvPr/>
        </p:nvSpPr>
        <p:spPr>
          <a:xfrm>
            <a:off x="380880" y="10666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ta me he ganado el derecho de estar equivocado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8 Rectángulo" descr=""/>
          <p:cNvPicPr/>
          <p:nvPr/>
        </p:nvPicPr>
        <p:blipFill>
          <a:blip r:embed="rId2"/>
          <a:stretch/>
        </p:blipFill>
        <p:spPr>
          <a:xfrm>
            <a:off x="281160" y="3651120"/>
            <a:ext cx="4937040" cy="1165320"/>
          </a:xfrm>
          <a:prstGeom prst="rect">
            <a:avLst/>
          </a:prstGeom>
          <a:ln w="0">
            <a:noFill/>
          </a:ln>
        </p:spPr>
      </p:pic>
      <p:pic>
        <p:nvPicPr>
          <p:cNvPr id="126" name="9 Rectángulo" descr=""/>
          <p:cNvPicPr/>
          <p:nvPr/>
        </p:nvPicPr>
        <p:blipFill>
          <a:blip r:embed="rId3"/>
          <a:stretch/>
        </p:blipFill>
        <p:spPr>
          <a:xfrm>
            <a:off x="298440" y="2584440"/>
            <a:ext cx="4707000" cy="671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3 Imagen" descr="+++000-3+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457200" y="111960"/>
            <a:ext cx="8381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gusta ser la persona en la que me he converti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oy a vivir para siempre…pero mientras esté aquí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erderé tiempo en lamentar de lo que pudo s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reocuparme de lo que será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8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3581280" y="4456080"/>
            <a:ext cx="5257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ré postre todos los días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i así lo dese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8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80880" y="161640"/>
            <a:ext cx="784872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 sencillament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 generosament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blar amablement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resto… dejárselo A Dios</a:t>
            </a: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533520" y="3049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Qué bello es contemplar las flores y aspirar su fragancia en los ratos de nuestra vejez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609480" y="228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¡Que bellas son las maripos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vuelan de flor en flo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5 Imagen" descr="+++000-3+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Rectangle 10" descr=""/>
          <p:cNvPicPr/>
          <p:nvPr/>
        </p:nvPicPr>
        <p:blipFill>
          <a:blip r:embed="rId2"/>
          <a:stretch/>
        </p:blipFill>
        <p:spPr>
          <a:xfrm>
            <a:off x="219240" y="3724200"/>
            <a:ext cx="7572240" cy="294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6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5181480" y="220968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¡¡¡¡Sonrían cada mañana porque Dios se ha despertad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que t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ha colgado el Sol en tus ventanas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7 CuadroTexto"/>
          <p:cNvSpPr/>
          <p:nvPr/>
        </p:nvSpPr>
        <p:spPr>
          <a:xfrm>
            <a:off x="7618680" y="647712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ares As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7000">
    <p:wheel spokes="3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3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152280" y="694440"/>
            <a:ext cx="40388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otro día una perso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ven me pregunt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sentía ser viejo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sorprendió much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 que no me considero vi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4 Rectángulo"/>
          <p:cNvSpPr/>
          <p:nvPr/>
        </p:nvSpPr>
        <p:spPr>
          <a:xfrm>
            <a:off x="457200" y="44956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 soy ahora, probablemente por primera vez en mi vida, la persona que siempre quise s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457200" y="3048120"/>
            <a:ext cx="3733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Hacerse viejo,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he decidido,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es un regalo.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3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7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0" y="271800"/>
            <a:ext cx="9144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Algunas veces me desespero de mi cuerpo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las arrugas, las ojeras, las canas y la calvicie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a menudo me sorprendo de la persona vieja que vive en mi espej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5105520" y="281952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No cambiaría mis sorprendentes amig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ni mi maravillosa vi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por menos can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un cuerpo musculoso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5 Rectángulo"/>
          <p:cNvSpPr/>
          <p:nvPr/>
        </p:nvSpPr>
        <p:spPr>
          <a:xfrm>
            <a:off x="4800600" y="5334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Al envejec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me he vuelto amable conmi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menos crítico de mí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6 Rectángulo"/>
          <p:cNvSpPr/>
          <p:nvPr/>
        </p:nvSpPr>
        <p:spPr>
          <a:xfrm>
            <a:off x="38088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Pero no me preocupo de estas cosas por mucho tiempo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7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3809880" y="389520"/>
            <a:ext cx="51055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he convertido en mi mejor amig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e regaño por comer esa galleta extra, o por  no hacer mi cama o por comprar ese juego de jardí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necesita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8 Rectángulo"/>
          <p:cNvSpPr/>
          <p:nvPr/>
        </p:nvSpPr>
        <p:spPr>
          <a:xfrm>
            <a:off x="44956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y en mi derec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er un poco desordena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vagante y oler las flores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9 Rectángulo"/>
          <p:cNvSpPr/>
          <p:nvPr/>
        </p:nvSpPr>
        <p:spPr>
          <a:xfrm>
            <a:off x="4267080" y="449568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visto a muchos amig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se de este mundo muy pronto, antes de que entendier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libertad que vi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hacerse vi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4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0" y="213480"/>
            <a:ext cx="9144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A quién le interesa si escojo leer o jugar en la computadora          hasta las 4 de la mañana y luego dormir hasta el medio dí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ilaré conmigo a esos maravillosos acordes de los 50´s y 60´s              y si deseo en ese momento llorar por algún amor perdido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5 Rectángulo"/>
          <p:cNvSpPr/>
          <p:nvPr/>
        </p:nvSpPr>
        <p:spPr>
          <a:xfrm>
            <a:off x="1534680" y="5486400"/>
            <a:ext cx="19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lo haré!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3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2743200" y="233640"/>
            <a:ext cx="6172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inaré por la playa sin un traje de baño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sar de las miradas de compas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s que usan bikini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4 Rectángulo"/>
          <p:cNvSpPr/>
          <p:nvPr/>
        </p:nvSpPr>
        <p:spPr>
          <a:xfrm>
            <a:off x="220968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Ellos también se harán viej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(si tienen suerte).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5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715000" y="1226520"/>
            <a:ext cx="31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é que algunas veces soy olvidadizo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me acuerdo de las cosas importan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3 Rectángulo"/>
          <p:cNvSpPr/>
          <p:nvPr/>
        </p:nvSpPr>
        <p:spPr>
          <a:xfrm>
            <a:off x="4572000" y="3886200"/>
            <a:ext cx="434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avés de los añ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 corazón se ha ro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Cómo no puede romper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razón cuando pier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alguien queri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cuando sufre un niñ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cuando muere tu mascota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5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304920" y="1224360"/>
            <a:ext cx="4114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el corazón ro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o que nos da la fuerz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ndimiento y compas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6 Rectángulo"/>
          <p:cNvSpPr/>
          <p:nvPr/>
        </p:nvSpPr>
        <p:spPr>
          <a:xfrm>
            <a:off x="228600" y="30481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orazón que nunca se ha roto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nca sabrá de la felicid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ser imperfecto.</a:t>
            </a: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6 Imagen" descr="+++000-3+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228600" y="2370600"/>
            <a:ext cx="43434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y bendito por haber vivido lo suficiente para que mis cabellos se vuelvan gris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conservar la sonri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mi juventu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228600" y="4699080"/>
            <a:ext cx="44956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tos no se han reí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tantos han muer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de que sus cabel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volvieran platead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1:24:22Z</dcterms:created>
  <dc:creator>Amalia</dc:creator>
  <dc:description/>
  <dc:language>en-US</dc:language>
  <cp:lastModifiedBy>FARES ASAD</cp:lastModifiedBy>
  <dcterms:modified xsi:type="dcterms:W3CDTF">2010-12-03T16:37:53Z</dcterms:modified>
  <cp:revision>80</cp:revision>
  <dc:subject/>
  <dc:title>Un Regalo para ti</dc:title>
</cp:coreProperties>
</file>