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02594-57EE-4C43-BD54-936622ABE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38680-A409-41BC-ABC5-3880DD4BF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33A9E-CCDC-416B-B440-C0A7A3F7C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DBB88-BF34-4E13-BCD9-2EA65FF3E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98490-3408-4A1A-806C-C838F0D74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F3654-C307-4418-BF38-4F0D9B5BB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AB35C-5D9B-43DE-8E4E-BEDF0E7A2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1BFE2-2A79-414E-B25A-AA0240C39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91067-A66D-479A-95EE-9B45527F3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F87D6-92CF-41DC-A39D-3171ED606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AFC96-67E5-48BD-8960-94655181F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B0486-DBB1-4499-BD1D-A7F6D1AA7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D989B-D10F-4A2A-8F90-9BD4C9389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9C5C4-CC67-44CB-87CD-59D23BED8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F3FA8-EE58-4D2B-9B73-9AE8AD8BE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EB2E1-9DCF-47A8-83BF-233267D97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5A029-88B8-491D-80F4-193664FDA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33E3E-A6C3-44A7-90C5-1ACA5CA98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81EA1-794E-4A7F-B6B0-E3B969C40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EA213-B5E9-4E96-942A-7E18BA63A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AF762-43AD-4E56-9D20-C091066A8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1592F-766D-4CD3-94D4-5CD2C2569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BF5F5-760E-4465-84D3-F9E143556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33768-A2C8-4823-B7CB-F5F4750D7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39A3-298B-4A0C-9576-E1A7283FEFC4}"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44C7-B988-4DFD-9D60-80090F92B79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28440"/>
            <a:ext cx="7772400" cy="1600200"/>
          </a:xfrm>
          <a:prstGeom prst="rect">
            <a:avLst/>
          </a:prstGeom>
          <a:noFill/>
          <a:ln w="0">
            <a:noFill/>
          </a:ln>
          <a:effectLst>
            <a:outerShdw dist="17819" dir="2700000" blurRad="0" rotWithShape="0">
              <a:srgbClr val="eefaa8"/>
            </a:outerShdw>
          </a:effectLst>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3d5f45"/>
                </a:solidFill>
                <a:latin typeface="Comic Sans MS"/>
              </a:rPr>
              <a:t>Cinco cosas importantes que te enseña la vida:</a:t>
            </a:r>
            <a:endParaRPr b="0" lang="en-US" sz="48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391520" cy="38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d5f45"/>
                </a:solidFill>
                <a:latin typeface="Comic Sans MS"/>
              </a:rPr>
              <a:t>1.- LA PREGUNTA MÁS IMPORTANTE</a:t>
            </a:r>
            <a:endParaRPr b="0" lang="en-US" sz="2800" spc="-1" strike="noStrike">
              <a:solidFill>
                <a:srgbClr val="004c2b"/>
              </a:solidFill>
              <a:latin typeface="Times New Roman"/>
            </a:endParaRPr>
          </a:p>
        </p:txBody>
      </p:sp>
      <p:sp>
        <p:nvSpPr>
          <p:cNvPr id="85"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fontScale="99000"/>
          </a:bodyPr>
          <a:p>
            <a:pPr marL="339480" indent="-339480">
              <a:lnSpc>
                <a:spcPct val="11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DURANTE MI SEGUNDO SEMESTRE EN LA ESCUELA DE ENFERMERÍA, NUESTRO PROFESOR NOS DIO UN EXAMEN SORPRESA. YO ERA UN ESTUDIANTE CONSCIENTE Y LEÍ RÁPIDAMENTE TODAS LAS PREGUNTAS, HASTA QUE LEÍ LA ULTIMA: "¿CUÁL ES EL NOMBRE DE LA MUJER QUE LIMPIA LA ESCUELA?”</a:t>
            </a:r>
            <a:endParaRPr b="0" lang="en-US" sz="1700" spc="-1" strike="noStrike">
              <a:solidFill>
                <a:srgbClr val="333333"/>
              </a:solidFill>
              <a:latin typeface="Times New Roman"/>
            </a:endParaRPr>
          </a:p>
          <a:p>
            <a:pPr marL="339480" indent="-339480">
              <a:lnSpc>
                <a:spcPct val="11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SEGURAMENTE ESTO ERA ALGÚN TIPO DE BROMA. YO HABÍA VISTO MUCHAS VECES A LA MUJER QUE LIMPIABA LA ESCUELA.</a:t>
            </a:r>
            <a:br>
              <a:rPr sz="1700"/>
            </a:br>
            <a:r>
              <a:rPr b="1" lang="es-AR" sz="1700" spc="-1" strike="noStrike">
                <a:solidFill>
                  <a:srgbClr val="333333"/>
                </a:solidFill>
                <a:latin typeface="Comic Sans MS"/>
              </a:rPr>
              <a:t>ELLA ERA ALTA, CABELLO OSCURO, COMO DE CINCUENTA AÑOS, PERO, ¿CÓMO IBA YO A SABER SU NOMBRE?</a:t>
            </a:r>
            <a:br>
              <a:rPr sz="1700"/>
            </a:br>
            <a:r>
              <a:rPr b="1" lang="es-AR" sz="1700" spc="-1" strike="noStrike">
                <a:solidFill>
                  <a:srgbClr val="333333"/>
                </a:solidFill>
                <a:latin typeface="Comic Sans MS"/>
              </a:rPr>
              <a:t>ENTREGUÉ MI EXAMEN, DEJANDO LA ÚLTIMA PREGUNTA EN BLANCO.</a:t>
            </a:r>
            <a:endParaRPr b="0" lang="en-US" sz="1700" spc="-1" strike="noStrike">
              <a:solidFill>
                <a:srgbClr val="333333"/>
              </a:solidFill>
              <a:latin typeface="Times New Roman"/>
            </a:endParaRPr>
          </a:p>
          <a:p>
            <a:pPr marL="339480" indent="-339480">
              <a:lnSpc>
                <a:spcPct val="11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ANTES DE QUE TERMINARA LA CLASE, ALGUIEN LE PREGUNTÓ AL PROFESOR SI LA ÚLTIMA PREGUNTA CONTARÍA PARA LA NOTA DEL EXAMEN. "ABSOLUTAMENTE", DIJO EL PROFESOR. "EN SUS CARRERAS USTEDES CONOCERÁN MUCHAS PERSONAS. TODAS SON IMPORTANTES. ELLOS MERECEN SU ATENCIÓN Y CUIDADO, AUNQUE SOLO LES SONRÍAN DIGAN: '¡HOLA!'"</a:t>
            </a:r>
            <a:br>
              <a:rPr sz="1700"/>
            </a:br>
            <a:r>
              <a:rPr b="1" lang="es-AR" sz="1700" spc="-1" strike="noStrike">
                <a:solidFill>
                  <a:srgbClr val="333333"/>
                </a:solidFill>
                <a:latin typeface="Comic Sans MS"/>
              </a:rPr>
              <a:t>NUNCA OLVIDÉ ESA LECCIÓN. TAMBIÉN APRENDÍ QUE SU NOMBRE ERA DOROTHY.</a:t>
            </a:r>
            <a:endParaRPr b="0" lang="en-US" sz="1700" spc="-1" strike="noStrike">
              <a:solidFill>
                <a:srgbClr val="333333"/>
              </a:solidFill>
              <a:latin typeface="Times New Roman"/>
            </a:endParaRPr>
          </a:p>
          <a:p>
            <a:pPr marL="339480" indent="0" algn="ctr">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u="sng">
                <a:solidFill>
                  <a:srgbClr val="f77b27"/>
                </a:solidFill>
                <a:uFillTx/>
                <a:latin typeface="Comic Sans MS"/>
              </a:rPr>
              <a:t>TODOS SOMOS IMPORTANTES</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d5f45"/>
                </a:solidFill>
                <a:latin typeface="Comic Sans MS"/>
              </a:rPr>
              <a:t>2.- AUXILIO EN LA LLUVIA</a:t>
            </a:r>
            <a:endParaRPr b="0" lang="en-US" sz="2800" spc="-1" strike="noStrike">
              <a:solidFill>
                <a:srgbClr val="004c2b"/>
              </a:solidFill>
              <a:latin typeface="Times New Roman"/>
            </a:endParaRPr>
          </a:p>
        </p:txBody>
      </p:sp>
      <p:sp>
        <p:nvSpPr>
          <p:cNvPr id="87" name="PlaceHolder 2"/>
          <p:cNvSpPr>
            <a:spLocks noGrp="1"/>
          </p:cNvSpPr>
          <p:nvPr>
            <p:ph/>
          </p:nvPr>
        </p:nvSpPr>
        <p:spPr>
          <a:xfrm>
            <a:off x="228600" y="762120"/>
            <a:ext cx="8610480" cy="579096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UNA NOCHE, A LAS 11:30 P.M., UNA MUJER AFROAMERICANA, DE EDAD AVANZADA ESTABA PARADA EN EL ACOTAMIENTO DE UNA AUTOPISTA DE ALABAMA, TRATANDO DE SOPORTAR UNA FUERTE TORMENTA. SU COCHE SE HABÍA DESCOMPUESTO Y ELLA NECESITABA DESESPERADAMENTE QUE LA LLEVARAN. TODA MOJADA, ELLA DECIDIÓ DETENER EL PRÓXIMO COCHE. </a:t>
            </a:r>
            <a:endParaRPr b="0" lang="en-US" sz="1600" spc="-1" strike="noStrike">
              <a:solidFill>
                <a:srgbClr val="333333"/>
              </a:solidFill>
              <a:latin typeface="Times New Roman"/>
            </a:endParaRPr>
          </a:p>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UN JOVEN BLANCO SE DETUVO A AYUDARLA, A PESAR DE TODOS LOS CONFLICTOS QUE HABÍAN OCURRIDO DURANTE LOS 60. EL JOVEN LA LLEVÓ A UN LUGAR SEGURO, LA AYUDÓ A OBTENER ASISTENCIA Y LA PUSO EN UN TAXI. ELLA PARECÍA ESTAR BASTANTE APURADA. ELLA ANOTÓ LA DIRECCIÓN DEL JOVEN, LE AGRADECIÓ Y SE FUE.</a:t>
            </a:r>
            <a:endParaRPr b="0" lang="en-US" sz="1600" spc="-1" strike="noStrike">
              <a:solidFill>
                <a:srgbClr val="333333"/>
              </a:solidFill>
              <a:latin typeface="Times New Roman"/>
            </a:endParaRPr>
          </a:p>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SIETE DÍAS PASARON, CUANDO TOCARON LA PUERTA DE SU CASA. PARA SU SORPRESA, UN TELEVISOR PANTALLA GIGANTE A COLOR LE FUE ENTREGADO POR CORREO A SU CASA. TENIA UNA NOTA ESPECIAL ADJUNTA AL PAQUETE. ESTA DECÍA: "MUCHÍSIMAS GRACIAS POR AYUDARME EN LA AUTOPISTA LA OTRA NOCHE. LA LLUVIA ANEGÓ NO SÓLO MI ROPA SINO MI ESPÍRITU.</a:t>
            </a:r>
            <a:br>
              <a:rPr sz="1600"/>
            </a:br>
            <a:r>
              <a:rPr b="1" lang="es-AR" sz="1600" spc="-1" strike="noStrike">
                <a:solidFill>
                  <a:srgbClr val="333333"/>
                </a:solidFill>
                <a:latin typeface="Comic Sans MS"/>
              </a:rPr>
              <a:t>ENTONCES APARECIÓ USTED. GRACIAS A USTED, PUDE LLEGAR AL LADO DE LA CAMA DE MI MARIDO AGONIZANTE, JUSTO ANTES DE QUE MURIERA. DIOS LO BENDIGA POR AYUDARME Y POR SERVIR A OTROS DESINTERESADAMENTE.</a:t>
            </a:r>
            <a:br>
              <a:rPr sz="1600"/>
            </a:br>
            <a:r>
              <a:rPr b="1" lang="es-AR" sz="1600" spc="-1" strike="noStrike">
                <a:solidFill>
                  <a:srgbClr val="333333"/>
                </a:solidFill>
                <a:latin typeface="Comic Sans MS"/>
              </a:rPr>
              <a:t>SINCERAMENTE: LA SEÑORA DE NAT KING COLE."</a:t>
            </a:r>
            <a:endParaRPr b="0" lang="en-US" sz="1600" spc="-1" strike="noStrike">
              <a:solidFill>
                <a:srgbClr val="333333"/>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77b27"/>
                </a:solidFill>
                <a:uFillTx/>
                <a:latin typeface="Comic Sans MS"/>
              </a:rPr>
              <a:t>NO ESPERES NADA A CAMBIO Y LO RECIBIRÁ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04920"/>
            <a:ext cx="7924680" cy="38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d5f45"/>
                </a:solidFill>
                <a:latin typeface="Comic Sans MS"/>
              </a:rPr>
              <a:t>3.- SIEMPRE RECUERDA AQUELLOS A QUIENES SIRVES.</a:t>
            </a:r>
            <a:endParaRPr b="0" lang="en-US" sz="2000" spc="-1" strike="noStrike">
              <a:solidFill>
                <a:srgbClr val="004c2b"/>
              </a:solidFill>
              <a:latin typeface="Times New Roman"/>
            </a:endParaRPr>
          </a:p>
        </p:txBody>
      </p:sp>
      <p:sp>
        <p:nvSpPr>
          <p:cNvPr id="89"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343080">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EN LOS DÍAS EN QUE UN HELADO COSTABA MUCHO MENOS, UN NIÑO DE 10 AÑOS ENTRÓ EN UN ESTABLECIMIENTO Y SE SENTÓ A UNA MESA. LA MESERA PUSO UN VASO DE AGUA EN FRENTE DE ÉL. "¿CUÁNTO CUESTA UN HELADO DE CHOCOLATE CON ALMENDRAS?" PREGUNTO EL NIÑO. "CINCUENTA CENTAVOS", RESPONDIÓ LA MESERA. EL NIÑO SACÓ SU MANO DE SU BOLSILLO Y EXAMINÓ UN NÚMERO DE MONEDAS.  "¿CUÁNTO CUESTA UN HELADO SOLO?", VOLVIÓ A PREGUNTAR.</a:t>
            </a:r>
            <a:endParaRPr b="0" lang="en-US" sz="1700" spc="-1" strike="noStrike">
              <a:solidFill>
                <a:srgbClr val="333333"/>
              </a:solidFill>
              <a:latin typeface="Times New Roman"/>
            </a:endParaRPr>
          </a:p>
          <a:p>
            <a:pPr marL="343080" indent="-343080">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ALGUNAS PERSONAS ESTABAN ESPERANDO POR UNA MESA Y LA MESERA YA ESTABA UN POCO IMPACIENTE. "TREINTA Y CINCO CENTAVOS", DIJO ELLA BRUSCAMENTE. EL NIÑO VOLVIÓ A CONTAR LAS MONEDAS. "QUIERO EL HELADO SOLO", DIJO EL NIÑO. LA MESERA LE TRAJO EL HELADO, Y PUSO LA CUENTA EN LA MESA Y SE FUE.</a:t>
            </a:r>
            <a:endParaRPr b="0" lang="en-US" sz="1700" spc="-1" strike="noStrike">
              <a:solidFill>
                <a:srgbClr val="333333"/>
              </a:solidFill>
              <a:latin typeface="Times New Roman"/>
            </a:endParaRPr>
          </a:p>
          <a:p>
            <a:pPr marL="343080" indent="-343080">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EL NIÑO TERMINÓ EL HELADO, PAGÓ EN LA CAJA Y SE FUE. CUANDO LA MESERA VOLVIÓ, ELLA EMPEZÓ A LIMPIAR LA MESA Y ENTONCES LE COSTÓ TRAGAR SALIVA CON LO QUE VIO. ALLÍ, PUESTO ORDENADAMENTE JUNTO AL PLATO VACÍO, HABÍA VEINTICINCO CENTAVOS... SU PROPINA.</a:t>
            </a:r>
            <a:br>
              <a:rPr sz="1700"/>
            </a:br>
            <a:r>
              <a:rPr b="1" lang="es-AR" sz="1700" spc="-1" strike="noStrike">
                <a:solidFill>
                  <a:srgbClr val="333333"/>
                </a:solidFill>
                <a:latin typeface="Comic Sans MS"/>
              </a:rPr>
              <a:t> </a:t>
            </a:r>
            <a:endParaRPr b="0" lang="en-US" sz="1700" spc="-1" strike="noStrike">
              <a:solidFill>
                <a:srgbClr val="333333"/>
              </a:solidFill>
              <a:latin typeface="Times New Roman"/>
            </a:endParaRPr>
          </a:p>
          <a:p>
            <a:pPr marL="3430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u="sng">
                <a:solidFill>
                  <a:srgbClr val="f77b27"/>
                </a:solidFill>
                <a:uFillTx/>
                <a:latin typeface="Comic Sans MS"/>
              </a:rPr>
              <a:t>JAMÁS JUZGUES A ALGUIEN ANTES DE TIEMPO</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391520" cy="38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d5f45"/>
                </a:solidFill>
                <a:latin typeface="Comic Sans MS"/>
              </a:rPr>
              <a:t>4.- LOS OBSTÁCULOS EN NUESTRO CAMINO</a:t>
            </a:r>
            <a:endParaRPr b="0" lang="en-US" sz="2400" spc="-1" strike="noStrike">
              <a:solidFill>
                <a:srgbClr val="004c2b"/>
              </a:solidFill>
              <a:latin typeface="Times New Roman"/>
            </a:endParaRPr>
          </a:p>
        </p:txBody>
      </p:sp>
      <p:sp>
        <p:nvSpPr>
          <p:cNvPr id="91" name="PlaceHolder 2"/>
          <p:cNvSpPr>
            <a:spLocks noGrp="1"/>
          </p:cNvSpPr>
          <p:nvPr>
            <p:ph/>
          </p:nvPr>
        </p:nvSpPr>
        <p:spPr>
          <a:xfrm>
            <a:off x="228600" y="837720"/>
            <a:ext cx="8610480" cy="5715000"/>
          </a:xfrm>
          <a:prstGeom prst="rect">
            <a:avLst/>
          </a:prstGeom>
          <a:noFill/>
          <a:ln w="0">
            <a:noFill/>
          </a:ln>
        </p:spPr>
        <p:txBody>
          <a:bodyPr lIns="90000" rIns="90000" tIns="46800" bIns="46800" anchor="t">
            <a:normAutofit fontScale="98000"/>
          </a:bodyPr>
          <a:p>
            <a:pPr marL="335880" indent="-335880" algn="just">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HACE MUCHO TIEMPO, UN REY COLOCÓ UNA GRAN ROCA OBSTACULIZANDO UN CAMINO. ENTONCES SE ESCONDIÓ Y MIRÓ PARA VER SI ALGUIEN QUITABA LA TREMENDA ROCA.</a:t>
            </a:r>
            <a:endParaRPr b="0" lang="en-US" sz="1700" spc="-1" strike="noStrike">
              <a:solidFill>
                <a:srgbClr val="333333"/>
              </a:solidFill>
              <a:latin typeface="Times New Roman"/>
            </a:endParaRPr>
          </a:p>
          <a:p>
            <a:pPr marL="335880" indent="-335880" algn="just">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ALGUNOS DE LOS COMERCIANTES MÁS ADINERADOS DEL REY Y CORTESANOS VINIERON Y SIMPLEMENTE LE DIERON UNA VUELTA. MUCHOS CULPARON AL REY RUIDOSAMENTE DE NO MANTENER LOS CAMINOS DESPEJADOS, PERO NINGUNO HIZO ALGO PARA SACAR LA PIEDRA GRANDE DEL  CAMINO.</a:t>
            </a:r>
            <a:endParaRPr b="0" lang="en-US" sz="1700" spc="-1" strike="noStrike">
              <a:solidFill>
                <a:srgbClr val="333333"/>
              </a:solidFill>
              <a:latin typeface="Times New Roman"/>
            </a:endParaRPr>
          </a:p>
          <a:p>
            <a:pPr marL="335880" indent="-335880" algn="just">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ENTONCES UN CAMPESINO VINO, Y LLEVABA UNA CARGA DE VERDURAS. AL APROXIMARSE A LA ROCA, EL CAMPESINO PUSO SU CARGA EN  EL PISO Y TRATÓ DE MOVER LA ROCA A UN LADO DEL CAMINO. DESPUÉS DE EMPUJAR Y FATIGARSE MUCHO, LO LOGRÓ. MIENTRAS RECOGÍA SU CARGA DE VEGETALES, NOTÓ UNA CARTERA EN EL  SUELO, JUSTO DONDE HABÍA ESTADO LA ROCA.</a:t>
            </a:r>
            <a:endParaRPr b="0" lang="en-US" sz="1700" spc="-1" strike="noStrike">
              <a:solidFill>
                <a:srgbClr val="333333"/>
              </a:solidFill>
              <a:latin typeface="Times New Roman"/>
            </a:endParaRPr>
          </a:p>
          <a:p>
            <a:pPr marL="335880" indent="-335880" algn="just">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LA CARTERA  CONTENÍA MUCHAS MONEDAS DE ORO Y UNA NOTA DEL MISMO REY INDICANDO QUE  EL ORO ERA PARA LA PERSONA QUE REMOVIERA LA PIEDRA DEL CAMINO. EL CAMPESINO APRENDIÓ LO QUE LOS OTROS NUNCA ENTENDIERON. </a:t>
            </a:r>
            <a:endParaRPr b="0" lang="en-US" sz="1700" spc="-1" strike="noStrike">
              <a:solidFill>
                <a:srgbClr val="333333"/>
              </a:solidFill>
              <a:latin typeface="Times New Roman"/>
            </a:endParaRPr>
          </a:p>
          <a:p>
            <a:pPr marL="3358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Times New Roman"/>
            </a:endParaRPr>
          </a:p>
          <a:p>
            <a:pPr marL="3358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ff"/>
                </a:solidFill>
                <a:latin typeface="Comic Sans MS"/>
              </a:rPr>
              <a:t>	</a:t>
            </a:r>
            <a:r>
              <a:rPr b="1" lang="es-AR" sz="1900" spc="-1" strike="noStrike">
                <a:solidFill>
                  <a:srgbClr val="f77b27"/>
                </a:solidFill>
                <a:latin typeface="Comic Sans MS"/>
              </a:rPr>
              <a:t>CADA OBSTÁCULO PRESENTA UNA OPORTUNIDAD                PARA MEJORAR LA CONDICIÓN DE UNO</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391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d5f45"/>
                </a:solidFill>
                <a:latin typeface="Times New Roman"/>
              </a:rPr>
              <a:t> </a:t>
            </a:r>
            <a:r>
              <a:rPr b="1" lang="es-AR" sz="2400" spc="-1" strike="noStrike">
                <a:solidFill>
                  <a:srgbClr val="3d5f45"/>
                </a:solidFill>
                <a:latin typeface="Comic Sans MS"/>
              </a:rPr>
              <a:t>5.- DONANDO SANGRE</a:t>
            </a:r>
            <a:endParaRPr b="0" lang="en-US" sz="2400" spc="-1" strike="noStrike">
              <a:solidFill>
                <a:srgbClr val="004c2b"/>
              </a:solidFill>
              <a:latin typeface="Times New Roman"/>
            </a:endParaRPr>
          </a:p>
        </p:txBody>
      </p:sp>
      <p:sp>
        <p:nvSpPr>
          <p:cNvPr id="93"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 </a:t>
            </a:r>
            <a:r>
              <a:rPr b="1" lang="es-AR" sz="1600" spc="-1" strike="noStrike">
                <a:solidFill>
                  <a:srgbClr val="333333"/>
                </a:solidFill>
                <a:latin typeface="Comic Sans MS"/>
              </a:rPr>
              <a:t>HACE MUCHOS AÑOS, CUANDO TRABAJABA COMO VOLUNTARIO EN UN HOSPITAL DE STANFORD, CONOCÍ A UNA NIÑITA LLAMADA LIZ QUIEN SUFRÍA DE UNA EXTRAÑA ENFERMEDAD. SU ÚNICA OPORTUNIDAD DE RECUPERARSE APARENTEMENTE ERA UNA TRANSFUSIÓN DE SANGRE DE SU HERMANO DE 5 AÑOS, QUIEN HABÍA SOBREVIVIDO MILAGROSAMENTE A LA MISMA ENFERMEDAD Y HABÍA DESARROLLADO LOS ANTICUERPOS  NECESARIOS PARA COMBATIRLA.</a:t>
            </a:r>
            <a:endParaRPr b="0" lang="en-US" sz="1600" spc="-1" strike="noStrike">
              <a:solidFill>
                <a:srgbClr val="333333"/>
              </a:solidFill>
              <a:latin typeface="Times New Roman"/>
            </a:endParaRPr>
          </a:p>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EL DOCTOR EXPLICÓ LA SITUACIÓN AL HERMANO DE  LA NIÑA, Y LE PREGUNTÓ SI ESTARÍA DISPUESTO A DAR SU SANGRE A SU HERMANA. YO LO VI DUDAR POR SOLO UN MOMENTO ANTES DE TOMAR UN GRAN SUSPIRO Y DECIR: "SI, LO HARÉ, SI ESO SALVA A  LIZ.” </a:t>
            </a:r>
            <a:endParaRPr b="0" lang="en-US" sz="1600" spc="-1" strike="noStrike">
              <a:solidFill>
                <a:srgbClr val="333333"/>
              </a:solidFill>
              <a:latin typeface="Times New Roman"/>
            </a:endParaRPr>
          </a:p>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MIENTRAS LA TRANSFUSIÓN CONTINUABA, ÉL ESTABA ACOSTADO EN UNA CAMA AL LADO DE LA DE SU HERMANA, Y SONRIENTE MIENTRAS NOSOTROS LO ASISTÍAMOS A ÉL Y A SU HERMANA, VIENDO RETORNAR EL COLOR A LAS MEJILLAS DE LA NIÑA. ENTONCES LA CARA DEL NIÑO SE PUSO PÁLIDA Y SU SONRISA DESAPARECIÓ. MIRÓ AL DOCTOR Y LE PREGUNTÓ CON VOZ TEMBLOROSA: "¿A QUÉ HORA EMPEZARÉ A MORIRME?.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SIENDO SOLO UN NIÑO, NO HABÍA COMPRENDIDO AL DOCTOR; ÉL PENSABA QUE LE DARÍA TODA SU SANGRE A SU HERMANA. Y AUN ASÍ SE LA DABA.</a:t>
            </a:r>
            <a:endParaRPr b="0" lang="en-US" sz="1600" spc="-1" strike="noStrike">
              <a:solidFill>
                <a:srgbClr val="333333"/>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77b27"/>
                </a:solidFill>
                <a:uFillTx/>
                <a:latin typeface="Comic Sans MS"/>
              </a:rPr>
              <a:t>DA TODO POR QUIEN AME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533520"/>
            <a:ext cx="8534160" cy="5943600"/>
          </a:xfrm>
          <a:prstGeom prst="rect">
            <a:avLst/>
          </a:prstGeom>
          <a:noFill/>
          <a:ln w="0">
            <a:noFill/>
          </a:ln>
        </p:spPr>
        <p:txBody>
          <a:bodyPr lIns="90000" rIns="90000" tIns="46800" bIns="46800" anchor="t">
            <a:normAutofit fontScale="95000"/>
          </a:bodyPr>
          <a:p>
            <a:pPr marL="325800" indent="-325800">
              <a:lnSpc>
                <a:spcPct val="130000"/>
              </a:lnSpc>
              <a:spcBef>
                <a:spcPts val="6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33333"/>
                </a:solidFill>
                <a:latin typeface="Comic Sans MS"/>
              </a:rPr>
              <a:t>LA ACTITUD, DESPUÉS DE TODO, ES TODO.</a:t>
            </a:r>
            <a:endParaRPr b="0" lang="en-US" sz="2600" spc="-1" strike="noStrike">
              <a:solidFill>
                <a:srgbClr val="333333"/>
              </a:solidFill>
              <a:latin typeface="Times New Roman"/>
            </a:endParaRPr>
          </a:p>
          <a:p>
            <a:pPr marL="325800" indent="-325800">
              <a:lnSpc>
                <a:spcPct val="13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33"/>
                </a:solidFill>
                <a:latin typeface="Comic Sans MS"/>
              </a:rPr>
              <a:t>TIENES DOS OPCIONES AHORA:</a:t>
            </a:r>
            <a:endParaRPr b="0" lang="en-US" sz="2400" spc="-1" strike="noStrike">
              <a:solidFill>
                <a:srgbClr val="333333"/>
              </a:solidFill>
              <a:latin typeface="Times New Roman"/>
            </a:endParaRPr>
          </a:p>
          <a:p>
            <a:pPr lvl="1" marL="705600" indent="-271440">
              <a:lnSpc>
                <a:spcPct val="10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33"/>
                </a:solidFill>
                <a:latin typeface="Comic Sans MS"/>
              </a:rPr>
              <a:t>1.-GUARDAR O BORRAR ESTE E-MAIL.</a:t>
            </a:r>
            <a:endParaRPr b="0" lang="en-US" sz="2000" spc="-1" strike="noStrike">
              <a:solidFill>
                <a:srgbClr val="333333"/>
              </a:solidFill>
              <a:latin typeface="Times New Roman"/>
            </a:endParaRPr>
          </a:p>
          <a:p>
            <a:pPr lvl="1" marL="705600" indent="-271440">
              <a:lnSpc>
                <a:spcPct val="10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33"/>
                </a:solidFill>
                <a:latin typeface="Comic Sans MS"/>
              </a:rPr>
              <a:t>2.-ENVIÁRSELO A ALGUIEN A QUIEN APRECIES.</a:t>
            </a:r>
            <a:endParaRPr b="0" lang="en-US" sz="2000" spc="-1" strike="noStrike">
              <a:solidFill>
                <a:srgbClr val="333333"/>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25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33"/>
                </a:solidFill>
                <a:latin typeface="Comic Sans MS"/>
              </a:rPr>
              <a:t> </a:t>
            </a:r>
            <a:r>
              <a:rPr b="1" lang="es-AR" sz="2400" spc="-1" strike="noStrike">
                <a:solidFill>
                  <a:srgbClr val="333333"/>
                </a:solidFill>
                <a:latin typeface="Comic Sans MS"/>
              </a:rPr>
              <a:t>ESPERO QUE ESCOJAS LA OPCIÓN NUMERO DOS.</a:t>
            </a:r>
            <a:endParaRPr b="0" lang="en-US" sz="2400" spc="-1" strike="noStrike">
              <a:solidFill>
                <a:srgbClr val="333333"/>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AMA COMO NUNCA HAS QUERIDO.</a:t>
            </a: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NO DESPRECIES LA AMISTAD DE TUS AMIGOS.</a:t>
            </a: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VIVE LOS DÍAS CON FE, AMOR Y PAZ.</a:t>
            </a: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TRABAJA COMO SI NO NECESITARAS EL DINERO.</a:t>
            </a: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Y BAILA COMO SI NADIE TE VIERA.</a:t>
            </a:r>
            <a:br>
              <a:rPr sz="2400"/>
            </a:b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12:42:14Z</dcterms:created>
  <dc:creator>COMANDO DE PERSONAL</dc:creator>
  <dc:description/>
  <dc:language>en-US</dc:language>
  <cp:lastModifiedBy>Carlos Perez</cp:lastModifiedBy>
  <dcterms:modified xsi:type="dcterms:W3CDTF">2003-09-25T18:27:00Z</dcterms:modified>
  <cp:revision>9</cp:revision>
  <dc:subject/>
  <dc:title>Cinco cosas importantes que te enseña la vida:</dc:title>
</cp:coreProperties>
</file>