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05D5B-3BFD-4AD0-BC6C-F755C9AD0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63F31-EF1E-40F8-933C-AADC95185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583B7-A33E-4CB1-9B15-E2F078A22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D50A8-7E79-4F73-B5E9-23A42103D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24CC9-6F88-467A-91CA-79C4A56BE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1D9F1-9160-4A4E-9804-E3D26D8E5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0322D-127E-461C-9E14-41030D07C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CF43-C067-4F80-B974-020985D76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E45E-71BF-4931-B9DA-73F365432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79B4-A86C-4D2A-9D8C-C893937D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35ACD-CF2C-4EAC-805C-88C2101E6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163BA-6E84-444B-B367-61B2479B6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6375-22FB-4228-B9A8-BFC06E7FB80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bevel">
            <a:avLst>
              <a:gd name="adj" fmla="val 62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8028000" y="652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ffffff"/>
                </a:solidFill>
                <a:latin typeface="Arial"/>
              </a:rPr>
              <a:t>Colacio.j</a:t>
            </a:r>
            <a:endParaRPr b="0" lang="en-US" sz="1200" spc="-1" strike="noStrike">
              <a:solidFill>
                <a:srgbClr val="000000"/>
              </a:solidFill>
              <a:latin typeface="Arial"/>
            </a:endParaRPr>
          </a:p>
        </p:txBody>
      </p:sp>
      <p:sp>
        <p:nvSpPr>
          <p:cNvPr id="43" name=""/>
          <p:cNvSpPr/>
          <p:nvPr/>
        </p:nvSpPr>
        <p:spPr>
          <a:xfrm>
            <a:off x="250920" y="6524640"/>
            <a:ext cx="460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002</a:t>
            </a:r>
            <a:endParaRPr b="0" lang="en-US" sz="1200" spc="-1" strike="noStrike">
              <a:solidFill>
                <a:srgbClr val="000000"/>
              </a:solidFill>
              <a:latin typeface="Arial"/>
            </a:endParaRPr>
          </a:p>
        </p:txBody>
      </p:sp>
      <p:sp>
        <p:nvSpPr>
          <p:cNvPr id="44" name=""/>
          <p:cNvSpPr/>
          <p:nvPr/>
        </p:nvSpPr>
        <p:spPr>
          <a:xfrm>
            <a:off x="0" y="476280"/>
            <a:ext cx="5076720" cy="350028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3ª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Fátima - Secreto de Fátima.</a:t>
            </a:r>
            <a:br>
              <a:rPr sz="2000"/>
            </a:br>
            <a:br>
              <a:rPr sz="2000"/>
            </a:br>
            <a:r>
              <a:rPr b="1" lang="pt-BR" sz="2000" spc="-1" strike="noStrike">
                <a:solidFill>
                  <a:srgbClr val="ffffff"/>
                </a:solidFill>
                <a:latin typeface="Times New Roman"/>
              </a:rPr>
              <a:t>Secreto de Fátima - Por favor, re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 este  mismo  mensaje aunque usted no lo lea.</a:t>
            </a:r>
            <a:br>
              <a:rPr sz="2000"/>
            </a:br>
            <a:r>
              <a:rPr b="1" lang="pt-BR" sz="2000" spc="-1" strike="noStrike">
                <a:solidFill>
                  <a:srgbClr val="ffffff"/>
                </a:solidFill>
                <a:latin typeface="Times New Roman"/>
              </a:rPr>
              <a:t>Lo que es cierto es que la Iglesia Católica, en su época, prometió revelar</a:t>
            </a:r>
            <a:br>
              <a:rPr sz="2000"/>
            </a:br>
            <a:r>
              <a:rPr b="1" lang="pt-BR" sz="2000" spc="-1" strike="noStrike">
                <a:solidFill>
                  <a:srgbClr val="ffffff"/>
                </a:solidFill>
                <a:latin typeface="Times New Roman"/>
              </a:rPr>
              <a:t>el tercer secreto, solamente después de las fechas en cuest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 que ocurren en el texto). </a:t>
            </a:r>
            <a:br>
              <a:rPr sz="2000"/>
            </a:br>
            <a:br>
              <a:rPr sz="2000"/>
            </a:br>
            <a:r>
              <a:rPr b="1" lang="pt-BR" sz="2000" spc="-1" strike="noStrike">
                <a:solidFill>
                  <a:srgbClr val="ffffff"/>
                </a:solidFill>
                <a:latin typeface="Times New Roman"/>
              </a:rPr>
              <a:t>Y YA  PASARON 90 AÑOS DESDE LA</a:t>
            </a:r>
            <a:br>
              <a:rPr sz="2000"/>
            </a:br>
            <a:r>
              <a:rPr b="1" lang="pt-BR" sz="2000" spc="-1" strike="noStrike">
                <a:solidFill>
                  <a:srgbClr val="ffffff"/>
                </a:solidFill>
                <a:latin typeface="Times New Roman"/>
              </a:rPr>
              <a:t>APARI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DE FÁTIMA!</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2698920"/>
            <a:ext cx="9144000" cy="34480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leg</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momento de dar a conocer el mensaje de Nuestra Señora a sus familiares, sus amigos, para los amigos de ellos y para el mundo entero.</a:t>
            </a:r>
            <a:br>
              <a:rPr sz="2000"/>
            </a:br>
            <a:r>
              <a:rPr b="1" lang="pt-BR" sz="2000" spc="-1" strike="noStrike">
                <a:solidFill>
                  <a:srgbClr val="ffffff"/>
                </a:solidFill>
                <a:latin typeface="Times New Roman"/>
              </a:rPr>
              <a:t>De comenzar a rezar, de elevar sus espíritus, de hacer penitencias y de saber sacrificar. Nosotros estamos cerca, a un minuto de el último dia y la catástrofe se aproxima. Debido a esto, much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fastados se volv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 los brazos de la Iglesia de Jesus Cristo. Todos los países, Inglaterra, Rusia, China etc..., todos los religiosos, los protestantes, los espíritas, los musulmanes, los budistas y los jud</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s.</a:t>
            </a:r>
            <a:br>
              <a:rPr sz="2000"/>
            </a:br>
            <a:r>
              <a:rPr b="1" lang="pt-BR" sz="2000" spc="-1" strike="noStrike">
                <a:solidFill>
                  <a:srgbClr val="ffffff"/>
                </a:solidFill>
                <a:latin typeface="Times New Roman"/>
              </a:rPr>
              <a:t>Todos regresaron, adoraron y creyeron en Dios, en su enviado Jesus Cristo y en su Santa Madre. Pero q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debemos esperar? En todos los sitios se habla de paz y tranquilidad, pero  el castigo vendrá.</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657360"/>
            <a:ext cx="3047760" cy="204084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UN HOMBRE EN UNA POSICION MUY ALTA SERÁ AVISADO DE ESTO Y CAUSARÁ LA GUERRA.</a:t>
            </a:r>
            <a:br>
              <a:rPr sz="1600"/>
            </a:br>
            <a:r>
              <a:rPr b="1" lang="pt-BR" sz="1600" spc="-1" strike="noStrike">
                <a:solidFill>
                  <a:srgbClr val="ffffff"/>
                </a:solidFill>
                <a:latin typeface="Times New Roman"/>
              </a:rPr>
              <a:t>UNA ARMADA PODEROSA CAMINARÁ A TRAVÉS DE  EUROPA Y LA GUERRA NUCLEAR COMENZ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 </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370160"/>
            <a:ext cx="9144000" cy="3753000"/>
          </a:xfrm>
          <a:prstGeom prst="rect">
            <a:avLst/>
          </a:prstGeom>
          <a:solidFill>
            <a:srgbClr val="808080">
              <a:alpha val="44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sta guerra destruirá todo, la oscuridad caerá sobre la Tierra durante 72 horas(tres dias). Apenas una tercera parte de la humanidad sobrevivirá a estas 72 horas de oscuridad y terror y comenz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 a vivir en una era nueva, las personas buenas. En una noche muy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10 minutos antes de la medianoche, UN GRAN TERREMOTO sacudirá la Tierra durante 8 horas. Esta será la tercera señal de que Dios es quien gobierna la Tierra. Los buenos, aquellos que difundan  este mensaje,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la Santa Madre Maria anunciada en Fátima, no DEBEN TEMER, no TENGAN ning</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n recelo. O QUE HACER? Acuérdese pida perd</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a Dios. No salga de su casa y no deje </a:t>
            </a:r>
            <a:r>
              <a:rPr b="1" lang="pt-BR" sz="1800" spc="-1" strike="noStrike">
                <a:solidFill>
                  <a:srgbClr val="ffffff"/>
                </a:solidFill>
                <a:latin typeface="Arial"/>
              </a:rPr>
              <a:t>entrar</a:t>
            </a:r>
            <a:r>
              <a:rPr b="0" lang="pt-BR" sz="1800" spc="-1" strike="noStrike">
                <a:solidFill>
                  <a:srgbClr val="000000"/>
                </a:solidFill>
                <a:latin typeface="Arial"/>
              </a:rPr>
              <a:t> </a:t>
            </a:r>
            <a:r>
              <a:rPr b="1" lang="pt-BR" sz="2000" spc="-1" strike="noStrike">
                <a:solidFill>
                  <a:srgbClr val="ffffff"/>
                </a:solidFill>
                <a:latin typeface="Times New Roman"/>
              </a:rPr>
              <a:t>a ningun extraño. Porque s</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lo el bueno no estará en poder del  mal y sobrevivirá a la catástrofe. De forma que usted debe estar preparado y permanecer con vida, como mis hijos que son, les dar</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las siguientes señales:</a:t>
            </a:r>
            <a:endParaRPr b="0" lang="en-US" sz="2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04920" y="1117440"/>
            <a:ext cx="2743200" cy="252756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LA NOCHE SERÁ EXTREMAMENTE FR</a:t>
            </a:r>
            <a:r>
              <a:rPr b="1" lang="pt-BR" sz="1600" spc="-1" strike="noStrike">
                <a:solidFill>
                  <a:srgbClr val="ffffff"/>
                </a:solidFill>
                <a:latin typeface="Times New Roman"/>
                <a:ea typeface="ＭＳ Ｐゴシック"/>
              </a:rPr>
              <a:t>Í</a:t>
            </a:r>
            <a:r>
              <a:rPr b="1" lang="pt-BR" sz="1600" spc="-1" strike="noStrike">
                <a:solidFill>
                  <a:srgbClr val="ffffff"/>
                </a:solidFill>
                <a:latin typeface="Times New Roman"/>
              </a:rPr>
              <a:t>A;</a:t>
            </a:r>
            <a:br>
              <a:rPr sz="1600"/>
            </a:br>
            <a:r>
              <a:rPr b="1" lang="pt-BR" sz="1600" spc="-1" strike="noStrike">
                <a:solidFill>
                  <a:srgbClr val="ffffff"/>
                </a:solidFill>
                <a:latin typeface="Times New Roman"/>
              </a:rPr>
              <a:t>SOPL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N VIENTOS MUY FUERTES;</a:t>
            </a:r>
            <a:br>
              <a:rPr sz="1600"/>
            </a:br>
            <a:r>
              <a:rPr b="1" lang="pt-BR" sz="1600" spc="-1" strike="noStrike">
                <a:solidFill>
                  <a:srgbClr val="ffffff"/>
                </a:solidFill>
                <a:latin typeface="Times New Roman"/>
              </a:rPr>
              <a:t>HABRÁ MUCHA ANGUSTIA Y EN POCO TIEMPO COMENZ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 UN GRAN TERREMOTO, QUE HARÁ ESTREMECER TODA LA TIERRA.</a:t>
            </a: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76320" y="2513160"/>
            <a:ext cx="899136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 su casa, cierre puertas y ventanas y no hable con nadie que no est</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en su casa.</a:t>
            </a:r>
            <a:br>
              <a:rPr sz="2000"/>
            </a:br>
            <a:r>
              <a:rPr b="1" lang="pt-BR" sz="2000" spc="-1" strike="noStrike">
                <a:solidFill>
                  <a:srgbClr val="ffffff"/>
                </a:solidFill>
                <a:latin typeface="Times New Roman"/>
              </a:rPr>
              <a:t>No mire para fuera, no sea curioso, porque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sta es la ira del  SEÑOR.</a:t>
            </a:r>
            <a:br>
              <a:rPr sz="2000"/>
            </a:br>
            <a:r>
              <a:rPr b="1" lang="pt-BR" sz="2000" spc="-1" strike="noStrike">
                <a:solidFill>
                  <a:srgbClr val="ffffff"/>
                </a:solidFill>
                <a:latin typeface="Times New Roman"/>
              </a:rPr>
              <a:t>Encienda velas benditas, porque por tres dias ninguna otra luz se encen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a:t>
            </a:r>
            <a:br>
              <a:rPr sz="2000"/>
            </a:br>
            <a:r>
              <a:rPr b="1" lang="pt-BR" sz="2000" spc="-1" strike="noStrike">
                <a:solidFill>
                  <a:srgbClr val="ffffff"/>
                </a:solidFill>
                <a:latin typeface="Times New Roman"/>
              </a:rPr>
              <a:t>El movimiento de la Tierra será tan violento que moverá su eje de (23 a 20 grados); después ella regresará a su posi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normal. Entonces una inseguridad absoluta y total cubrirá la Tierra entera. Todo espíritu maligno andará suelto, haciendo mucho mal a  las almas que no quisieron escuchar este mensaje de advertencia y para aquellos que no se quisieron  arrepentir.</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52280" y="1294200"/>
            <a:ext cx="8763120" cy="22284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Que las almas buenas cristianas se acuerden de encender  las velas santificadas, preparar un altar sagrado con un crucifijo para comunicarse con Dios a través de Su Hijo e implorarle su infinita misericordia. Todo estará oscuro.</a:t>
            </a:r>
            <a:br>
              <a:rPr sz="2000"/>
            </a:br>
            <a:r>
              <a:rPr b="1" lang="pt-BR" sz="2000" spc="-1" strike="noStrike">
                <a:solidFill>
                  <a:srgbClr val="ffffff"/>
                </a:solidFill>
                <a:latin typeface="Times New Roman"/>
              </a:rPr>
              <a:t>Entonces, una gran Cruz Mística aparecerá en el cielo, renombrando  el precioso precio que su  Hijo  pag</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por amor a la  humanidad y por nuestra redención.</a:t>
            </a:r>
            <a:endParaRPr b="0" lang="en-US" sz="2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04920" y="1293840"/>
            <a:ext cx="853416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 las casas la única cosa que podrá dar luz son las VELAS SANTIFICADAS de cera, que una vez encendidas  nada podrá apagar hasta que terminen los tres dias de oscuridad. Todos también deben tener consigo AGUA BENDITA (o santificada), que deben esparcir  por toda  la casa, en especial las puertas y ventanas.</a:t>
            </a:r>
            <a:br>
              <a:rPr sz="2000"/>
            </a:br>
            <a:r>
              <a:rPr b="1" lang="pt-BR" sz="2000" spc="-1" strike="noStrike">
                <a:solidFill>
                  <a:srgbClr val="ffffff"/>
                </a:solidFill>
                <a:latin typeface="Times New Roman"/>
              </a:rPr>
              <a:t>El Señor protegerá las propiedades de los elegidos.</a:t>
            </a:r>
            <a:br>
              <a:rPr sz="2000"/>
            </a:br>
            <a:r>
              <a:rPr b="1" lang="pt-BR" sz="2000" spc="-1" strike="noStrike">
                <a:solidFill>
                  <a:srgbClr val="ffffff"/>
                </a:solidFill>
                <a:latin typeface="Times New Roman"/>
              </a:rPr>
              <a:t>Ac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dense delante de la cruz poderosa de Su divino Hijo, recen con devo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 después digan lo siguiente:</a:t>
            </a:r>
            <a:endParaRPr b="0" lang="en-US" sz="20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1070640"/>
            <a:ext cx="4038480" cy="22842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 "OH DIOS, PERDONA  NUESTROS PECADOS, S</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LVANOS DEL FUEGO DEL INFIERNO LLEVE PARA SU LADO TODAS LAS ALMAS, ESPECIALMENTE AQUELLAS M</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S NECESITADAS DE SU MISERICORDIA. DULCE MADRE MARIA, INTERCEDA POR NOSOTROS!</a:t>
            </a:r>
            <a:br>
              <a:rPr sz="1600"/>
            </a:br>
            <a:r>
              <a:rPr b="1" lang="pt-BR" sz="1600" spc="-1" strike="noStrike">
                <a:solidFill>
                  <a:srgbClr val="ffffff"/>
                </a:solidFill>
                <a:latin typeface="Times New Roman"/>
              </a:rPr>
              <a:t>NOSOTROS LA AMAMOS, SALVE NUESTRO MUNDO."</a:t>
            </a:r>
            <a:endParaRPr b="0" lang="en-US" sz="1600" spc="-1" strike="noStrike">
              <a:solidFill>
                <a:srgbClr val="000000"/>
              </a:solidFill>
              <a:latin typeface="Arial"/>
            </a:endParaRPr>
          </a:p>
        </p:txBody>
      </p:sp>
      <p:sp>
        <p:nvSpPr>
          <p:cNvPr id="63" name=""/>
          <p:cNvSpPr/>
          <p:nvPr/>
        </p:nvSpPr>
        <p:spPr>
          <a:xfrm>
            <a:off x="0" y="6307920"/>
            <a:ext cx="9144000" cy="3988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Aquellos que crean en estas palabras, hagan llegar este mensaje a los demás.</a:t>
            </a: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188640"/>
            <a:ext cx="9144000" cy="337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LOS JUSTOS NO DEBE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N TEMER NADA EN EL GRAN DIA DEL  SEÑOR. </a:t>
            </a:r>
            <a:endParaRPr b="0" lang="en-US" sz="1600" spc="-1" strike="noStrike">
              <a:solidFill>
                <a:srgbClr val="000000"/>
              </a:solidFill>
              <a:latin typeface="Arial"/>
            </a:endParaRPr>
          </a:p>
        </p:txBody>
      </p:sp>
      <p:sp>
        <p:nvSpPr>
          <p:cNvPr id="65" name=""/>
          <p:cNvSpPr/>
          <p:nvPr/>
        </p:nvSpPr>
        <p:spPr>
          <a:xfrm>
            <a:off x="0" y="3562560"/>
            <a:ext cx="9144000" cy="283824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Hablen con todas las personas ahora, en cuanto todavia est</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n a tiempo; los que permanecen callados ahora s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responsables por el gran número de almas que se per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r la ignorancia. Cuando la Tierra ya no tiemble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aquellas que toda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no crean en Nuestro Señor mor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horriblemente. El viento traerá gases y los esparcirá por todas partes, no saldrá el sol. Puede ser que usted viva después de esta catástrofe. No olvide que el castigo de Dios es Sagrado y que, una vez comenzado, no deben mirar para afuera, por ninguna raz</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a que Dios no quiere que ninguno de sus hijos miren cuando sean castigados los pecadores  remitentes. </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52280" y="151200"/>
            <a:ext cx="4419720" cy="22284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do esto está en las Escrituras Sagradas, viene en el Nuevo Testamento:</a:t>
            </a:r>
            <a:br>
              <a:rPr sz="2000"/>
            </a:br>
            <a:r>
              <a:rPr b="1" lang="en-US" sz="2000" spc="-1" strike="noStrike">
                <a:solidFill>
                  <a:srgbClr val="ffffff"/>
                </a:solidFill>
                <a:latin typeface="Times New Roman"/>
              </a:rPr>
              <a:t>- S. Lucas (Capítulo 21, versos 5:11, 12:19, 20:20, 29:33)</a:t>
            </a:r>
            <a:br>
              <a:rPr sz="2000"/>
            </a:br>
            <a:r>
              <a:rPr b="1" lang="en-US" sz="2000" spc="-1" strike="noStrike">
                <a:solidFill>
                  <a:srgbClr val="ffffff"/>
                </a:solidFill>
                <a:latin typeface="Times New Roman"/>
              </a:rPr>
              <a:t>- Carta de S. Paulo (Capítulo 3, 8-14).</a:t>
            </a:r>
            <a:br>
              <a:rPr sz="2000"/>
            </a:br>
            <a:r>
              <a:rPr b="1" lang="en-US" sz="2000" spc="-1" strike="noStrike">
                <a:solidFill>
                  <a:srgbClr val="ffffff"/>
                </a:solidFill>
                <a:latin typeface="Times New Roman"/>
              </a:rPr>
              <a:t>- El profeta Isaías (cap.40 ,1: 5: 9).</a:t>
            </a:r>
            <a:endParaRPr b="0" lang="en-US" sz="2000" spc="-1" strike="noStrike">
              <a:solidFill>
                <a:srgbClr val="000000"/>
              </a:solidFill>
              <a:latin typeface="Arial"/>
            </a:endParaRPr>
          </a:p>
        </p:txBody>
      </p:sp>
      <p:sp>
        <p:nvSpPr>
          <p:cNvPr id="67" name=""/>
          <p:cNvSpPr/>
          <p:nvPr/>
        </p:nvSpPr>
        <p:spPr>
          <a:xfrm>
            <a:off x="2666880" y="2513520"/>
            <a:ext cx="6127920" cy="161856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Se debe  entender que Dios permitirá que todo esto acontezca. El Papa y los obispos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sperando otro mensaje que hablará de arrepentimiento y de ora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Acuérdense siempre que la palabra de Dios no es una amenaza, sino una buena noticia''.</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533520"/>
            <a:ext cx="2895480" cy="151272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1) Después del Papa P</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VI, tend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n 12 papas y llega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el fin de sus</a:t>
            </a:r>
            <a:br>
              <a:rPr sz="2000"/>
            </a:br>
            <a:r>
              <a:rPr b="1" lang="pt-BR" sz="2000" spc="-1" strike="noStrike">
                <a:solidFill>
                  <a:srgbClr val="ffffff"/>
                </a:solidFill>
                <a:latin typeface="Times New Roman"/>
              </a:rPr>
              <a:t>papados: Juan Pablo II fue el décimo segundo!</a:t>
            </a:r>
            <a:endParaRPr b="0" lang="en-US" sz="2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11280" y="2059200"/>
            <a:ext cx="8020080" cy="34480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Por favor, reproduzca esta hoja y 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 esto a cuantos usted conozca de forma que todos nosotros tengamos la oportunidad para arrepentirnos y sobrevivir. Nosotros no sabemos si aquell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recibiendo este mensaje creen o no en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l, pero piense que si Dios permite que llegue a ellos es porque los quiere, sea cual fuera su religión. Si usted no cree en este mensaje, por lo menos  re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lo  para otros, no le cuesta nada, de modo que aquellos que creen, tengan la oportunidad de decidir por s</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 mismos. Ac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dense de que todo esto puede ser evitado si pus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amos en prática los Diez Mandamientos que Nuestro Señor nos dio. Son 10 cosas tan sencillas que si TODOS nosotros pus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amos en prática, podríamos obtener su perd</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4360" y="5228280"/>
            <a:ext cx="6840360" cy="10087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falle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11 de febrero de 2005. Desde los años 20, ya se hab</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advertido  que est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sería cumplida después de la muerte de esta Hermana.</a:t>
            </a: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28600" y="304920"/>
            <a:ext cx="3809880" cy="198756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2) El Papa que le precedió (el 11º) tendría un período muy corto en el papado (observa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el papado es vitalicio): el Papa Juan Pablo I murió un</a:t>
            </a:r>
            <a:br>
              <a:rPr sz="2000"/>
            </a:br>
            <a:r>
              <a:rPr b="1" lang="pt-BR" sz="2000" spc="-1" strike="noStrike">
                <a:solidFill>
                  <a:srgbClr val="ffffff"/>
                </a:solidFill>
                <a:latin typeface="Times New Roman"/>
              </a:rPr>
              <a:t>mes después de ser elegido.</a:t>
            </a:r>
            <a:endParaRPr b="0" lang="en-US" sz="2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52280" y="838080"/>
            <a:ext cx="3048120" cy="13716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3) El 12º Papa tendría un largo papado: Juan Pablo II estuvo 27 años en el papado, de 1978-2005. El 3er papado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largo de la historia.</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476280"/>
            <a:ext cx="4191120" cy="158112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4) El sucesor de Juan Pablo II, seg</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n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provocará una</a:t>
            </a:r>
            <a:br>
              <a:rPr sz="2000"/>
            </a:br>
            <a:r>
              <a:rPr b="1" lang="pt-BR" sz="2000" spc="-1" strike="noStrike">
                <a:solidFill>
                  <a:srgbClr val="ffffff"/>
                </a:solidFill>
                <a:latin typeface="Times New Roman"/>
              </a:rPr>
              <a:t>revolu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en la propia Iglesia Católica: (como ha sucedido con las declaraciones del Papa Rachinger sobre la religión musulmana )</a:t>
            </a:r>
            <a:endParaRPr b="0" lang="en-US" sz="20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4572000" cy="62064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 IGLESIA DIO PERMISO DE REVELAR EL TERCER SECRETO DE FÁTIMA.</a:t>
            </a:r>
            <a:endParaRPr b="0" lang="en-US" sz="1600" spc="-1" strike="noStrike">
              <a:solidFill>
                <a:srgbClr val="000000"/>
              </a:solidFill>
              <a:latin typeface="Arial"/>
            </a:endParaRPr>
          </a:p>
        </p:txBody>
      </p:sp>
      <p:sp>
        <p:nvSpPr>
          <p:cNvPr id="50" name=""/>
          <p:cNvSpPr/>
          <p:nvPr/>
        </p:nvSpPr>
        <p:spPr>
          <a:xfrm>
            <a:off x="468360" y="2997360"/>
            <a:ext cx="8209080" cy="3429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Iglesia dio permiso de revelar a los fieles una parte del mensaje de Fátima. Maria, madre de Jes</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s, que se apare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a tres niños en 1917. Esto fue probado en manifestaciones extraordinarias, testimoniadas por decenas de millares de personas. Una de las niñas toda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vivió hasta recientemente, ella se llamab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monja que vi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en un convento de clausura de Europa. 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io a conocer el mensaje primeramente al Papa P</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XII que, al terminar de leer estaba aterrorizado, pero mantuvo el mensaje en secreto y no lo dio a conocer al público. A su debido tiempo, tamb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n  lo  ley</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Papa Juan XXIII, e hizo lo mismo. Lo hicieron de esa manera porque sab</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n que, cuando lo revelaran, causa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pánico mundial  y desespero.</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2635200"/>
            <a:ext cx="9144000" cy="37530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Santa dice a Lucia: “Mira hija m</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yo enseñar</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al mundo lo que acontecerá entre los años 1950-2001. Los hombres no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niendo en prática los Mandamientos que Nuestro Padre Dios nos ense</a:t>
            </a:r>
            <a:r>
              <a:rPr b="1" lang="pt-BR" sz="2000" spc="-1" strike="noStrike">
                <a:solidFill>
                  <a:srgbClr val="ffffff"/>
                </a:solidFill>
                <a:latin typeface="Times New Roman"/>
                <a:ea typeface="ＭＳ Ｐゴシック"/>
              </a:rPr>
              <a:t>ñó</a:t>
            </a:r>
            <a:r>
              <a:rPr b="1" lang="pt-BR" sz="2000" spc="-1" strike="noStrike">
                <a:solidFill>
                  <a:srgbClr val="ffffff"/>
                </a:solidFill>
                <a:latin typeface="Times New Roman"/>
              </a:rPr>
              <a:t>. Satan está dirigiendo el mundo, creando odio y discordia en todos los sitios. Los hombres fabric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rmas mortales que destru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l mundo en minutos, la mitad de la humanidad será horrorosamente destruída, la guerra empez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 contra Roma, habrá conflictos entre </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rdenes religiosas. Dios permitirá que todos los fen</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menos naturales,  granizo,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agua,  fuego, inundaciones, terremotos, tiempo inclemente, desastres terribles e inviernos extremadamente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s, acaben poco a poco con la Tierra; estas cosas de cualquier manera acontec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n las proximidades del año 2000. </a:t>
            </a:r>
            <a:r>
              <a:rPr b="1" lang="pt-BR" sz="1800" spc="-1" strike="noStrike">
                <a:solidFill>
                  <a:srgbClr val="ffffff"/>
                </a:solidFill>
                <a:latin typeface="Arial"/>
              </a:rPr>
              <a:t>Ahora tienen la oportunidad aquellos que</a:t>
            </a:r>
            <a:r>
              <a:rPr b="1" lang="pt-BR" sz="2000" spc="-1" strike="noStrike">
                <a:solidFill>
                  <a:srgbClr val="ffffff"/>
                </a:solidFill>
                <a:latin typeface="Times New Roman"/>
              </a:rPr>
              <a:t> no quisieron creer, la Madre Sagrada de la humanidad les habla.</a:t>
            </a:r>
            <a:endParaRPr b="0" lang="en-US" sz="2000" spc="-1" strike="noStrike">
              <a:solidFill>
                <a:srgbClr val="000000"/>
              </a:solidFill>
              <a:latin typeface="Arial"/>
            </a:endParaRPr>
          </a:p>
        </p:txBody>
      </p:sp>
      <p:sp>
        <p:nvSpPr>
          <p:cNvPr id="52" name=""/>
          <p:cNvSpPr/>
          <p:nvPr/>
        </p:nvSpPr>
        <p:spPr>
          <a:xfrm>
            <a:off x="0" y="0"/>
            <a:ext cx="5221440" cy="1197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HORA OTRA PARTE  ES  REVELADA, NO PARA CAUSAR P</a:t>
            </a:r>
            <a:r>
              <a:rPr b="1" lang="pt-BR" sz="1800" spc="-1" strike="noStrike">
                <a:solidFill>
                  <a:srgbClr val="ffffff"/>
                </a:solidFill>
                <a:latin typeface="Times New Roman"/>
                <a:ea typeface="ＭＳ Ｐゴシック"/>
              </a:rPr>
              <a:t>Á</a:t>
            </a:r>
            <a:r>
              <a:rPr b="1" lang="pt-BR" sz="1800" spc="-1" strike="noStrike">
                <a:solidFill>
                  <a:srgbClr val="ffffff"/>
                </a:solidFill>
                <a:latin typeface="Times New Roman"/>
              </a:rPr>
              <a:t>NICO, SINO QUE  LAS PERSONAS DEBEN CONOCERLO  PARA QUE SE PREPAREN.</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2741760"/>
            <a:ext cx="914400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Practique actos de caridad con el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próximo que lo necesite; los que no se aman unos a los otros como mi Hijo los tiene amando, ALGUNOS DE ESTOS, PODRAN SOBREVIVIR, pero morirán, millones de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stos per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la vida en segundos. La clase de castig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delante de nosotros, en la tierra, es inimaginable. Nuestro Señor castigará duramente a quien no crea nada, a los que el rejeitam, y aquellos que no tengan tiempo para El. Yo llamo a todos que vengan para mi Hijo Jes</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s Cristo; Dios es ayuda para el mundo, pero todo aquel que no de testimonio de fidelidad y lealdad, este será destruído de forma terrible".</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2208240"/>
            <a:ext cx="9144000" cy="37530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l Cura Agustín que vive en Fátima, dice que el Papa Pablo VI le dio permiso de visitar a 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ya que ella era monja de clausura y no podría salir o recibir visitas. El Cura Agustín dice que ella lo recib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con el coraz</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partido y le habl</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Cura, Nuestra Señora está muy triste porque casi nadie se interesó por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ella en 1917; as</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 mismo los buenos tienen que caminar por una carretera estrecha y de este modo, los malos 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r una carretera ancha que  les llevará directamente a la  propia destruc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 ¿me lo cree cura?, el castigo vendrá en muy poco tiempo. Muchas almas pueden perderse y muchas naciones desaparecerán de la Tierra. Pero, a pesar de todo esto, si los hombres meditaran, rezaran llevaran a cabo acciones buenas, el mundo podria salvarse. Caso contrario, si los hombres insisten en sus maldades, el mundo humano se perderá para siempre.</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4:16:59Z</dcterms:created>
  <dc:creator>Suzie</dc:creator>
  <dc:description/>
  <dc:language>en-US</dc:language>
  <cp:lastModifiedBy>NEFA</cp:lastModifiedBy>
  <dcterms:modified xsi:type="dcterms:W3CDTF">2008-03-27T10:58:53Z</dcterms:modified>
  <cp:revision>95</cp:revision>
  <dc:subject/>
  <dc:title>3ª Profecia de Fátima</dc:title>
</cp:coreProperties>
</file>