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696-7AAE-4E50-8CF6-2D169435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5A3-04D9-409A-BD5D-EC40C3EB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CE9-29EB-4F2C-89BF-9C6B1FA6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5BE-2F9A-4E97-BDD2-35E04299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FBC-A21D-429A-AD9E-F120EDA1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E88-2C69-41D0-8B21-20C18B40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775-5495-482E-B2B3-0B84DEFF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418-4D0C-45B7-ACCA-B971064F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FD4-FCC5-4A32-9A01-F57E9119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172-F23A-4547-93DB-F1942F90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DA8-778D-48A3-9D4D-D1AD43CF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41C-131C-4712-B68F-27D1B29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E436-F2BB-4867-972E-A387D4893B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6600"/>
            <a:ext cx="914400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Si tiene mucha hambre, usted debería visita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el restaurante Waldgeist en Hofheim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Allí le servirán la escalopa (schnitze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más grande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La sirven en un plato del tamañ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de un plato grande de pizza y lo ocupa to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Los precios son muy económ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Cada mesa tiene rollos de papel de alumin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listos para envolver lo que usted no pueda c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Quienes tienen que usar el papel de alu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son considerados cobar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Generalmente las bebidas son serv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en envases de 2 litros y la bebida estr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es "El Bembel de la Muerte" una botella de 5 li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llena de la Bacardi-cola por sólo 35 e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2338560"/>
            <a:ext cx="67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Y si no le apetec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s escalopas ni las salchichas, entonces pruebe estas hamburguesa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495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6920" y="1628640"/>
            <a:ext cx="6701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6000" spc="-1" strike="noStrike">
                <a:solidFill>
                  <a:srgbClr val="000000"/>
                </a:solidFill>
                <a:latin typeface="Times New Roman"/>
              </a:rPr>
              <a:t>Apuesto a q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6000" spc="-1" strike="noStrike">
                <a:solidFill>
                  <a:srgbClr val="000000"/>
                </a:solidFill>
                <a:latin typeface="Times New Roman"/>
              </a:rPr>
              <a:t>se te quitó el hamb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6000" spc="-1" strike="noStrike">
                <a:solidFill>
                  <a:srgbClr val="000000"/>
                </a:solidFill>
                <a:latin typeface="Times New Roman"/>
              </a:rPr>
              <a:t>¿O no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1844640"/>
            <a:ext cx="756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Y para aquéllos que no son muy aficionados a las escalopas ........................................................</a:t>
            </a:r>
            <a:br>
              <a:rPr sz="4000"/>
            </a:b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¿¿Por qué no intent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con una salchicha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2:27:00Z</dcterms:created>
  <dc:creator>Bj</dc:creator>
  <dc:description/>
  <dc:language>en-US</dc:language>
  <cp:lastModifiedBy>Bj</cp:lastModifiedBy>
  <dcterms:modified xsi:type="dcterms:W3CDTF">2007-07-20T12:29:40Z</dcterms:modified>
  <cp:revision>1</cp:revision>
  <dc:subject/>
  <dc:title>Diapositiva 1</dc:title>
</cp:coreProperties>
</file>