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191-959C-4B1E-B8F1-04FA0638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B41-7168-40BC-9BC2-87349131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3CC-2CD2-46EF-BA23-1AB75CA9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829-20D7-427D-B30A-4C583870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F61-A005-4494-AB55-43B0BA81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022-F265-4A45-A2A6-238B110A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5C0-0C30-45DB-B2DD-9F94F8E6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64B-CCA9-4D87-B8A0-8516FF49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B8A-9AC3-4447-B25A-853C1A5E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776-B324-4F22-946D-8FDD0FEC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B2D-EBE1-4BB4-91C1-C102586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6E8-2E91-4415-B067-9D388627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D95C-5AF1-4680-B9FD-8561CF6297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6600"/>
            <a:ext cx="91440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Si tiene mucha hambre, usted debería visita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el restaurante Waldgeist en Hofheim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Allí le servirán la escalopa (schnitze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más grande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La sirven en un plato del tamañ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de un plato grande de pizza y lo ocupa to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Los precios son muy económ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Cada mesa tiene rollos de papel de alumin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listos para envolver lo que usted no pueda c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Quienes tienen que usar el papel de alu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son considerados cobar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Generalmente las bebidas son serv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en envases de 2 litros y la bebida estr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es "El Bembel de la Muerte" una botella de 5 li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00"/>
                </a:solidFill>
                <a:latin typeface="Times New Roman"/>
              </a:rPr>
              <a:t>llena de la Bacardi-cola por sólo 35 e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2338560"/>
            <a:ext cx="67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Y si no le apetec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las escalopas ni las salchichas, entonces pruebe estas hamburguesa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495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6920" y="1628640"/>
            <a:ext cx="6701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6000" spc="-1" strike="noStrike">
                <a:solidFill>
                  <a:srgbClr val="000000"/>
                </a:solidFill>
                <a:latin typeface="Times New Roman"/>
              </a:rPr>
              <a:t>Apuesto a q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6000" spc="-1" strike="noStrike">
                <a:solidFill>
                  <a:srgbClr val="000000"/>
                </a:solidFill>
                <a:latin typeface="Times New Roman"/>
              </a:rPr>
              <a:t>se te quitó el hamb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6000" spc="-1" strike="noStrike">
                <a:solidFill>
                  <a:srgbClr val="000000"/>
                </a:solidFill>
                <a:latin typeface="Times New Roman"/>
              </a:rPr>
              <a:t>¿O n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1844640"/>
            <a:ext cx="756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Y para aquéllos que no son muy aficionados a las escalopas ........................................................</a:t>
            </a:r>
            <a:br>
              <a:rPr sz="4000"/>
            </a:b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¿¿Por qué no intent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000000"/>
                </a:solidFill>
                <a:latin typeface="Times New Roman"/>
              </a:rPr>
              <a:t>con una salchicha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2:27:00Z</dcterms:created>
  <dc:creator>Bj</dc:creator>
  <dc:description/>
  <dc:language>en-US</dc:language>
  <cp:lastModifiedBy>Bj</cp:lastModifiedBy>
  <dcterms:modified xsi:type="dcterms:W3CDTF">2007-07-20T12:29:40Z</dcterms:modified>
  <cp:revision>1</cp:revision>
  <dc:subject/>
  <dc:title>Diapositiva 1</dc:title>
</cp:coreProperties>
</file>