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silvitaacordeonmusettesouslecieldeparis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68D0-C3E2-4036-BCA8-AA89D8FD5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5194-28AE-44DD-A6C6-E165FB3DA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1B30-BA9B-4D5D-BE4A-FFBC48BB1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2518-DC3C-4698-A4D5-256E37591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DE8C-6D0F-4E23-A94D-5E1F2BAA1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4FAA-710F-45B2-8623-4EF74CEB2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6B66-23EF-433A-ABA6-B2465E858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8EF4-A80B-41B3-84EC-3BD95D5F3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1EDE-2B6A-496A-A21A-F8B9459AF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E583-B377-4049-B30D-4CFE6B1A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FA7F-E0A0-4E9B-9ADD-328091A8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0B4A-5F8D-498B-99AB-3D83790C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4E063-6E61-427A-8202-55472222F3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ilvitaacordeonmusettesouslecieldepari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981000"/>
            <a:ext cx="7924680" cy="42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5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5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EL REEMPLAZ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65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5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L  MÉDIC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65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5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 GUARDIA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0880" y="861840"/>
            <a:ext cx="8534520" cy="38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cen que un día en el hospital habían faltado varios médicos porque estaban enfermos 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Guardia quedaba descubierta.</a:t>
            </a:r>
            <a:r>
              <a:rPr b="0" i="1" lang="es-MX" sz="4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549000"/>
            <a:ext cx="77724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99"/>
                </a:solidFill>
                <a:latin typeface="Comic Sans MS"/>
              </a:rPr>
              <a:t>El jefe de guardia no sabía cómo solucionarlo, pero como era un hombre muy religioso, se le aparece Jesús y le di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3200" spc="-1" strike="noStrike">
                <a:solidFill>
                  <a:srgbClr val="ffff99"/>
                </a:solidFill>
                <a:latin typeface="Comic Sans MS"/>
              </a:rPr>
              <a:t>- Tu has salvado muchas vidas, voy a retribuírtelo. Yo me quedaré en la guardia en reemplazo de los médicos enferm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3200" spc="-1" strike="noStrike">
                <a:solidFill>
                  <a:srgbClr val="ffff99"/>
                </a:solidFill>
                <a:latin typeface="Comic Sans MS"/>
              </a:rPr>
              <a:t>El jefe de guardia no lo podía creer ¡Tener a Jesús como médic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4216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200" spc="-1" strike="noStrike">
                <a:solidFill>
                  <a:srgbClr val="ffff99"/>
                </a:solidFill>
                <a:latin typeface="Comic Sans MS"/>
              </a:rPr>
              <a:t>Inmediatamente, un brutal accidente ocurre en la puerta del hospital, un hombre fue atropellado violentamente por un autobús y luego el vehículo le pasó por encim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200" spc="-1" strike="noStrike">
                <a:solidFill>
                  <a:srgbClr val="ffff99"/>
                </a:solidFill>
                <a:latin typeface="Comic Sans MS"/>
              </a:rPr>
              <a:t>Destrozado y herido de muerte lo ingresan al hospit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476280"/>
            <a:ext cx="8534520" cy="58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6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Jesús ve que el hombre no tiene posibilidad de sobrevivir y entonces pien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6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-"Tendré que recurrir a un milagro" Posa sobre el hombre sus dos manos y, como había hecho con Lázaro, le dic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6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-"Levántate y anda"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333360"/>
            <a:ext cx="8534520" cy="57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6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El hombre absolutamente sano sale del hospital. La gente y sus familiares afuera no lo pueden creer. Todos habían visto el accidente. Entonces le pregunta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6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-¿Qué te hicier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6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El hombre respond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64216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4800" spc="-1" strike="noStrike">
                <a:solidFill>
                  <a:srgbClr val="ffff99"/>
                </a:solidFill>
                <a:latin typeface="Comic Sans MS"/>
              </a:rPr>
              <a:t>-¡Como siempre!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4800" spc="-1" strike="noStrike">
                <a:solidFill>
                  <a:srgbClr val="ffff99"/>
                </a:solidFill>
                <a:latin typeface="Comic Sans MS"/>
              </a:rPr>
              <a:t>En este hospital de mierda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4800" spc="-1" strike="noStrike">
                <a:solidFill>
                  <a:srgbClr val="ffff99"/>
                </a:solidFill>
                <a:latin typeface="Comic Sans MS"/>
              </a:rPr>
              <a:t>          </a:t>
            </a:r>
            <a:r>
              <a:rPr b="1" i="1" lang="es-PE" sz="4800" spc="-1" strike="noStrike">
                <a:solidFill>
                  <a:srgbClr val="ffff99"/>
                </a:solidFill>
                <a:latin typeface="Comic Sans MS"/>
              </a:rPr>
              <a:t>NADA!!!!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5400" spc="-1" strike="noStrike">
                <a:solidFill>
                  <a:srgbClr val="ffff99"/>
                </a:solidFill>
                <a:latin typeface="Comic Sans MS"/>
              </a:rPr>
              <a:t>  </a:t>
            </a:r>
            <a:r>
              <a:rPr b="1" i="1" lang="es-PE" sz="5400" spc="-1" strike="noStrike">
                <a:solidFill>
                  <a:srgbClr val="ffff99"/>
                </a:solidFill>
                <a:latin typeface="Comic Sans MS"/>
              </a:rPr>
              <a:t>ni una radiografía !!!</a:t>
            </a:r>
            <a:r>
              <a:rPr b="1" i="1" lang="es-ES" sz="4800" spc="-1" strike="noStrike">
                <a:solidFill>
                  <a:srgbClr val="ffff99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2T00:14:55Z</dcterms:created>
  <dc:creator>v</dc:creator>
  <dc:description/>
  <dc:language>en-US</dc:language>
  <cp:lastModifiedBy>Caamaño</cp:lastModifiedBy>
  <dcterms:modified xsi:type="dcterms:W3CDTF">2008-09-09T17:52:42Z</dcterms:modified>
  <cp:revision>2</cp:revision>
  <dc:subject/>
  <dc:title>Diapositiva 1</dc:title>
</cp:coreProperties>
</file>