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5EA5-64FB-43EF-8AD0-CC174E19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C011-3D04-4689-9BF9-0B073635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9B7-5058-41D2-8698-64D58466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572E-6CF3-4900-8BBA-F37D7A12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32BC-F6AD-4462-9AAB-F126A95C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FD60-6E8B-430C-AA34-1E8D2F7A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6171-190A-4007-907C-1C573D11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C14-9F04-4927-9CC3-36F15578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ADDC-D9DC-4870-9844-36AA986E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A0C-437A-454F-BFA0-A78F303C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E208-6A9A-48A5-93AA-EDBC4B63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242-7451-49F7-A10B-A24DEAA4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CE92-0C2D-481A-9A44-7FD2F4C9BD6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1089816fs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3 Marcador de contenido" descr="f14310wm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3 Marcador de contenido" descr="foto4y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3 Marcador de contenido" descr="foto5rl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3 Marcador de contenido" descr="gun3mv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3 Marcador de contenido" descr="guns1pv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3 Marcador de contenido" descr="guns2c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3 Marcador de contenido" descr="guns4mk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3 Marcador de contenido" descr="guns5ok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3 Marcador de contenido" descr="guns6wf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3 Marcador de contenido" descr="guns7wa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3 Marcador de contenido" descr="61026220tr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3 Marcador de contenido" descr="MexWeapons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3 Marcador de contenido" descr="F110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3 Marcador de contenido" descr="F110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3 Marcador de contenido" descr="f1104vz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3 Marcador de contenido" descr="f1433k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3 Marcador de contenido" descr="f1435ux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3 Marcador de contenido" descr="f1437x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3 Marcador de contenido" descr="f1438pb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20:05:17Z</dcterms:created>
  <dc:creator>Hugo</dc:creator>
  <dc:description/>
  <dc:language>en-US</dc:language>
  <cp:lastModifiedBy>Hugo</cp:lastModifiedBy>
  <dcterms:modified xsi:type="dcterms:W3CDTF">2009-11-30T20:14:16Z</dcterms:modified>
  <cp:revision>1</cp:revision>
  <dc:subject/>
  <dc:title>Diapositiva 1</dc:title>
</cp:coreProperties>
</file>