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DA6-92A6-4C00-9776-BBEFFCA5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E4C-B13F-4F3E-B924-B7136CB0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C4D-EB87-496F-9DC4-A0FCA17D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2F1-370C-41F6-A9C0-D4ED676D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9BC-7A1A-4DA8-9A50-960CCC61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0894-5C1C-449A-8D1F-6295E71B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1C1-1BD2-466C-9D8E-291437F9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755C-58DF-4EFA-B724-F8479051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DEA8-D454-47B0-BB9F-8A82DEE6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33B-3948-46EE-B3CC-2E419489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BB4-B071-4A5F-AC21-C20E4E40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434-4493-416E-BE5E-B83852F4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FD65-CB67-4E51-B0BC-6E21B2BA750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1089816fs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3 Marcador de contenido" descr="f14310wm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3 Marcador de contenido" descr="foto4y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3 Marcador de contenido" descr="foto5rl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3 Marcador de contenido" descr="gun3mv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3 Marcador de contenido" descr="guns1pv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3 Marcador de contenido" descr="guns2c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3 Marcador de contenido" descr="guns4mk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3 Marcador de contenido" descr="guns5ok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3 Marcador de contenido" descr="guns6wf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3 Marcador de contenido" descr="guns7w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3 Marcador de contenido" descr="61026220tr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3 Marcador de contenido" descr="MexWeapon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3 Marcador de contenido" descr="F110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3 Marcador de contenido" descr="F110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3 Marcador de contenido" descr="f1104vz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3 Marcador de contenido" descr="f1433k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3 Marcador de contenido" descr="f1435ux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3 Marcador de contenido" descr="f1437x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3 Marcador de contenido" descr="f1438pb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20:05:17Z</dcterms:created>
  <dc:creator>Hugo</dc:creator>
  <dc:description/>
  <dc:language>en-US</dc:language>
  <cp:lastModifiedBy>Hugo</cp:lastModifiedBy>
  <dcterms:modified xsi:type="dcterms:W3CDTF">2009-11-30T20:14:16Z</dcterms:modified>
  <cp:revision>1</cp:revision>
  <dc:subject/>
  <dc:title>Diapositiva 1</dc:title>
</cp:coreProperties>
</file>