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hunder.wav" ContentType="audio/x-wav"/>
  <Override PartName="/ppt/media/image2.jpeg" ContentType="image/jpeg"/>
  <Override PartName="/ppt/media/image3.jpeg" ContentType="image/jpeg"/>
  <Override PartName="/ppt/media/jeopardy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und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1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4343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7" name=""/>
          <p:cNvSpPr/>
          <p:nvPr/>
        </p:nvSpPr>
        <p:spPr>
          <a:xfrm>
            <a:off x="9907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Most Expensive Catastrophes in His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590920" y="838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11. Titanic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150 Million</a:t>
            </a:r>
            <a:r>
              <a:rPr b="1" lang="en-US" sz="2400" spc="-1" strike="noStrike">
                <a:solidFill>
                  <a:srgbClr val="00a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290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2" descr=""/>
          <p:cNvPicPr/>
          <p:nvPr/>
        </p:nvPicPr>
        <p:blipFill>
          <a:blip r:embed="rId1"/>
          <a:srcRect l="4293" t="0" r="0" b="0"/>
          <a:stretch/>
        </p:blipFill>
        <p:spPr>
          <a:xfrm>
            <a:off x="2057400" y="762120"/>
            <a:ext cx="5095800" cy="571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590920" y="152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2. Chernobyl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200 Billion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707000" cy="5611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590920" y="1522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1. 2008 Presidential 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1920" y="640080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800 Bill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first two months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10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754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1" name=""/>
          <p:cNvSpPr/>
          <p:nvPr/>
        </p:nvSpPr>
        <p:spPr>
          <a:xfrm>
            <a:off x="160020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10. Tanker Truck vs Bridge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358 Mill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9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789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2860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9. MetroLink Crash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500 Mill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8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4537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0" y="304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8. B-2 Bomber Crash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1.4 Billion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7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514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36232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7. Exxon Valdez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2.5 Billion</a:t>
            </a:r>
            <a:r>
              <a:rPr b="1" lang="en-US" sz="2400" spc="-1" strike="noStrike">
                <a:solidFill>
                  <a:srgbClr val="00a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6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435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0574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6. Piper Alpha Oil Rig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3.4 Billion</a:t>
            </a:r>
            <a:r>
              <a:rPr b="1" lang="en-US" sz="2400" spc="-1" strike="noStrike">
                <a:solidFill>
                  <a:srgbClr val="00a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5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5554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133720" y="152280"/>
            <a:ext cx="5790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5. Challenger Explosion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5.5 Bill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486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3623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4. Prestige Oil Spill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12 Bill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3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2952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05120" y="685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3. Space Shuttle Columbia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$13 Billion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Thund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21:06:34Z</dcterms:created>
  <dc:creator>Dewey </dc:creator>
  <dc:description/>
  <dc:language>en-US</dc:language>
  <cp:lastModifiedBy>Dewey </cp:lastModifiedBy>
  <dcterms:modified xsi:type="dcterms:W3CDTF">2009-07-03T18:00:34Z</dcterms:modified>
  <cp:revision>5</cp:revision>
  <dc:subject/>
  <dc:title>PowerPoint Presentation</dc:title>
</cp:coreProperties>
</file>