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.jpeg" ContentType="image/jpeg"/>
  <Override PartName="/ppt/media/Caruso.wav" ContentType="audio/x-wav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93D-CBD5-46B6-ACB7-E9C2400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1B5-089F-42A0-9BF8-5EAD08B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7DD-C89E-42D7-B6D7-42A2DFDE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0AD-8520-45E1-9867-5F779AA1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963-60AE-4677-A2E3-6EF6B657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412-208F-48AE-A2C1-B19D4FEA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2A0-FD21-4FAB-82B1-9BB74EA4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9B5-038A-4A3F-8C55-A2B0E307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271-9D3F-4DCB-B311-8E68789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150-C9A0-4566-886D-7B0367B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65C-59C3-43D8-B8D8-B665C8AE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043-45E6-4275-B219-6A183C4D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3F8E-01D1-40EF-BF57-9543948D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us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Arial"/>
              </a:rPr>
              <a:t>Caru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56920" y="1413000"/>
            <a:ext cx="50007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0" spc="-1" strike="noStrike">
                <a:solidFill>
                  <a:srgbClr val="bbe0e3"/>
                </a:solidFill>
                <a:latin typeface="BertDB"/>
              </a:rPr>
              <a:t>Itali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22200" y="630864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333399"/>
                </a:solidFill>
                <a:latin typeface="Lucida Sans"/>
              </a:rPr>
              <a:t>by Zoltan for m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diamond/>
    <p:sndAc>
      <p:stSnd>
        <p:snd r:embed="rId1" name="Caru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047-Assisi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238160" y="6216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052-Assis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238160" y="6216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060-Assisi"/>
          <p:cNvPicPr/>
          <p:nvPr/>
        </p:nvPicPr>
        <p:blipFill>
          <a:blip r:embed="rId1"/>
          <a:stretch/>
        </p:blipFill>
        <p:spPr>
          <a:xfrm>
            <a:off x="2195640" y="-316080"/>
            <a:ext cx="548640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526880" y="62373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0.25 7.77238E-007 E"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071-Roma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311240" y="61437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074-Roma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029280" y="63784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Roma - Vat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A077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303600" y="63086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azza Nav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084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806160" y="6165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anth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093-Roma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724360" y="623736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ntana di Tr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098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5507280" y="64008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Vittorio Emanuel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138-Roma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218200" y="62373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Vittorio Emanuel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1"/>
          <p:cNvPicPr/>
          <p:nvPr/>
        </p:nvPicPr>
        <p:blipFill>
          <a:blip r:embed="rId2"/>
          <a:stretch/>
        </p:blipFill>
        <p:spPr>
          <a:xfrm>
            <a:off x="-285840" y="214200"/>
            <a:ext cx="9753840" cy="6505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7379280" y="60008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rtof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104-Roma"/>
          <p:cNvPicPr/>
          <p:nvPr/>
        </p:nvPicPr>
        <p:blipFill>
          <a:blip r:embed="rId1"/>
          <a:stretch/>
        </p:blipFill>
        <p:spPr>
          <a:xfrm>
            <a:off x="1371600" y="-838080"/>
            <a:ext cx="6400800" cy="8534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A108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995440" y="604044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olos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111-Roma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580000" y="64008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rco di Cansta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lus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127-Roma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302520" y="6165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A129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5797440" y="61437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o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A131-Rom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56720" y="6308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mpido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2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142-Roma"/>
          <p:cNvPicPr/>
          <p:nvPr/>
        </p:nvPicPr>
        <p:blipFill>
          <a:blip r:embed="rId1"/>
          <a:stretch/>
        </p:blipFill>
        <p:spPr>
          <a:xfrm>
            <a:off x="179280" y="-243000"/>
            <a:ext cx="93614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640400" y="640080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Scalinata Trinita dei M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A169-Amalfi"/>
          <p:cNvPicPr/>
          <p:nvPr/>
        </p:nvPicPr>
        <p:blipFill>
          <a:blip r:embed="rId1"/>
          <a:stretch/>
        </p:blipFill>
        <p:spPr>
          <a:xfrm>
            <a:off x="324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525800" y="6165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mal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lus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275-Amalf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7165440" y="6288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Amal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A189-Capri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382520" y="62164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2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742520" y="5927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217-Capr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382520" y="60008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A257-Sorrento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7094880" y="6288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Sorr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344-Pompe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381800" y="6400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A313-Pompei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597800" y="6400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304-Pompei"/>
          <p:cNvPicPr/>
          <p:nvPr/>
        </p:nvPicPr>
        <p:blipFill>
          <a:blip r:embed="rId1"/>
          <a:stretch/>
        </p:blipFill>
        <p:spPr>
          <a:xfrm>
            <a:off x="1547640" y="-603360"/>
            <a:ext cx="6058080" cy="807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7453440" y="6165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omp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A402-M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589800" y="623736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Montecas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396-M"/>
          <p:cNvPicPr/>
          <p:nvPr/>
        </p:nvPicPr>
        <p:blipFill>
          <a:blip r:embed="rId1"/>
          <a:stretch/>
        </p:blipFill>
        <p:spPr>
          <a:xfrm>
            <a:off x="-10800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929640" y="63086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Montecas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14680" y="1988640"/>
            <a:ext cx="6357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8800" spc="-1" strike="noStrike">
                <a:solidFill>
                  <a:srgbClr val="bbe0e3"/>
                </a:solidFill>
                <a:latin typeface="AugustDB"/>
                <a:ea typeface="Times New Roman"/>
              </a:rPr>
              <a:t>Arrivederc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16_13"/>
          <p:cNvPicPr/>
          <p:nvPr/>
        </p:nvPicPr>
        <p:blipFill>
          <a:blip r:embed="rId1"/>
          <a:stretch/>
        </p:blipFill>
        <p:spPr>
          <a:xfrm>
            <a:off x="1843200" y="-666720"/>
            <a:ext cx="5457600" cy="819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310880" y="6165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7094880" y="5351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7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382160" y="5856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23_20"/>
          <p:cNvPicPr/>
          <p:nvPr/>
        </p:nvPicPr>
        <p:blipFill>
          <a:blip r:embed="rId1"/>
          <a:stretch/>
        </p:blipFill>
        <p:spPr>
          <a:xfrm>
            <a:off x="2281320" y="-9360"/>
            <a:ext cx="4581360" cy="687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878880" y="6072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fffff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596360" y="623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039-Assisi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896240" y="6308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Gub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6:33:39Z</dcterms:created>
  <dc:creator>Zoltan Vartok</dc:creator>
  <dc:description>Italie Caruso</dc:description>
  <dc:language>en-US</dc:language>
  <cp:lastModifiedBy>Odette</cp:lastModifiedBy>
  <dcterms:modified xsi:type="dcterms:W3CDTF">2008-11-19T17:47:53Z</dcterms:modified>
  <cp:revision>190</cp:revision>
  <dc:subject/>
  <dc:title>PowerPoint-Präsentation</dc:title>
</cp:coreProperties>
</file>