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359-C3F7-4F71-B584-3ED3579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2E2-49A8-4C61-8E92-3883AC0E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8FB-3C0E-4718-BF4B-FED322C5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69C-35B4-49AC-8D2A-9F205D43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94F9-F64C-4077-BD66-74A10CB5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CB6-58E9-49B4-891E-F2DF981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1D9-2B67-436D-BEB3-5CD6DDE9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D33B-9402-42C0-96A1-829F4F9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E6E3-23A5-42A2-8F2A-ABB01A4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094E-C93E-4316-9A83-1557BEF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57A-98B2-40B5-91D2-ABB30B8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59C-43A4-4B21-B218-E83C297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A338-525B-4637-B819-6D058AF1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2FB1-1DFC-4667-B2E0-21F0A59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B9D-9D9D-47D2-A82A-230588B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043-E427-4408-BBC9-A8006652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0B4-3011-493D-A890-254764C4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FDF-EA82-45E6-8B75-8EE9D5F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886-30D3-42B3-A89E-AA96EE5E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7DA-2874-4A2B-80E6-BE6E99CE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C8B-6225-4DC4-8094-E90C744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77F-F7D4-483C-83D4-84FBBAB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A3D-5DF8-4639-B696-2F050331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DF5-8300-4723-8B55-ED6D55E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098-D27D-4500-B789-E2C9F37DD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B46-786C-4F93-8FA7-89F189196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cyberpunkkk.files.wordpress.com/2009/01/madeiras_numero2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es/imgres?imgurl=http://www.prodazulejostal.com.mx/image/Losetas/detalles/numero_3.png&amp;imgrefurl=http://www.prodazulejostal.com.mx/productora/detalles.html&amp;usg=__03UjWVaJaYonCss65Wh14SBM2pQ=&amp;h=425&amp;w=425&amp;sz=287&amp;hl=es&amp;start=1&amp;um=1&amp;tbnid=TLAnq-s-UQbQIM:&amp;tbnh=126&amp;tbnw=126&amp;prev=/images%3Fq%3Dnumero%2B3%26hl%3Des%26rlz%3D1W1SKPB_es%26sa%3DG%26um%3D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1700280"/>
            <a:ext cx="7559640" cy="388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5080" y="3170160"/>
            <a:ext cx="6983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s 10 mejores piscinas del mundo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54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260280"/>
            <a:ext cx="8207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45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San Alfonso del Mar, Chi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1052640"/>
            <a:ext cx="1312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643040"/>
            <a:ext cx="8280360" cy="4810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04640"/>
            <a:ext cx="820728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iscin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volucionari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(Venezuel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1771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89000"/>
            <a:ext cx="835344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566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Elan (Dalla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25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547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189000"/>
            <a:ext cx="842472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Begawan Giri (Bali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51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7800" cy="5399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333360"/>
            <a:ext cx="828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566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lden Nugget (Las Vegas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125360"/>
            <a:ext cx="4105080" cy="2519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24720" y="4724280"/>
            <a:ext cx="12193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333360"/>
            <a:ext cx="770436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el Burj Al Arab (Dubai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185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51640" y="1268280"/>
            <a:ext cx="14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5164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6920" y="260280"/>
            <a:ext cx="734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wn Towers Hotel Macau (Isla Tai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047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809640"/>
            <a:ext cx="856944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85694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14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yan Tree Hotel: Bahía de Intendance, Seychell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5778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569080" cy="525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89000"/>
            <a:ext cx="849780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Lagoon Geothermal Resort: Grindavík, Isla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on aguas term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93080" y="1341360"/>
            <a:ext cx="1782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189000"/>
            <a:ext cx="842472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1852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Meridien Hurghada: Bahía de Makadi (Egipt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907920"/>
            <a:ext cx="1199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4:47:33Z</dcterms:created>
  <dc:creator>WinuE</dc:creator>
  <dc:description/>
  <dc:language>en-US</dc:language>
  <cp:lastModifiedBy>WinuE</cp:lastModifiedBy>
  <dcterms:modified xsi:type="dcterms:W3CDTF">2009-07-28T15:43:38Z</dcterms:modified>
  <cp:revision>2</cp:revision>
  <dc:subject/>
  <dc:title>Diapositiva 1</dc:title>
</cp:coreProperties>
</file>