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8DD-9B90-4E66-A8F9-99281773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F52-E71B-4BF5-B0AF-4D3955B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F19-D1DC-4265-9829-CF297677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C5E-4DAB-41E4-902C-31544E77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DECC-5E3B-440D-809D-B82BBBE8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30D8-BC4B-4AAB-9E3B-1AB762E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502F-7A0E-4BBA-B76C-335EDF5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42F7-E0AB-4EFC-9042-0B7763C0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A07C-8BA8-4EBC-BB06-41A7351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995-E91F-4C42-ABD9-4BE81945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9128-06F1-4619-9C30-FF0BD27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29C-B376-4DF6-8A22-180DE062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D2E0-5C93-4724-A1EA-1D1626D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A81-1D7F-484F-AD4F-D40E6E2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1792-DD8D-44D1-8C87-9EBCB0A3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0DB6-6FEA-4282-B5C5-CA9C382C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2906-8084-48F6-804F-1105DFC1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A30-2396-46B9-B7CF-5F0AD0AC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AA3-7E77-42AA-8ACA-0F5499AC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786-4DDC-40A9-9F9F-13C288C4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BDC-3422-4418-94F8-8F670DAD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005-F3F8-47F7-B6E1-D5F015C0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970-5186-4EAC-84FD-BA5823A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D33-2FD3-4191-AD28-D111C63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3B9-B0E0-4F22-94EC-5404F78ED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4931-C603-4D68-AC1D-70687D204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cyberpunkkk.files.wordpress.com/2009/01/madeiras_numero2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es/imgres?imgurl=http://www.prodazulejostal.com.mx/image/Losetas/detalles/numero_3.png&amp;imgrefurl=http://www.prodazulejostal.com.mx/productora/detalles.html&amp;usg=__03UjWVaJaYonCss65Wh14SBM2pQ=&amp;h=425&amp;w=425&amp;sz=287&amp;hl=es&amp;start=1&amp;um=1&amp;tbnid=TLAnq-s-UQbQIM:&amp;tbnh=126&amp;tbnw=126&amp;prev=/images%3Fq%3Dnumero%2B3%26hl%3Des%26rlz%3D1W1SKPB_es%26sa%3DG%26um%3D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1700280"/>
            <a:ext cx="7559640" cy="388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5080" y="3170160"/>
            <a:ext cx="6983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s 10 mejores piscinas del mundo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53440" cy="54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260280"/>
            <a:ext cx="8207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45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San Alfonso del Mar, Chi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1640" y="1052640"/>
            <a:ext cx="1312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643040"/>
            <a:ext cx="8280360" cy="4810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404640"/>
            <a:ext cx="820728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scin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volucionari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(Venezuel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77080" y="1628640"/>
            <a:ext cx="1771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89000"/>
            <a:ext cx="835344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566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Elan (Dalla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25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5472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189000"/>
            <a:ext cx="842472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Begawan Giri (Bali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51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7800" cy="5399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333360"/>
            <a:ext cx="828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566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lden Nugget (Las Vegas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125360"/>
            <a:ext cx="4105080" cy="251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24720" y="4724280"/>
            <a:ext cx="12193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333360"/>
            <a:ext cx="770436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Burj Al Arab (Dubai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18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51640" y="1268280"/>
            <a:ext cx="14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5164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260280"/>
            <a:ext cx="734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wn Towers Hotel Macau (Isla Tai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047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809640"/>
            <a:ext cx="856944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85694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14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yan Tree Hotel: Bahía de Intendance, Seychell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5778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569080" cy="525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189000"/>
            <a:ext cx="8497800" cy="93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Lagoon Geothermal Resort: Grindavík, Isla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on aguas term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93080" y="1341360"/>
            <a:ext cx="1782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189000"/>
            <a:ext cx="842472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1852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Meridien Hurghada: Bahía de Makadi (Egipto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907920"/>
            <a:ext cx="1199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4:47:33Z</dcterms:created>
  <dc:creator>WinuE</dc:creator>
  <dc:description/>
  <dc:language>en-US</dc:language>
  <cp:lastModifiedBy>WinuE</cp:lastModifiedBy>
  <dcterms:modified xsi:type="dcterms:W3CDTF">2009-07-28T15:43:38Z</dcterms:modified>
  <cp:revision>2</cp:revision>
  <dc:subject/>
  <dc:title>Diapositiva 1</dc:title>
</cp:coreProperties>
</file>