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nya-One%20By%20One-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FFF-B00E-4B66-9E8F-25CE7E7B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EE9-009E-4233-BB8F-1F142646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D55-5693-4F78-9E07-6D4298C8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4BB-1BC2-4136-A1BC-7F5CF89E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F42-E549-4F06-841E-A75BBC37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722-960E-4768-95D5-4538185E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931-1BEA-4918-B59A-4A5827FE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3FA-4FF7-488B-89A2-5412FB78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1C4-0814-4FD4-B54E-B052E8AF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345-C7CB-4DAE-AB3C-95727BC6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DF5-19CC-40E9-BEE8-671D2B49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44A-7B53-436C-BFC8-805B2D7A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EBE0-8B10-4EFF-86A5-B26291CB2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nya-One%20By%20One-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¿ Que es la globalización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Enya-One%20By%20One-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Eso es globalización !!!!.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8066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Para los que aún no entienden , qué es la globalización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El mejor ejemplo lo tenemos ,            en el caso de la princesa Diana: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Una princesa británica ,                con un novio egipcio ,                  que usa un celular sueco ,            que choca en un túnel francés..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fff00"/>
                </a:solidFill>
                <a:latin typeface="Times New Roman"/>
              </a:rPr>
              <a:t>en un auto alemán ,                         con motor holandés ,             manejado por un conductor belga , borracho de whisky escocé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fff00"/>
                </a:solidFill>
                <a:latin typeface="Times New Roman"/>
              </a:rPr>
              <a:t>A ellos los seguía de cerca               un paparazzi italiano ,                      en una motocicleta japone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Fue intervenida por un médico ruso y un asistente filipino ,                   que utilizaron medicinas brasileñ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ste artículo ,                               fue traducido del inglés ,              por un bolivian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fff00"/>
                </a:solidFill>
                <a:latin typeface="Times New Roman"/>
              </a:rPr>
              <a:t>Y ahora lo está leyendo </a:t>
            </a:r>
            <a:br>
              <a:rPr sz="4800"/>
            </a:br>
            <a:r>
              <a:rPr b="0" i="1" lang="es-ES" sz="4800" spc="-1" strike="noStrike">
                <a:solidFill>
                  <a:srgbClr val="ffff00"/>
                </a:solidFill>
                <a:latin typeface="Times New Roman"/>
              </a:rPr>
              <a:t>  un cojudo peruano,                      en una computadora china ,  sentado en una silla taiwane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8:02:12Z</dcterms:created>
  <dc:creator>MARCELO A.</dc:creator>
  <dc:description/>
  <dc:language>en-US</dc:language>
  <cp:lastModifiedBy>Roberto Lowenstein</cp:lastModifiedBy>
  <dcterms:modified xsi:type="dcterms:W3CDTF">2006-08-31T22:30:50Z</dcterms:modified>
  <cp:revision>9</cp:revision>
  <dc:subject/>
  <dc:title>POWER SUCHO</dc:title>
</cp:coreProperties>
</file>