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nya-One%20By%20One-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C23-C8BC-4699-B8AE-86F2070E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B46-9276-473E-BACF-A16FC198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980-AE85-4980-B6C7-E7831A7F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86E-1023-4AFC-B676-22C15C2B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DB5-95A3-4353-BF99-24867A8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C24-EC27-45C1-9501-9E89F134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C9D-9794-4AC5-8271-1C9CB16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10D-46E5-48DD-8531-0392320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E3B-0263-4111-8BD2-7E77760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265-014D-498E-B169-C0C4DF4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B8D-EF76-4A54-BB0A-9684856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E1-D032-4260-887A-41AB60D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C3F-EB3A-4844-88E2-3BC4D885F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nya-One%20By%20One-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¿ Que es la globalización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Enya-One%20By%20One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Eso es globalización !!!!.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066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Para los que aún no entienden , qué es la globalización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l mejor ejemplo lo tenemos ,            en el caso de la princesa Diana: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Una princesa británica ,                con un novio egipcio ,                  que usa un celular sueco ,            que choca en un túnel francés.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en un auto alemán ,                         con motor holandés ,             manejado por un conductor belga , borracho de whisky escocé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A ellos los seguía de cerca               un paparazzi italiano ,                      en una motocicleta japone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Fue intervenida por un médico ruso y un asistente filipino ,                   que utilizaron medicinas brasileñ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ste artículo ,                               fue traducido del inglés ,              por un bolivia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Y ahora lo está leyendo </a:t>
            </a:r>
            <a:br>
              <a:rPr sz="4800"/>
            </a:br>
            <a:r>
              <a:rPr b="0" i="1" lang="es-ES" sz="4800" spc="-1" strike="noStrike">
                <a:solidFill>
                  <a:srgbClr val="ffff00"/>
                </a:solidFill>
                <a:latin typeface="Times New Roman"/>
              </a:rPr>
              <a:t>  un cojudo peruano,                      en una computadora china ,  sentado en una silla taiwane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8:02:12Z</dcterms:created>
  <dc:creator>MARCELO A.</dc:creator>
  <dc:description/>
  <dc:language>en-US</dc:language>
  <cp:lastModifiedBy>Roberto Lowenstein</cp:lastModifiedBy>
  <dcterms:modified xsi:type="dcterms:W3CDTF">2006-08-31T22:30:50Z</dcterms:modified>
  <cp:revision>9</cp:revision>
  <dc:subject/>
  <dc:title>POWER SUCHO</dc:title>
</cp:coreProperties>
</file>