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What%20a%20wonderful%20world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57F-670D-4839-A05A-8871C380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722-9902-4D1D-9234-4F9C915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A7C-ACCF-40C3-BB5A-98EDD519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ACF-6B78-446A-98E2-D86443A0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D3B-F7AF-41FE-B019-944C58C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E79-6A89-4DB0-840E-9B2631D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AFA-9F58-48A2-A14F-EF94B5E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551-83FB-413F-ACC9-8573629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E7F-15EE-4540-8C75-D7C428B4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147-B59A-4469-8A2D-F5511B8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884-462A-46F7-97E2-40A203E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732-B72A-406A-B018-6538837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3EE4-7DD3-4177-A812-0F59FC45E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audio" Target="../media/What%20a%20wonderful%20world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52560" y="72720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06640" y="954000"/>
            <a:ext cx="5040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ffffcc"/>
                  </a:outerShdw>
                </a:effectLst>
                <a:latin typeface="Comic Sans MS"/>
              </a:rPr>
              <a:t>George Burns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ffffcc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889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bfa60"/>
                </a:solidFill>
                <a:latin typeface="Century Gothic"/>
              </a:rPr>
              <a:t>Muerto en 1996, a los 100 años de edad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100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67000" y="4373640"/>
            <a:ext cx="6394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oy tan viejo que cuando yo era un niño, el Mar Muerto s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ó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o estaba enfermo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85920" y="4335480"/>
            <a:ext cx="4680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El sexo es una de las 9 razones por las que me gustaría reencarnarme</a:t>
            </a:r>
            <a:r>
              <a:rPr b="1" lang="es-ES_tradnl" sz="2400" spc="-1" strike="noStrike">
                <a:solidFill>
                  <a:srgbClr val="ebfa60"/>
                </a:solidFill>
                <a:latin typeface="Arial"/>
              </a:rPr>
              <a:t>.</a:t>
            </a: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fa60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ebfa60"/>
                </a:solidFill>
                <a:latin typeface="Arial"/>
              </a:rPr>
              <a:t>as otras 8 son ir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9560" y="4299120"/>
            <a:ext cx="7912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gente me pregunta que regalo apreciaría m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 para mi cumpleaños de 87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L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s contesto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: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una demanda de paternidad.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”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4568760"/>
            <a:ext cx="7600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Me encanta cantar y me encanta tomar whisky.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mayoría de las personas prefieren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scucharme tomar 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w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hisky.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67000" y="4284720"/>
            <a:ext cx="7065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Primero te olvidas de los nombres,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uego te olvidas de las caras.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Después te olvidas de subirte la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bragueta, finalmente te olvidas de bajárt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06640" y="4272120"/>
            <a:ext cx="5113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 felicidad es tener una familia grande, amorosa, dedicada, unida, y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...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en otra ciu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4508640"/>
            <a:ext cx="75690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¿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Saben lo que significa llegar a casa de noche y encontrar una mujer que te de un poco de amor, un poco de afecto, y un poco de tern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¡¡</a:t>
            </a:r>
            <a:r>
              <a:rPr b="1" lang="es-ES" sz="2400" spc="-1" strike="noStrike" u="sng">
                <a:solidFill>
                  <a:srgbClr val="ebfa60"/>
                </a:solidFill>
                <a:uFillTx/>
                <a:latin typeface="Century Gothic"/>
              </a:rPr>
              <a:t>Significa que te equivocaste de casa</a:t>
            </a:r>
            <a:r>
              <a:rPr b="1" lang="es-ES_tradnl" sz="2400" spc="-1" strike="noStrike" u="sng">
                <a:solidFill>
                  <a:srgbClr val="ebfa60"/>
                </a:solidFill>
                <a:uFillTx/>
                <a:latin typeface="Century Gothic"/>
              </a:rPr>
              <a:t> !!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2640" y="4486320"/>
            <a:ext cx="518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A mi edad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,</a:t>
            </a: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las flores y las velas me asus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52560" y="773280"/>
            <a:ext cx="5329440" cy="28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852560" y="773280"/>
            <a:ext cx="3014640" cy="288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11280" y="4284720"/>
            <a:ext cx="5888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bfa60"/>
                </a:solidFill>
                <a:latin typeface="Century Gothic"/>
              </a:rPr>
              <a:t>El secreto de un buen discurso es tener un buen comienzo, y un buen final, y luego tratar de que ambos estén lo más cerca posible</a:t>
            </a:r>
            <a:r>
              <a:rPr b="1" lang="es-ES_tradnl" sz="2400" spc="-1" strike="noStrike">
                <a:solidFill>
                  <a:srgbClr val="ebfa60"/>
                </a:solidFill>
                <a:latin typeface="Century Gothic"/>
              </a:rPr>
              <a:t>.</a:t>
            </a:r>
            <a:r>
              <a:rPr b="0" i="1" lang="es-ES" sz="2400" spc="-1" strike="noStrike">
                <a:solidFill>
                  <a:srgbClr val="ebfa6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21:14:25Z</dcterms:created>
  <dc:creator>Walter Echavarria</dc:creator>
  <dc:description/>
  <dc:language>en-US</dc:language>
  <cp:lastModifiedBy>Walter Echavarria</cp:lastModifiedBy>
  <dcterms:modified xsi:type="dcterms:W3CDTF">2010-01-22T15:23:39Z</dcterms:modified>
  <cp:revision>15</cp:revision>
  <dc:subject/>
  <dc:title>Slide 1</dc:title>
</cp:coreProperties>
</file>