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What%20a%20wonderful%20world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D96-415B-462A-90C7-A6FD35C5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A46-CDAC-418E-B2BF-404B8007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225-8B66-4FAE-B609-9343A79A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631-158E-4EDB-96FD-0EF33C9D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8D8-0F54-4120-8946-1591F914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264-3B81-4A2D-986D-09F781DC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33D-5E5C-4514-B861-EBE6CFBA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518-A076-46DA-9A00-398C387A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DF8-7B9A-411E-821C-AA111849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3C7-A768-465B-A586-EB036821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4A1-F6B3-4FAE-A11E-F390518E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571-33E3-457F-A72C-AE8626A6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A166-9585-4FD8-BBDF-D287D2078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audio" Target="../media/What%20a%20wonderful%20world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52560" y="72720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06640" y="954000"/>
            <a:ext cx="5040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George Burns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2889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bfa60"/>
                </a:solidFill>
                <a:latin typeface="Century Gothic"/>
              </a:rPr>
              <a:t>Muerto en 1996, a los 100 años de edad</a:t>
            </a:r>
            <a:r>
              <a:rPr b="0" i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1000"/>
            <a:ext cx="91440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67000" y="4373640"/>
            <a:ext cx="6394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Soy tan viejo que cuando yo era un niño, el Mar Muerto s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ó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o estaba enfermo.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85920" y="4335480"/>
            <a:ext cx="4680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Arial"/>
              </a:rPr>
              <a:t>El sexo es una de las 9 razones por las que me gustaría reencarnarme</a:t>
            </a:r>
            <a:r>
              <a:rPr b="1" lang="es-ES_tradnl" sz="2400" spc="-1" strike="noStrike">
                <a:solidFill>
                  <a:srgbClr val="ebfa60"/>
                </a:solidFill>
                <a:latin typeface="Arial"/>
              </a:rPr>
              <a:t>.</a:t>
            </a:r>
            <a:r>
              <a:rPr b="1" lang="es-ES" sz="2400" spc="-1" strike="noStrike">
                <a:solidFill>
                  <a:srgbClr val="ebfa60"/>
                </a:solidFill>
                <a:latin typeface="Arial"/>
              </a:rPr>
              <a:t> </a:t>
            </a:r>
            <a:br>
              <a:rPr sz="2400"/>
            </a:br>
            <a:r>
              <a:rPr b="1" lang="es-ES_tradnl" sz="2400" spc="-1" strike="noStrike">
                <a:solidFill>
                  <a:srgbClr val="ebfa60"/>
                </a:solidFill>
                <a:latin typeface="Arial"/>
              </a:rPr>
              <a:t>L</a:t>
            </a:r>
            <a:r>
              <a:rPr b="1" lang="es-ES" sz="2400" spc="-1" strike="noStrike">
                <a:solidFill>
                  <a:srgbClr val="ebfa60"/>
                </a:solidFill>
                <a:latin typeface="Arial"/>
              </a:rPr>
              <a:t>as otras 8 son ir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9560" y="4299120"/>
            <a:ext cx="79120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a gente me pregunta que regalo apreciaría m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á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s para mi cumpleaños de 87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.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br>
              <a:rPr sz="2400"/>
            </a:b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L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es contesto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: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“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una demanda de paternidad.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”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9320" y="4568760"/>
            <a:ext cx="76006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Me encanta cantar y me encanta tomar whisky. </a:t>
            </a:r>
            <a:br>
              <a:rPr sz="2400"/>
            </a:b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a mayoría de las personas prefieren </a:t>
            </a:r>
            <a:br>
              <a:rPr sz="2400"/>
            </a:b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escucharme tomar 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w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hisky.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67000" y="4284720"/>
            <a:ext cx="7065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Primero te olvidas de los nombres,</a:t>
            </a:r>
            <a:br>
              <a:rPr sz="2400"/>
            </a:b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uego te olvidas de las caras. </a:t>
            </a:r>
            <a:br>
              <a:rPr sz="2400"/>
            </a:b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Después te olvidas de subirte la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bragueta, finalmente te olvidas de bajárt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06640" y="4272120"/>
            <a:ext cx="5113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a felicidad es tener una familia grande, amorosa, dedicada, unida, y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....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 en otra ciu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71640" y="4508640"/>
            <a:ext cx="756900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¿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Saben lo que significa llegar a casa de noche y encontrar una mujer que te de un poco de amor, un poco de afecto, y un poco de tern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¡¡</a:t>
            </a:r>
            <a:r>
              <a:rPr b="1" lang="es-ES" sz="2400" spc="-1" strike="noStrike" u="sng">
                <a:solidFill>
                  <a:srgbClr val="ebfa60"/>
                </a:solidFill>
                <a:uFillTx/>
                <a:latin typeface="Century Gothic"/>
              </a:rPr>
              <a:t>Significa que te equivocaste de casa</a:t>
            </a:r>
            <a:r>
              <a:rPr b="1" lang="es-ES_tradnl" sz="2400" spc="-1" strike="noStrike" u="sng">
                <a:solidFill>
                  <a:srgbClr val="ebfa60"/>
                </a:solidFill>
                <a:uFillTx/>
                <a:latin typeface="Century Gothic"/>
              </a:rPr>
              <a:t> !!</a:t>
            </a:r>
            <a:r>
              <a:rPr b="0" i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52640" y="4486320"/>
            <a:ext cx="518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A mi edad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,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as flores y las velas me asus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11280" y="4284720"/>
            <a:ext cx="5888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El secreto de un buen discurso es tener un buen comienzo, y un buen final, y luego tratar de que ambos estén lo más cerca posible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.</a:t>
            </a:r>
            <a:r>
              <a:rPr b="0" i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21:14:25Z</dcterms:created>
  <dc:creator>Walter Echavarria</dc:creator>
  <dc:description/>
  <dc:language>en-US</dc:language>
  <cp:lastModifiedBy>Walter Echavarria</cp:lastModifiedBy>
  <dcterms:modified xsi:type="dcterms:W3CDTF">2010-01-22T15:23:39Z</dcterms:modified>
  <cp:revision>15</cp:revision>
  <dc:subject/>
  <dc:title>Slide 1</dc:title>
</cp:coreProperties>
</file>