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Black%20-%20Wonderful%20Life.wav" ContentType="audio/x-wav"/>
  <Override PartName="/ppt/media/image3.gif" ContentType="image/gif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3F417-D6C3-466F-87BC-504057FEA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2AE19-DB52-4329-BBA1-D36B844B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1D5BA-7B52-4BAD-9B18-98053FF91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C45D6-90DA-476E-AC3F-20F0C8DA6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8E7A-1149-490A-889C-F01B75E76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15E4-2D56-4A34-946E-F195D992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2504-174E-4402-A7D2-6E80BE2D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ABC3-6FEF-4B4C-9704-53537C98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32B1-D169-467F-8FEC-F9347F04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CE01-24B7-459F-B586-9A860491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86E8-0B03-451C-BD9A-3B1BA0A5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922E9-1ADA-4CAE-ABE0-8D24217E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F929-4012-4C15-A40C-FBCE4FF4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95B7-4E57-4314-B8EF-4127D150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B300-8EAD-4559-A57B-98FDCA66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631A-CC95-4D04-9DAB-F25DBDF57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0F35-0183-42C3-925C-2706BA26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D7F6A-966F-4600-8D20-B5529470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152BB-22E2-400B-95B8-DBC748B4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BB036-D9EA-4ECC-99A1-ACE10F3F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B513E-79AD-4B68-9EBD-BD5504F8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C4A2A-C311-40A5-B25F-5417A31C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0100B-7032-491F-9794-4A382B94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2794B-9293-4CFC-9311-52C5127B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AFFC-DB0C-4741-94BB-C95D3E268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3138-EEC0-4D91-BFC9-CC898E6C60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audio" Target="../media/Black%20-%20Wonderful%20Life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1 Imagen" descr="THE_DANCE_OF_LOVE_by_Leonidafrem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2 Rectángulo" descr=""/>
          <p:cNvPicPr/>
          <p:nvPr/>
        </p:nvPicPr>
        <p:blipFill>
          <a:blip r:embed="rId2"/>
          <a:stretch/>
        </p:blipFill>
        <p:spPr>
          <a:xfrm>
            <a:off x="2627280" y="3645000"/>
            <a:ext cx="618192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9280" y="126828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8000"/>
                </a:solidFill>
                <a:latin typeface="Aardvark Cafe"/>
              </a:rPr>
              <a:t>Escucha esta bonita canción, mientras contemplas las pinturas y lees los mensajes</a:t>
            </a:r>
            <a:r>
              <a:rPr b="1" i="1" lang="es-ES" sz="4000" spc="-1" strike="noStrike">
                <a:solidFill>
                  <a:srgbClr val="0099cc"/>
                </a:solidFill>
                <a:latin typeface="Aardvark Cafe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427640" y="5877000"/>
            <a:ext cx="1150920" cy="71892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fade thruBlk="true"/>
    <p:sndAc>
      <p:stSnd>
        <p:snd r:embed="rId4" name="Black%20-%20Wonderful%20Lif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42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1 Imagen" descr="Afremov_MOON_LIGHT_Original_Ar_by_Leonidafrem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2 Rectángulo"/>
          <p:cNvSpPr/>
          <p:nvPr/>
        </p:nvSpPr>
        <p:spPr>
          <a:xfrm>
            <a:off x="3276720" y="5373720"/>
            <a:ext cx="4929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Y transmitiré alivio, cuando vea dolor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8000">
    <p:fade thruBlk="true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1 Imagen" descr="Afremov_AMSTERDAM_FOG_Original_by_Leonidafrem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2 Rectángulo"/>
          <p:cNvSpPr/>
          <p:nvPr/>
        </p:nvSpPr>
        <p:spPr>
          <a:xfrm>
            <a:off x="179280" y="5300640"/>
            <a:ext cx="878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Y regalaré motivos de alegría donde solo haya tristezas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9000"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1 Imagen" descr="Afremov_FIRST_DATE_Original_Ar_by_Leonidafrem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2 Rectángulo"/>
          <p:cNvSpPr/>
          <p:nvPr/>
        </p:nvSpPr>
        <p:spPr>
          <a:xfrm>
            <a:off x="2700360" y="5373720"/>
            <a:ext cx="644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ardvark Cafe"/>
                <a:ea typeface="Times New Roman"/>
              </a:rPr>
              <a:t>Invitaré a caminar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ardvark Cafe"/>
                <a:ea typeface="Times New Roman"/>
              </a:rPr>
              <a:t>al que decidió quedarse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8000"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1 Imagen" descr="UNDER_THE_RAIN_OF_LOVE_by_Leonidafrem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2 Rectángulo"/>
          <p:cNvSpPr/>
          <p:nvPr/>
        </p:nvSpPr>
        <p:spPr>
          <a:xfrm>
            <a:off x="2286000" y="537372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y levantaré los brazos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de los que se han rendido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0000">
    <p:fade thruBlk="true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1 Imagen" descr="AUTUMN_PARK____Leonid_Afremov_by_Leonidafrem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2 Rectángulo"/>
          <p:cNvSpPr/>
          <p:nvPr/>
        </p:nvSpPr>
        <p:spPr>
          <a:xfrm>
            <a:off x="1692360" y="3933720"/>
            <a:ext cx="7237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ardvark Cafe"/>
                <a:ea typeface="Arial Unicode MS"/>
              </a:rPr>
              <a:t>Porque en medio de la desolación, siempre habrá un niño que nos mirará esperando algo de nosotros, y aún en medio de una tormenta, por algún lado saldrá el sol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3000"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1 Imagen" descr="TWO_SISTERS_by_Leonidafrem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3 Rectángulo"/>
          <p:cNvSpPr/>
          <p:nvPr/>
        </p:nvSpPr>
        <p:spPr>
          <a:xfrm>
            <a:off x="395280" y="5084640"/>
            <a:ext cx="8391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ardvark Cafe"/>
                <a:ea typeface="Arial Unicode MS"/>
              </a:rPr>
              <a:t>Siempre habrá un pájaro que nos cante, un niño que nos sonrí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ardvark Cafe"/>
                <a:ea typeface="Arial Unicode MS"/>
              </a:rPr>
              <a:t>y una mariposa que nos brinde su bellez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0000"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1 Imagen" descr="TOGETHER_IN_THE_STORM_by_Leonidafrem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2 Rectángulo"/>
          <p:cNvSpPr/>
          <p:nvPr/>
        </p:nvSpPr>
        <p:spPr>
          <a:xfrm>
            <a:off x="0" y="0"/>
            <a:ext cx="4932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Pero...si algún dí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ves que ya no sigo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no sonrío o callo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solo acércate 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dame un beso, un abraz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o regálame una sonrisa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con eso será suficiente, seguramente me habrá pasado qu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la vida me abofeteó 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me sorprendió por un segundo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5000">
    <p:fade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2 Imagen" descr="TEMPTER_by_Leonidafrem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3 Rectángulo"/>
          <p:cNvSpPr/>
          <p:nvPr/>
        </p:nvSpPr>
        <p:spPr>
          <a:xfrm>
            <a:off x="214200" y="3429000"/>
            <a:ext cx="6662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Solo un gesto tuyo hará que vuelva a mi camino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ardvark Cafe"/>
                <a:ea typeface="Times New Roman"/>
              </a:rPr>
              <a:t>Nunca lo olvides........</a:t>
            </a:r>
            <a:r>
              <a:rPr b="1" i="1" lang="en-US" sz="4000" spc="-1" strike="noStrike">
                <a:solidFill>
                  <a:srgbClr val="00ff00"/>
                </a:solidFill>
                <a:latin typeface="Aardvark Cafe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9000">
    <p:fade thruBlk="true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6308640"/>
            <a:ext cx="9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ardvark Cafe"/>
              </a:rPr>
              <a:t>EL BESO MAS DIFICIL NO ES EL PRIMERO, SINO EL ULTIMO..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9000">
    <p:fade thruBlk="true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84360" y="623736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ardvark Cafe"/>
              </a:rPr>
              <a:t>DISFRUTA HOY, ES MAS TARDE DE LO QUE CREES..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9000">
    <p:fade thruBlk="true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1 Imagen" descr="Afremov_AFTER_WORK_Original_Ar_by_Leonidafrem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2 Rectángulo"/>
          <p:cNvSpPr/>
          <p:nvPr/>
        </p:nvSpPr>
        <p:spPr>
          <a:xfrm>
            <a:off x="1835280" y="4724280"/>
            <a:ext cx="583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Voy a seguir creyendo, aún cuando la gente pierda la esperanz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0000">
    <p:fade thruBlk="true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616572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ardvark Cafe"/>
              </a:rPr>
              <a:t>LOS IMPOSIBLES DE HOY, SERAN POSIBLES MAÑANA..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9000">
    <p:fade thruBlk="true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50920" y="558972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ardvark Cafe"/>
              </a:rPr>
              <a:t>LA SONRISA ES EL IDIOMA UNIVERSAL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ardvark Cafe"/>
              </a:rPr>
              <a:t>DE LA GENTE INTELIGENTE</a:t>
            </a:r>
            <a:r>
              <a:rPr b="1" lang="es-ES_tradnl" sz="2400" spc="-1" strike="noStrike">
                <a:solidFill>
                  <a:srgbClr val="ffffff"/>
                </a:solidFill>
                <a:latin typeface="Aardvark Caf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9000">
    <p:fade thruBlk="true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132000" y="603576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ardvark Cafe"/>
              </a:rPr>
              <a:t>SIGUE, SIGUE...YA LLEGARAS..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ardvark Cafe"/>
              </a:rPr>
              <a:t>NO DUDES...LO LOGRARAS...</a:t>
            </a:r>
            <a:r>
              <a:rPr b="0" lang="es-ES_tradnl" sz="2400" spc="-1" strike="noStrike">
                <a:solidFill>
                  <a:srgbClr val="ffcc00"/>
                </a:solidFill>
                <a:latin typeface="Aardvark Caf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9000">
    <p:fade thruBlk="true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-541440" y="0"/>
            <a:ext cx="1022688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-181080" y="6237360"/>
            <a:ext cx="93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ardvark Cafe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ardvark Cafe"/>
              </a:rPr>
              <a:t>UNO ES LO QUE ES POR LA SUMA DE LO QUE HA VIVIDO</a:t>
            </a:r>
            <a:r>
              <a:rPr b="1" lang="es-ES_tradnl" sz="2400" spc="-1" strike="noStrike">
                <a:solidFill>
                  <a:srgbClr val="ffffff"/>
                </a:solidFill>
                <a:latin typeface="Aardvark Cafe"/>
              </a:rPr>
              <a:t> !!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9000">
    <p:fade thruBlk="true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79164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6237360"/>
            <a:ext cx="96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ardvark Cafe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ardvark Cafe"/>
              </a:rPr>
              <a:t>LA SONRISA ES LA FORMA MAS SENCILLA DE GRATITUD..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9000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72036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6237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64500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ardvark Cafe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Aardvark Cafe"/>
              </a:rPr>
              <a:t>Este archivo era mío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ardvark Cafe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Aardvark Cafe"/>
              </a:rPr>
              <a:t>Si lo tienes ahora tú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ardvark Cafe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Aardvark Cafe"/>
              </a:rPr>
              <a:t>es porque pensé que debías tenerlo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9000">
    <p:fade thruBlk="true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4" name="3 Marcador de contenido" descr="SONGS_OF_LOVE_by_Leonidafrem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6 CuadroTexto"/>
          <p:cNvSpPr/>
          <p:nvPr/>
        </p:nvSpPr>
        <p:spPr>
          <a:xfrm flipV="1" rot="10800000">
            <a:off x="1835280" y="5719320"/>
            <a:ext cx="555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ardvark Cafe"/>
              </a:rPr>
              <a:t>Pinturas de: </a:t>
            </a:r>
            <a:r>
              <a:rPr b="1" lang="en-US" sz="2800" spc="-1" strike="noStrike">
                <a:solidFill>
                  <a:srgbClr val="ffffff"/>
                </a:solidFill>
                <a:latin typeface="Aardvark Cafe"/>
              </a:rPr>
              <a:t>LEONID AFREMO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0000"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1 Imagen" descr="Afremov_WALK_HOME_Original_Art_by_Leonidafrem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3 Rectángulo"/>
          <p:cNvSpPr/>
          <p:nvPr/>
        </p:nvSpPr>
        <p:spPr>
          <a:xfrm>
            <a:off x="324000" y="5229360"/>
            <a:ext cx="77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Voy a seguir dando amor, aunque otros siembren odio.</a:t>
            </a:r>
            <a:r>
              <a:rPr b="0" i="1" lang="en-US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0000"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1 Imagen" descr="Afremov_DOWNTOWN_Original_Art_by_Leonidafrem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2 Rectángulo"/>
          <p:cNvSpPr/>
          <p:nvPr/>
        </p:nvSpPr>
        <p:spPr>
          <a:xfrm>
            <a:off x="0" y="5300640"/>
            <a:ext cx="81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Voy a seguir construyendo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aún cuando otros destruyan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0000"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1 Imagen" descr="TODAY___Leonid_Afremov_by_Leonidafrem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2 Rectángulo"/>
          <p:cNvSpPr/>
          <p:nvPr/>
        </p:nvSpPr>
        <p:spPr>
          <a:xfrm>
            <a:off x="826920" y="5229360"/>
            <a:ext cx="756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Voy a seguir hablando de Paz, aún en medio de una guerra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0000"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1 Imagen" descr="30_____Afremov_STREET_OF_HOPE_by_Leonidafrem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2 Rectángulo"/>
          <p:cNvSpPr/>
          <p:nvPr/>
        </p:nvSpPr>
        <p:spPr>
          <a:xfrm>
            <a:off x="900000" y="537372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ardvark Cafe"/>
                <a:ea typeface="Times New Roman"/>
              </a:rPr>
              <a:t>Voy a seguir iluminando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ardvark Cafe"/>
                <a:ea typeface="Times New Roman"/>
              </a:rPr>
              <a:t>aún en medio de la oscuridad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0000"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2 Imagen" descr="Afremov_FALL_DREAM_Original_Ar_by_Leonidafrem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3 Rectángulo"/>
          <p:cNvSpPr/>
          <p:nvPr/>
        </p:nvSpPr>
        <p:spPr>
          <a:xfrm>
            <a:off x="826920" y="5300640"/>
            <a:ext cx="792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ardvark Cafe"/>
                <a:ea typeface="Arial Unicode MS"/>
              </a:rPr>
              <a:t>Y seguiré sembrando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ardvark Cafe"/>
                <a:ea typeface="Arial Unicode MS"/>
              </a:rPr>
              <a:t>aunque otros pisen la cosecha.</a:t>
            </a:r>
            <a:r>
              <a:rPr b="1" lang="en-US" sz="4000" spc="-1" strike="noStrike">
                <a:solidFill>
                  <a:srgbClr val="003399"/>
                </a:solidFill>
                <a:latin typeface="Aardvark Cafe"/>
                <a:ea typeface="Arial Unicode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0000"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1 Imagen" descr="f82d00a88bfa632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2 Rectángulo"/>
          <p:cNvSpPr/>
          <p:nvPr/>
        </p:nvSpPr>
        <p:spPr>
          <a:xfrm>
            <a:off x="2700360" y="5373720"/>
            <a:ext cx="644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Y seguiré gritando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aún cuando otros callen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8000"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1 Imagen" descr="Afremov_EVENING_STROLL_Origina_by_Leonidafrem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2 Rectángulo"/>
          <p:cNvSpPr/>
          <p:nvPr/>
        </p:nvSpPr>
        <p:spPr>
          <a:xfrm>
            <a:off x="1116000" y="5229360"/>
            <a:ext cx="64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Y dibujaré sonrisas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en rostros con lágrimas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8000">
    <p:fade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5:15:27Z</dcterms:created>
  <dc:creator>Cervera</dc:creator>
  <dc:description/>
  <dc:language>en-US</dc:language>
  <cp:lastModifiedBy>rosa</cp:lastModifiedBy>
  <dcterms:modified xsi:type="dcterms:W3CDTF">2010-01-31T09:42:18Z</dcterms:modified>
  <cp:revision>5</cp:revision>
  <dc:subject/>
  <dc:title>Diapositiva 1</dc:title>
</cp:coreProperties>
</file>