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Black%20-%20Wonderful%20Life.wav" ContentType="audio/x-wav"/>
  <Override PartName="/ppt/media/image3.gif" ContentType="image/gi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8C9E-5C7D-496C-9BB1-F1674E35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2F288-0A16-4806-8670-F6EA07F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F0F8-9CAC-477C-B9D9-51E20AE3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4CC0-710A-4339-B9E4-5EE86ACC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2A4D-1831-4214-A56B-5E9C55E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C9A-40DC-4051-8EDD-450275EF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2583-C150-4FC0-A85D-5D87B725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33D5-975F-481E-A4C1-D5112D5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163-C29E-4537-9EAE-5F5438D9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DA4E-2A84-46DC-B0A3-E98FE24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182-CD74-4F47-81B5-94056EC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B97B-1604-43C8-91F5-53AD272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5B9A-A56F-4CAB-93E7-119F12E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F3E0-BB45-4C0A-ABFD-2A3C66EC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AB7B-1F0F-4EF8-8533-F4F9C6CE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8FD-0288-439D-AA58-83E4A71F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3DCE-8E6F-4D57-B1A1-59AA06E0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FF1A-5AC8-4A01-84FC-156AE2D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118A-3E45-4113-B826-CA253DC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0CD9-FA86-4D68-A2DB-A55E994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DA17-4CC5-4A61-BB80-91810AE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AAAC-731F-4FF6-8C42-2C8DAEE7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9129-1FAE-4457-9C07-C0EFA3B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597F-574D-42E3-91FB-E0DB5AA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387E-1743-42D5-950A-97C6C718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EE5-1E24-45D8-AADE-392186FD1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Black%20-%20Wonderful%20Lif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THE_DANCE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2 Rectángulo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61819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2682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8000"/>
                </a:solidFill>
                <a:latin typeface="Aardvark Cafe"/>
              </a:rPr>
              <a:t>Escucha esta bonita canción, mientras contemplas las pinturas y lees los mensajes</a:t>
            </a:r>
            <a:r>
              <a:rPr b="1" i="1" lang="es-ES" sz="4000" spc="-1" strike="noStrike">
                <a:solidFill>
                  <a:srgbClr val="0099cc"/>
                </a:solidFill>
                <a:latin typeface="Aardvark Cafe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27640" y="5877000"/>
            <a:ext cx="1150920" cy="718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 thruBlk="true"/>
    <p:sndAc>
      <p:stSnd>
        <p:snd r:embed="rId4" name="Black%20-%20Wonderful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2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 Imagen" descr="Afremov_MOON_LIGHT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2 Rectángulo"/>
          <p:cNvSpPr/>
          <p:nvPr/>
        </p:nvSpPr>
        <p:spPr>
          <a:xfrm>
            <a:off x="3276720" y="53737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transmitiré alivio, cuando vea dolor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 Imagen" descr="Afremov_AMSTERDAM_FOG_Original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2 Rectángulo"/>
          <p:cNvSpPr/>
          <p:nvPr/>
        </p:nvSpPr>
        <p:spPr>
          <a:xfrm>
            <a:off x="179280" y="530064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regalaré motivos de alegría donde solo haya tristez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 Imagen" descr="Afremov_FIRST_DATE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2 Rectángulo"/>
          <p:cNvSpPr/>
          <p:nvPr/>
        </p:nvSpPr>
        <p:spPr>
          <a:xfrm>
            <a:off x="2700360" y="537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Invitaré a caminar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al que decidió quedarse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UNDER_THE_RAIN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2 Rectángulo"/>
          <p:cNvSpPr/>
          <p:nvPr/>
        </p:nvSpPr>
        <p:spPr>
          <a:xfrm>
            <a:off x="2286000" y="537372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levantaré los brazo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de los que se han rendid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1 Imagen" descr="AUTUMN_PARK_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2 Rectángulo"/>
          <p:cNvSpPr/>
          <p:nvPr/>
        </p:nvSpPr>
        <p:spPr>
          <a:xfrm>
            <a:off x="1692360" y="3933720"/>
            <a:ext cx="72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Porque en medio de la desolación, siempre habrá un niño que nos mirará esperando algo de nosotros, y aún en medio de una tormenta, por algún lado saldrá el sol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3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 Imagen" descr="TWO_SISTERS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3 Rectángulo"/>
          <p:cNvSpPr/>
          <p:nvPr/>
        </p:nvSpPr>
        <p:spPr>
          <a:xfrm>
            <a:off x="395280" y="5084640"/>
            <a:ext cx="839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Siempre habrá un pájaro que nos cante, un niño que nos sonrí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y una mariposa que nos brinde su bellez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TOGETHER_IN_THE_STORM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2 Rectángulo"/>
          <p:cNvSpPr/>
          <p:nvPr/>
        </p:nvSpPr>
        <p:spPr>
          <a:xfrm>
            <a:off x="0" y="0"/>
            <a:ext cx="4932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Pero...si algún dí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es que ya no sig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no sonrío o callo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acércate 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dame un beso, un abraz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o regálame una sonris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con eso será suficiente, seguramente me habrá pasado q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la vida me abofeteó 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me sorprendió por un segund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2 Imagen" descr="TEMPTE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3 Rectángulo"/>
          <p:cNvSpPr/>
          <p:nvPr/>
        </p:nvSpPr>
        <p:spPr>
          <a:xfrm>
            <a:off x="214200" y="3429000"/>
            <a:ext cx="666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Solo un gesto tuyo hará que vuelva a mi camin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Nunca lo olvides........</a:t>
            </a:r>
            <a:r>
              <a:rPr b="1" i="1" lang="en-US" sz="4000" spc="-1" strike="noStrike">
                <a:solidFill>
                  <a:srgbClr val="00ff00"/>
                </a:solidFill>
                <a:latin typeface="Aardvark Cafe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308640"/>
            <a:ext cx="9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EL BESO MAS DIFICIL NO ES EL PRIMERO, SINO EL ULTIMO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6237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DISFRUTA HOY, ES MAS TARDE DE LO QUE CREE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Imagen" descr="Afremov_AFTER_WORK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2 Rectángulo"/>
          <p:cNvSpPr/>
          <p:nvPr/>
        </p:nvSpPr>
        <p:spPr>
          <a:xfrm>
            <a:off x="1835280" y="4724280"/>
            <a:ext cx="58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reyendo, aún cuando la gente pierda la esperanz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1657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OS IMPOSIBLES DE HOY, SERAN POSIBLES MAÑANA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58972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A SONRISA ES EL IDIOMA UNIVERS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DE LA GENTE INTELIGENTE</a:t>
            </a:r>
            <a:r>
              <a:rPr b="1" lang="es-ES_tradnl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32000" y="60357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SIGUE, SIGUE...YA LLEGARAS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NO DUDES...LO LOGRARAS...</a:t>
            </a:r>
            <a:r>
              <a:rPr b="0" lang="es-ES_tradnl" sz="2400" spc="-1" strike="noStrike">
                <a:solidFill>
                  <a:srgbClr val="ffcc00"/>
                </a:solidFill>
                <a:latin typeface="Aardvark Caf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181080" y="623736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UNO ES LO QUE ES POR LA SUMA DE LO QUE HA VIVIDO</a:t>
            </a:r>
            <a:r>
              <a:rPr b="1" lang="es-ES_tradnl" sz="2400" spc="-1" strike="noStrike">
                <a:solidFill>
                  <a:srgbClr val="ffffff"/>
                </a:solidFill>
                <a:latin typeface="Aardvark Cafe"/>
              </a:rPr>
              <a:t> !!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9164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623736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ardvark Cafe"/>
              </a:rPr>
              <a:t>LA SONRISA ES LA FORMA MAS SENCILLA DE GRATITUD..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23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45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Este archivo era mío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Si lo tienes ahora tú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ardvark Cafe"/>
              </a:rPr>
              <a:t>es porque pensé que debías tenerl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9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3 Marcador de contenido" descr="SONGS_OF_LOV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6 CuadroTexto"/>
          <p:cNvSpPr/>
          <p:nvPr/>
        </p:nvSpPr>
        <p:spPr>
          <a:xfrm flipV="1" rot="10800000">
            <a:off x="1835280" y="5719320"/>
            <a:ext cx="55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ardvark Cafe"/>
              </a:rPr>
              <a:t>Pinturas de: </a:t>
            </a:r>
            <a:r>
              <a:rPr b="1" lang="en-US" sz="2800" spc="-1" strike="noStrike">
                <a:solidFill>
                  <a:srgbClr val="ffffff"/>
                </a:solidFill>
                <a:latin typeface="Aardvark Cafe"/>
              </a:rPr>
              <a:t>LEONID AFREM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Afremov_WALK_HOME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3 Rectángulo"/>
          <p:cNvSpPr/>
          <p:nvPr/>
        </p:nvSpPr>
        <p:spPr>
          <a:xfrm>
            <a:off x="324000" y="5229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dando amor, aunque otros siembren odio.</a:t>
            </a:r>
            <a:r>
              <a:rPr b="0" i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Imagen" descr="Afremov_DOWNTOWN_Original_Art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2 Rectángulo"/>
          <p:cNvSpPr/>
          <p:nvPr/>
        </p:nvSpPr>
        <p:spPr>
          <a:xfrm>
            <a:off x="0" y="530064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construye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aún cuando otros destruyan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TODAY___Leonid_Afremov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2 Rectángulo"/>
          <p:cNvSpPr/>
          <p:nvPr/>
        </p:nvSpPr>
        <p:spPr>
          <a:xfrm>
            <a:off x="826920" y="522936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Voy a seguir hablando de Paz, aún en medio de una guerra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30_____Afremov_STREET_OF_HOPE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Rectángulo"/>
          <p:cNvSpPr/>
          <p:nvPr/>
        </p:nvSpPr>
        <p:spPr>
          <a:xfrm>
            <a:off x="900000" y="5373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Times New Roman"/>
              </a:rPr>
              <a:t>Voy a seguir ilumin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Times New Roman"/>
              </a:rPr>
              <a:t>aún en medio de la oscuridad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Afremov_FALL_DREAM_Original_Ar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3 Rectángulo"/>
          <p:cNvSpPr/>
          <p:nvPr/>
        </p:nvSpPr>
        <p:spPr>
          <a:xfrm>
            <a:off x="826920" y="530064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Y seguiré sembr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ardvark Cafe"/>
                <a:ea typeface="Arial Unicode MS"/>
              </a:rPr>
              <a:t>aunque otros pisen la cosecha.</a:t>
            </a:r>
            <a:r>
              <a:rPr b="1" lang="en-US" sz="4000" spc="-1" strike="noStrike">
                <a:solidFill>
                  <a:srgbClr val="003399"/>
                </a:solidFill>
                <a:latin typeface="Aardvark Cafe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Imagen" descr="f82d00a88bfa632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2 Rectángulo"/>
          <p:cNvSpPr/>
          <p:nvPr/>
        </p:nvSpPr>
        <p:spPr>
          <a:xfrm>
            <a:off x="2700360" y="537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seguiré gritando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aún cuando otros callen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Afremov_EVENING_STROLL_Origina_by_Leonidafrem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1116000" y="52293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Y dibujaré sonrisas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ardvark Cafe"/>
                <a:ea typeface="Arial Unicode MS"/>
              </a:rPr>
              <a:t>en rostros con lágrima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15:27Z</dcterms:created>
  <dc:creator>Cervera</dc:creator>
  <dc:description/>
  <dc:language>en-US</dc:language>
  <cp:lastModifiedBy>rosa</cp:lastModifiedBy>
  <dcterms:modified xsi:type="dcterms:W3CDTF">2010-01-31T09:42:18Z</dcterms:modified>
  <cp:revision>5</cp:revision>
  <dc:subject/>
  <dc:title>Diapositiva 1</dc:title>
</cp:coreProperties>
</file>