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3FC-9208-4878-A4EF-D0A6A356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1A0-B26F-4B4F-947E-55FF5C63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405-CFF1-45EC-9D57-197135D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B0B-0108-45B0-81CE-D274B42F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8D0-097E-4B69-8EEC-F6A5589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31A-22B8-4492-AD5C-EE90204C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2A2-37E9-4EB9-8BC0-99C41AE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E73-0B2F-4D18-85F3-9CBF2199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EC7-1DAA-40C0-BBA7-9F2A081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E3C-464A-4E0D-A904-6612154F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613-0DED-4B3C-9340-B3AA2DE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114-537F-4D69-91D3-DCF987B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2628-D14C-4987-91E9-4ACF3F5DB2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 Black"/>
              </a:rPr>
              <a:t>FOTOS IMPOSI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DE ERIK JOHAN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hoto Manipulations by Erik Johansson 8"/>
          <p:cNvPicPr/>
          <p:nvPr/>
        </p:nvPicPr>
        <p:blipFill>
          <a:blip r:embed="rId2"/>
          <a:stretch/>
        </p:blipFill>
        <p:spPr>
          <a:xfrm>
            <a:off x="1547640" y="0"/>
            <a:ext cx="5980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 Manipulations by Erik Johansson 9"/>
          <p:cNvPicPr/>
          <p:nvPr/>
        </p:nvPicPr>
        <p:blipFill>
          <a:blip r:embed="rId2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hoto Manipulations by Erik Johansson 10"/>
          <p:cNvPicPr/>
          <p:nvPr/>
        </p:nvPicPr>
        <p:blipFill>
          <a:blip r:embed="rId2"/>
          <a:stretch/>
        </p:blipFill>
        <p:spPr>
          <a:xfrm>
            <a:off x="212400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hoto Manipulations by Erik Johansson 11"/>
          <p:cNvPicPr/>
          <p:nvPr/>
        </p:nvPicPr>
        <p:blipFill>
          <a:blip r:embed="rId2"/>
          <a:stretch/>
        </p:blipFill>
        <p:spPr>
          <a:xfrm>
            <a:off x="755640" y="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hoto Manipulations by Erik Johansson 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hoto Manipulations by Erik Johansson 13"/>
          <p:cNvPicPr/>
          <p:nvPr/>
        </p:nvPicPr>
        <p:blipFill>
          <a:blip r:embed="rId2"/>
          <a:stretch/>
        </p:blipFill>
        <p:spPr>
          <a:xfrm>
            <a:off x="826920" y="0"/>
            <a:ext cx="6985080" cy="698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hoto Manipulations by Erik Johansson 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anipulando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ik Johansson es un sueco aficionado a la fotografía y a los ordenadores, lo que le ha llevado a introducirse en el retoque fotográfico, con unos trabajos así de curios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hoto Manipulations by Erik Johanss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hoto Manipulations by Erik Johansson 2"/>
          <p:cNvPicPr/>
          <p:nvPr/>
        </p:nvPicPr>
        <p:blipFill>
          <a:blip r:embed="rId2"/>
          <a:stretch/>
        </p:blipFill>
        <p:spPr>
          <a:xfrm>
            <a:off x="2428920" y="219240"/>
            <a:ext cx="4286160" cy="64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hoto Manipulations by Erik Johansson 3"/>
          <p:cNvPicPr/>
          <p:nvPr/>
        </p:nvPicPr>
        <p:blipFill>
          <a:blip r:embed="rId2"/>
          <a:stretch/>
        </p:blipFill>
        <p:spPr>
          <a:xfrm>
            <a:off x="1763640" y="404640"/>
            <a:ext cx="6048360" cy="604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hoto Manipulations by Erik Johansson 4"/>
          <p:cNvPicPr/>
          <p:nvPr/>
        </p:nvPicPr>
        <p:blipFill>
          <a:blip r:embed="rId2"/>
          <a:stretch/>
        </p:blipFill>
        <p:spPr>
          <a:xfrm>
            <a:off x="2050920" y="260280"/>
            <a:ext cx="5042160" cy="626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 Manipulations by Erik Johansson 5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 Manipulations by Erik Johansson 6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 Manipulations by Erik Johansson 7"/>
          <p:cNvPicPr/>
          <p:nvPr/>
        </p:nvPicPr>
        <p:blipFill>
          <a:blip r:embed="rId2"/>
          <a:stretch/>
        </p:blipFill>
        <p:spPr>
          <a:xfrm>
            <a:off x="212400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58:52Z</dcterms:created>
  <dc:creator>ordenadorOEM</dc:creator>
  <dc:description/>
  <dc:language>en-US</dc:language>
  <cp:lastModifiedBy>ordenadorOEM</cp:lastModifiedBy>
  <dcterms:modified xsi:type="dcterms:W3CDTF">2009-03-14T16:16:28Z</dcterms:modified>
  <cp:revision>2</cp:revision>
  <dc:subject/>
  <dc:title>FOTOS MANIPULADAS</dc:title>
</cp:coreProperties>
</file>