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980-67D4-4F2F-8C85-EF66CBED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F7F-1F94-4FE2-B3FD-C9DE9E3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38C-FF1A-4996-9ECA-9D9D2DC0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EE7-D2A7-4727-8B95-47EEB3CC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D6A-E7CF-40F9-969F-A4FAC9B6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C24-AE17-4C16-B73A-1E09A23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726-E3FE-4A62-885B-AE24378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BC1-8825-49B0-A86A-5B8F3EA0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BB0-8DFD-43BB-8ABA-661C580F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9C4-62F9-4A60-B33D-59045AD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0F1-025B-4728-8C15-7DF7C2D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64A-7D39-420E-8AAC-F4A88D3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6CFE-24CE-4C14-97AF-D60F389F63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 Black"/>
              </a:rPr>
              <a:t>FOTOS IMPOSI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DE ERIK JOHAN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Photo Manipulations by Erik Johansson 8"/>
          <p:cNvPicPr/>
          <p:nvPr/>
        </p:nvPicPr>
        <p:blipFill>
          <a:blip r:embed="rId2"/>
          <a:stretch/>
        </p:blipFill>
        <p:spPr>
          <a:xfrm>
            <a:off x="1547640" y="0"/>
            <a:ext cx="5980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 Manipulations by Erik Johansson 9"/>
          <p:cNvPicPr/>
          <p:nvPr/>
        </p:nvPicPr>
        <p:blipFill>
          <a:blip r:embed="rId2"/>
          <a:stretch/>
        </p:blipFill>
        <p:spPr>
          <a:xfrm>
            <a:off x="90000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hoto Manipulations by Erik Johansson 10"/>
          <p:cNvPicPr/>
          <p:nvPr/>
        </p:nvPicPr>
        <p:blipFill>
          <a:blip r:embed="rId2"/>
          <a:stretch/>
        </p:blipFill>
        <p:spPr>
          <a:xfrm>
            <a:off x="212400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hoto Manipulations by Erik Johansson 11"/>
          <p:cNvPicPr/>
          <p:nvPr/>
        </p:nvPicPr>
        <p:blipFill>
          <a:blip r:embed="rId2"/>
          <a:stretch/>
        </p:blipFill>
        <p:spPr>
          <a:xfrm>
            <a:off x="755640" y="0"/>
            <a:ext cx="7561440" cy="68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hoto Manipulations by Erik Johansson 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Photo Manipulations by Erik Johansson 13"/>
          <p:cNvPicPr/>
          <p:nvPr/>
        </p:nvPicPr>
        <p:blipFill>
          <a:blip r:embed="rId2"/>
          <a:stretch/>
        </p:blipFill>
        <p:spPr>
          <a:xfrm>
            <a:off x="826920" y="0"/>
            <a:ext cx="6985080" cy="698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hoto Manipulations by Erik Johansson 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anipulando la r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ik Johansson es un sueco aficionado a la fotografía y a los ordenadores, lo que le ha llevado a introducirse en el retoque fotográfico, con unos trabajos así de curios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hoto Manipulations by Erik Johanss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hoto Manipulations by Erik Johansson 2"/>
          <p:cNvPicPr/>
          <p:nvPr/>
        </p:nvPicPr>
        <p:blipFill>
          <a:blip r:embed="rId2"/>
          <a:stretch/>
        </p:blipFill>
        <p:spPr>
          <a:xfrm>
            <a:off x="2428920" y="219240"/>
            <a:ext cx="4286160" cy="64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hoto Manipulations by Erik Johansson 3"/>
          <p:cNvPicPr/>
          <p:nvPr/>
        </p:nvPicPr>
        <p:blipFill>
          <a:blip r:embed="rId2"/>
          <a:stretch/>
        </p:blipFill>
        <p:spPr>
          <a:xfrm>
            <a:off x="1763640" y="404640"/>
            <a:ext cx="6048360" cy="604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hoto Manipulations by Erik Johansson 4"/>
          <p:cNvPicPr/>
          <p:nvPr/>
        </p:nvPicPr>
        <p:blipFill>
          <a:blip r:embed="rId2"/>
          <a:stretch/>
        </p:blipFill>
        <p:spPr>
          <a:xfrm>
            <a:off x="2050920" y="260280"/>
            <a:ext cx="5042160" cy="626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hoto Manipulations by Erik Johansson 5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 Manipulations by Erik Johansson 6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 Manipulations by Erik Johansson 7"/>
          <p:cNvPicPr/>
          <p:nvPr/>
        </p:nvPicPr>
        <p:blipFill>
          <a:blip r:embed="rId2"/>
          <a:stretch/>
        </p:blipFill>
        <p:spPr>
          <a:xfrm>
            <a:off x="2124000" y="0"/>
            <a:ext cx="4789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58:52Z</dcterms:created>
  <dc:creator>ordenadorOEM</dc:creator>
  <dc:description/>
  <dc:language>en-US</dc:language>
  <cp:lastModifiedBy>ordenadorOEM</cp:lastModifiedBy>
  <dcterms:modified xsi:type="dcterms:W3CDTF">2009-03-14T16:16:28Z</dcterms:modified>
  <cp:revision>2</cp:revision>
  <dc:subject/>
  <dc:title>FOTOS MANIPULADAS</dc:title>
</cp:coreProperties>
</file>