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mor%20especial-%20piano%20suave%2093%20kb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748-12CB-43D8-9EE8-C0F96478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21C-D8CC-4249-9139-F8BF85E8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DFD-1717-4EAE-BDE9-AFF05B59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F57-93E1-46BF-9878-55A7824F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043-E7BE-40DB-9D38-4B553D8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B4A-1BCF-465B-8866-DF5F66F5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670-BBA0-4EA1-BAD7-5BAEFE5D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AFF-8DED-4444-A733-56956ED3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111-3327-42DE-A928-FBC0F3D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E2B-1277-47B5-B3DD-B264B47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0B9-310E-48BB-A791-A6A5D45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DAB-C4A9-4177-A071-FB83DD6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CFE-5FC1-4B47-8FF5-E9855A3C7D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or%20especial-%20piano%20suave%2093%20kb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Amigo, nunca devuelvo estos correos, hasta que me llego este muy hermoso, date el tiempo y ve lo hermoso que hay en 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e corazón de alguien que te recuerda siempre con cari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mor%20especial-%20piano%20suave%2093%20k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066680"/>
            <a:ext cx="236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coraj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o obstáculos para sup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am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ó personas con problemas a quienes ayu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6134040" cy="701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288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fav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o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no recibí nada de lo que pedí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he recibido todo lo que necesit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33360"/>
            <a:ext cx="871380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Vive tu vida sin miedo, enfrenta todos los obstáculos y demuestra que puedes superarlos. Envía este mensaje a tus amigos y muéstrales </a:t>
            </a:r>
            <a:r>
              <a:rPr b="1" i="1" lang="es-ES" sz="3200" spc="-1" strike="noStrike">
                <a:solidFill>
                  <a:srgbClr val="006600"/>
                </a:solidFill>
                <a:latin typeface="Times New Roman"/>
              </a:rPr>
              <a:t>cuánto</a:t>
            </a: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 te interesas por ellos. Mándalo a todo el que consideras AMIGO,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INCLUYÉNDOME </a:t>
            </a: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aunque esto signifique reenviar a la misma persona que te lo hizo lleg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Si este mensaje retorna a ti, puedes estar seguro que el círculo de tus amistades está compuesto de verdaderos amigos. Espero que también retorne a mi y a 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Execução: Leandro Val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62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2596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29000" y="457200"/>
            <a:ext cx="5715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La lección de la Marip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2120"/>
            <a:ext cx="2438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"Un día, en una  pequeña abertura apareció una oruga; un hombre se sentó a observar a la mariposa durante varias  horas, viendo cómo se esforzaba  para hacer que su cuerpo saliera a través de aquel pequeño agu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609480"/>
            <a:ext cx="2133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Llegó un momento en que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areció</a:t>
            </a: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 que la oruga, a pesar de su esfuerzo, no avanzaba 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arecía que había llegado a un punto en que ya no podía avanzar 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380880"/>
            <a:ext cx="243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Entonces el hombre decidió ayudar a la oruga y agrandó el agujero. La mariposa salió sin dificu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su cuerpo estaba débil, las alas no estaban desarrolladas y las patitas no la sostení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91320" y="609480"/>
            <a:ext cx="236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El hombre continuó observándola esperando que en cualquier momento se lanzara a caminar y emprendería el vuelo a través de las f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4576680" cy="701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412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990720"/>
            <a:ext cx="213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nada sucedió. La verdad es que la mariposa pasó toda la vida arrastrándose por el suelo. Fue incapaz de elevar el v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32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Lo que el hombre que con toda su buena voluntad quiso ayudar a la mariposa, no entendía es que, al hacer un gran esfuerzo para atravesar el pequeño agujero, los jugos vitales se iban distribuyendo y extendiendo por las partes del cuerpo que requerían fortaleza para volar. Al pasar el agujero sin ese esfuerzo, las alas no recibieron la sustancia neces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28600"/>
            <a:ext cx="2743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Algunas veces necesitamos el esfuerzo y la dificultad en nuestra vid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Si Dios nos permitiera pasar por nuestras vidas sin obstáculos, quedaríamos débiles. No llegaríamos a ser tan fuertes como deberíamos. Nunca podríamos llegar a vo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1580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fuerz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ó la dificultades para hacerme fue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sabiduría y Dios me dio problemas por 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prosperidad y Dios me dió inteligencia y músculos para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4:13:53Z</dcterms:created>
  <dc:creator>Lowcucar " Sonido" Lillian Di sevo</dc:creator>
  <dc:description/>
  <dc:language>en-US</dc:language>
  <cp:lastModifiedBy>Lilián</cp:lastModifiedBy>
  <dcterms:modified xsi:type="dcterms:W3CDTF">2008-09-25T15:25:25Z</dcterms:modified>
  <cp:revision>14</cp:revision>
  <dc:subject/>
  <dc:title>Slide sem título </dc:title>
</cp:coreProperties>
</file>