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30E-B923-46A9-ACE4-D7ADBC7F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BFF-3182-4B91-85A1-CD09C68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233-422D-41B8-A5E7-EE61DEE9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987-EED4-4457-959E-CF213A02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32FD-734C-448F-B0F3-0278BD23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7A4D-7E5B-4A96-AAE9-CA44C59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420B-8A20-4438-BD11-B8CC6BC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F193F-4C84-4AD6-B751-CCBCC05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1E39A-12F1-4A71-952C-C73E9995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E723-7987-414E-B4DD-3B990EF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3E10-C6C5-4D54-8F29-63BB9B0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69E-BCB4-4DD0-880A-585CC5C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F0AF9-0187-4AEB-9E1C-B42A77A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F78BE-2E70-46D1-BC29-062032F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11F7B-C640-4C4E-AB19-6578C43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545A-F8E5-4219-99D7-731B2DA9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26BA-4681-4ACC-BBF1-576E0BEF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AE2-37A4-4880-82B1-4BD69547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44F-C86A-4BAA-9E07-8C9495B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ED7-01F9-48F4-8EAF-A9FBA50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5A5-B503-4490-B05B-55236A8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3FE-BAD4-4282-9DC7-C6B0DF9F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AF9-EB92-42FE-BDE0-87C2882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117-331C-4610-ACF6-13371E8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75D-6A24-4D4F-A3DD-4D1F1EDA2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45D-B6A8-4B5A-AEC6-F066A9BAE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s Aspirinas disueltas en agu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420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 CORREO ME LO MANDÓ LA ESPOSA DE UN EXCELENTE CARDIOCIRUJANO DUEÑO D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ITUTO DE CARDIOLOGÍA DE CÓRDOBA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SER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 LO PASO...ES INTERESANT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NVIA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Por qué tener aspirinas en la mesita de noche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¡¡¡ IMPORTANTE !!!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a nota importante sobre los ataques cardíacos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me nota que hay otros síntomas de ataque cardíaco, para recién después dar dolor en el brazo izquierdo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be también prestar atención a un dolor intenso en el maxilar inferior, así como náuseas y sudores abundantes, pues estos tampoco son síntomas comun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tall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Al principio puede no sentirse dolor en el pecho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urante un ataque cardíaco. El 60% de las personas qu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uvieron un ataque cardíaco mientras dormían, no se levantaron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n embargo, un dolor de pecho puede despertarlo de un sueño profundo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i fuese cualquiera de estos casos, disuelva inmediatamente 2 aspirinas en la boca y tráguelas con un poco de agu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lame en seguida a su EMERGENCIA,  y  diga que tomó 2 aspirinas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éntese en una silla o sofá y espere la llegada de la emergencia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¡¡ NO SE ACUESTE !!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 cardiólogo afirmó que si cada persona que recibe este mail lo reenvía a otras 10 personas, con seguridad una vida será salvada…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 ya hice mi trabajo!!! Espero que tú hagas el tuyo…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FAVOR PASARLO... NO LO GUARDES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1:59:03Z</dcterms:created>
  <dc:creator>HOME</dc:creator>
  <dc:description/>
  <dc:language>en-US</dc:language>
  <cp:lastModifiedBy>HOME</cp:lastModifiedBy>
  <dcterms:modified xsi:type="dcterms:W3CDTF">2009-12-02T02:03:23Z</dcterms:modified>
  <cp:revision>2</cp:revision>
  <dc:subject/>
  <dc:title>Dos Aspirinas disueltas en agua </dc:title>
</cp:coreProperties>
</file>