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B2A-6D01-4C30-8DBC-E24C08C7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371-0E20-425E-A8C5-D54D6435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C6C-C182-4E4D-B775-F66FE04B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810-2B2C-4B45-AA7A-7780D29A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6DA89-DF46-4696-A2D4-EF9CE653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C7DB8-CEBF-434F-A74B-65EEDE5E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E3189-6E52-472D-BCA7-C79E2065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DE3DF-60F8-4741-A3AE-F36FF98D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53940-8FDE-45C7-B653-22409AB3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C70E4-0951-4913-AEB8-0C4B9AC7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2C76D-2A6E-4807-95CB-DB5BE7E8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250-4965-4D12-8E2A-7156B108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BC195-A886-420F-9ACD-0195D3D7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A3E41-6BEE-48F0-A6A9-AE4718DB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7DFA6-C1CA-427F-B247-A415338D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0D443-5A00-43C6-8990-FB9E8FBB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C9F95-3CAF-45CD-B43C-D16115B2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15E-2D5E-40D4-9FEC-301DA002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8F1-F000-495F-A0EC-DE3924BD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4DF-B3A0-498D-9356-1943CE91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FB5-E80D-43A0-8071-06DC3800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FB1-7C40-4D72-9EBE-68BB5B4B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C67-4D1C-4ABD-9B96-2C4C66B1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7E5-946F-46A9-AEE5-D72C4C5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4CAF-E67B-48FA-AED4-9B4C52C96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828F-9EA3-4F21-974A-CDCE8E61D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s Aspirinas disueltas en agu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420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E CORREO ME LO MANDÓ LA ESPOSA DE UN EXCELENTE CARDIOCIRUJANO DUEÑO DE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ITUTO DE CARDIOLOGÍA DE CÓRDOBA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SER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 LO PASO...ES INTERESANT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ENVIAL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¿Por qué tener aspirinas en la mesita de noche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¡¡¡ IMPORTANTE !!!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a nota importante sobre los ataques cardíacos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me nota que hay otros síntomas de ataque cardíaco, para recién después dar dolor en el brazo izquierdo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be también prestar atención a un dolor intenso en el maxilar inferior, así como náuseas y sudores abundantes, pues estos tampoco son síntomas comun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etall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: Al principio puede no sentirse dolor en el pecho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urante un ataque cardíaco. El 60% de las personas qu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uvieron un ataque cardíaco mientras dormían, no se levantaron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n embargo, un dolor de pecho puede despertarlo de un sueño profundo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i fuese cualquiera de estos casos, disuelva inmediatamente 2 aspirinas en la boca y tráguelas con un poco de agu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lame en seguida a su EMERGENCIA,  y  diga que tomó 2 aspirinas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éntese en una silla o sofá y espere la llegada de la emergencia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¡¡ NO SE ACUESTE !!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 cardiólogo afirmó que si cada persona que recibe este mail lo reenvía a otras 10 personas, con seguridad una vida será salvada…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 ya hice mi trabajo!!! Espero que tú hagas el tuyo…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FAVOR PASARLO... NO LO GUARDES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1:59:03Z</dcterms:created>
  <dc:creator>HOME</dc:creator>
  <dc:description/>
  <dc:language>en-US</dc:language>
  <cp:lastModifiedBy>HOME</cp:lastModifiedBy>
  <dcterms:modified xsi:type="dcterms:W3CDTF">2009-12-02T02:03:23Z</dcterms:modified>
  <cp:revision>2</cp:revision>
  <dc:subject/>
  <dc:title>Dos Aspirinas disueltas en agua </dc:title>
</cp:coreProperties>
</file>