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4.png" ContentType="image/png"/>
  <Override PartName="/ppt/media/image24.gif" ContentType="image/gif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03.%20Berlyn%20-(2-56).wav" ContentType="audio/x-wav"/>
  <Override PartName="/ppt/media/image13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36F-27C5-4C2A-AFF0-C5D9A683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D2A-7DB5-4A3E-B2B6-D167CBE4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B8F-B169-4E14-9A2E-EFEF5CD7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8F6A-B7D2-4863-B5FA-A4A3CD0E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8FF-80C9-4CCA-99C3-AC15DABD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0CF-8533-40EB-A44C-BCAD0E84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C72-2263-4B8E-9B54-AD32F278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1ED-F37F-4E54-9234-6A8875E6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D70-70AA-4160-AC7C-7AFEA707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A4B-2C4F-4C71-B788-D97C9383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A41-1212-4262-A70A-A454CF8C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F25-EECA-4F00-95AF-E31EE283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3B31-E5C6-47C6-A833-187A2D19C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3.%20Berlyn%20-(2-56)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48040" y="-125280"/>
            <a:ext cx="5047920" cy="71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AVIACIÓN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D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LUJO.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Virgin Atlantic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5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Virgin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2411280" y="256536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IR  CAN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120995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10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Air Canada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Air Canada2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1979640" y="2492280"/>
            <a:ext cx="5400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IR  NEW  ZEALAND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Air New Zealand"/>
          <p:cNvPicPr/>
          <p:nvPr/>
        </p:nvPicPr>
        <p:blipFill>
          <a:blip r:embed="rId2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411280" y="2492280"/>
            <a:ext cx="45370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THAY  AIRWAY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Thai Airways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403280" y="3068640"/>
            <a:ext cx="6481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46000"/>
                  </a:srgbClr>
                </a:solidFill>
                <a:latin typeface="Impact"/>
              </a:rPr>
              <a:t>Luxus  repülők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46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43" name="03. Berlyn -(2-56).wav" descr=""/>
          <p:cNvPicPr/>
          <p:nvPr/>
        </p:nvPicPr>
        <p:blipFill>
          <a:blip r:embed="rId2"/>
          <a:stretch/>
        </p:blipFill>
        <p:spPr>
          <a:xfrm>
            <a:off x="788508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2"/>
          <p:cNvPicPr/>
          <p:nvPr/>
        </p:nvPicPr>
        <p:blipFill>
          <a:blip r:embed="rId3"/>
          <a:stretch/>
        </p:blipFill>
        <p:spPr>
          <a:xfrm>
            <a:off x="755640" y="6165720"/>
            <a:ext cx="1150920" cy="317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2195640" y="609300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2b2b2"/>
                </a:solidFill>
                <a:latin typeface="Impact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763640" y="6165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0000"/>
                </a:solidFill>
                <a:latin typeface="Impact"/>
              </a:rPr>
              <a:t>                              </a:t>
            </a:r>
            <a:r>
              <a:rPr b="0" lang="hu-HU" sz="1800" spc="-1" strike="noStrike">
                <a:solidFill>
                  <a:srgbClr val="cc0000"/>
                </a:solidFill>
                <a:latin typeface="Impact"/>
              </a:rPr>
              <a:t>A U T O M A T I K U S   V E T I T É S   !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1763640" y="2492280"/>
            <a:ext cx="5381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SINGAPUR  AIRLIN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ingapur Airlines"/>
          <p:cNvPicPr/>
          <p:nvPr/>
        </p:nvPicPr>
        <p:blipFill>
          <a:blip r:embed="rId2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3132000" y="2492280"/>
            <a:ext cx="3024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EMIRA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mirates"/>
          <p:cNvPicPr/>
          <p:nvPr/>
        </p:nvPicPr>
        <p:blipFill>
          <a:blip r:embed="rId2"/>
          <a:stretch/>
        </p:blipFill>
        <p:spPr>
          <a:xfrm>
            <a:off x="0" y="407880"/>
            <a:ext cx="9144000" cy="60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mirates2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mirates3"/>
          <p:cNvPicPr/>
          <p:nvPr/>
        </p:nvPicPr>
        <p:blipFill>
          <a:blip r:embed="rId2"/>
          <a:stretch/>
        </p:blipFill>
        <p:spPr>
          <a:xfrm>
            <a:off x="0" y="415800"/>
            <a:ext cx="9144000" cy="602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492360" y="2492280"/>
            <a:ext cx="2257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EUROFL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Eurofly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10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276720" y="2492280"/>
            <a:ext cx="2447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ETIHAD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tihad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268360" y="2492280"/>
            <a:ext cx="410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LUFTHANS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Etihad2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Etihad Airways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tihad Airways2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5"/>
          <p:cNvPicPr/>
          <p:nvPr/>
        </p:nvPicPr>
        <p:blipFill>
          <a:blip r:embed="rId2"/>
          <a:stretch/>
        </p:blipFill>
        <p:spPr>
          <a:xfrm>
            <a:off x="4356000" y="5734080"/>
            <a:ext cx="505080" cy="46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2"/>
          <p:cNvPicPr/>
          <p:nvPr/>
        </p:nvPicPr>
        <p:blipFill>
          <a:blip r:embed="rId3"/>
          <a:stretch/>
        </p:blipFill>
        <p:spPr>
          <a:xfrm>
            <a:off x="3995640" y="5300640"/>
            <a:ext cx="1295640" cy="219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924360" y="836640"/>
            <a:ext cx="1314360" cy="56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sé D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57480" y="1652760"/>
            <a:ext cx="4829040" cy="35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THE  END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Lufthansa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2627280" y="2492280"/>
            <a:ext cx="4032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IR FRANC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Air France"/>
          <p:cNvPicPr/>
          <p:nvPr/>
        </p:nvPicPr>
        <p:blipFill>
          <a:blip r:embed="rId2"/>
          <a:stretch/>
        </p:blipFill>
        <p:spPr>
          <a:xfrm>
            <a:off x="0" y="395280"/>
            <a:ext cx="9144000" cy="6068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380360" y="6521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2195640" y="2492280"/>
            <a:ext cx="4608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JAPAN  AIRLIN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apan Airlines JAL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908000" y="2492280"/>
            <a:ext cx="53294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VIRGIN  ATLANTIC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1:15:34Z</dcterms:created>
  <dc:creator/>
  <dc:description/>
  <dc:language>en-US</dc:language>
  <cp:lastModifiedBy/>
  <dcterms:modified xsi:type="dcterms:W3CDTF">2010-06-18T11:29:53Z</dcterms:modified>
  <cp:revision>38</cp:revision>
  <dc:subject/>
  <dc:title>1. dia</dc:title>
</cp:coreProperties>
</file>