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03.%20Berlyn%20-(2-56).wav" ContentType="audio/x-wav"/>
  <Override PartName="/ppt/media/image13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D47-D519-4738-BDFA-74E5B9DE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52C-D151-4493-8DC6-A5729D4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D0F-310B-4932-AE0C-F5677015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606-8CD6-4E51-909F-B47EC0C5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A0D-1367-4AED-B7C9-C0AE480B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62B-4E09-4198-A12B-8C91C309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97A-6F42-4A86-9C47-C6D558C7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61A-F4A2-46A0-B813-AB52F4E7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347-E773-47FD-A41A-B6CC3117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C7C-595C-4936-A9E7-7F36F4E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958-7FAE-4FB6-AF9C-FA60251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CC6-CC51-49E5-924A-BD2C71F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55A-9BCE-4C9B-8D12-B38A063FC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3.%20Berlyn%20-(2-56)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48040" y="-125280"/>
            <a:ext cx="5047920" cy="71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AVIACIÓ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D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LUJO.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Virgin Atlantic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5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irgin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411280" y="256536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IR  CAN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120995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0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Air Canada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ir Canada2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979640" y="2492280"/>
            <a:ext cx="5400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IR  NEW  ZEALA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ir New Zealand"/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411280" y="2492280"/>
            <a:ext cx="4537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AY  AIRWAY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Thai Airways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403280" y="3068640"/>
            <a:ext cx="6481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46000"/>
                  </a:srgbClr>
                </a:solidFill>
                <a:latin typeface="Impact"/>
              </a:rPr>
              <a:t>Luxus  repülők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46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43" name="03. Berlyn -(2-56).wav" descr=""/>
          <p:cNvPicPr/>
          <p:nvPr/>
        </p:nvPicPr>
        <p:blipFill>
          <a:blip r:embed="rId2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2"/>
          <p:cNvPicPr/>
          <p:nvPr/>
        </p:nvPicPr>
        <p:blipFill>
          <a:blip r:embed="rId3"/>
          <a:stretch/>
        </p:blipFill>
        <p:spPr>
          <a:xfrm>
            <a:off x="755640" y="6165720"/>
            <a:ext cx="1150920" cy="317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195640" y="609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2b2b2"/>
                </a:solidFill>
                <a:latin typeface="Impact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63640" y="6165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0000"/>
                </a:solidFill>
                <a:latin typeface="Impact"/>
              </a:rPr>
              <a:t>                              </a:t>
            </a:r>
            <a:r>
              <a:rPr b="0" lang="hu-HU" sz="1800" spc="-1" strike="noStrike">
                <a:solidFill>
                  <a:srgbClr val="cc0000"/>
                </a:solidFill>
                <a:latin typeface="Impact"/>
              </a:rPr>
              <a:t>A U T O M A T I K U S   V E T I T É S   !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763640" y="2492280"/>
            <a:ext cx="5381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INGAPUR  AIRLIN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ingapur Airlines"/>
          <p:cNvPicPr/>
          <p:nvPr/>
        </p:nvPicPr>
        <p:blipFill>
          <a:blip r:embed="rId2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3132000" y="2492280"/>
            <a:ext cx="3024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MIRA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mirates"/>
          <p:cNvPicPr/>
          <p:nvPr/>
        </p:nvPicPr>
        <p:blipFill>
          <a:blip r:embed="rId2"/>
          <a:stretch/>
        </p:blipFill>
        <p:spPr>
          <a:xfrm>
            <a:off x="0" y="40788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mirates2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mirates3"/>
          <p:cNvPicPr/>
          <p:nvPr/>
        </p:nvPicPr>
        <p:blipFill>
          <a:blip r:embed="rId2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492360" y="2492280"/>
            <a:ext cx="2257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UROFL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urofly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0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276720" y="2492280"/>
            <a:ext cx="2447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TIHA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tihad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268360" y="2492280"/>
            <a:ext cx="41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LUFTHANS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tihad2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tihad Airways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tihad Airways2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5"/>
          <p:cNvPicPr/>
          <p:nvPr/>
        </p:nvPicPr>
        <p:blipFill>
          <a:blip r:embed="rId2"/>
          <a:stretch/>
        </p:blipFill>
        <p:spPr>
          <a:xfrm>
            <a:off x="4356000" y="5734080"/>
            <a:ext cx="505080" cy="46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2"/>
          <p:cNvPicPr/>
          <p:nvPr/>
        </p:nvPicPr>
        <p:blipFill>
          <a:blip r:embed="rId3"/>
          <a:stretch/>
        </p:blipFill>
        <p:spPr>
          <a:xfrm>
            <a:off x="3995640" y="5300640"/>
            <a:ext cx="1295640" cy="219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924360" y="836640"/>
            <a:ext cx="1314360" cy="56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sé D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57480" y="1652760"/>
            <a:ext cx="4829040" cy="35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THE  END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ufthansa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627280" y="2492280"/>
            <a:ext cx="4032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IR FRAN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ir France"/>
          <p:cNvPicPr/>
          <p:nvPr/>
        </p:nvPicPr>
        <p:blipFill>
          <a:blip r:embed="rId2"/>
          <a:stretch/>
        </p:blipFill>
        <p:spPr>
          <a:xfrm>
            <a:off x="0" y="39528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521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2195640" y="2492280"/>
            <a:ext cx="4608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JAPAN  AIRLIN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apan Airlines JAL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908000" y="2492280"/>
            <a:ext cx="53294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VIRGIN  ATLANTIC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1:15:34Z</dcterms:created>
  <dc:creator/>
  <dc:description/>
  <dc:language>en-US</dc:language>
  <cp:lastModifiedBy/>
  <dcterms:modified xsi:type="dcterms:W3CDTF">2010-06-18T11:29:53Z</dcterms:modified>
  <cp:revision>38</cp:revision>
  <dc:subject/>
  <dc:title>1. dia</dc:title>
</cp:coreProperties>
</file>