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9017AF-4E6E-4D78-B0B8-4E0AEF757B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fé, el amor, y la paz vienen de la mano con la esperanza. Eso es lo que el Señor espera de nosotros. Que tengamos la fé, y le esperanza siempre puesta en 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06B-4AE4-4D0C-BA92-FF0FD295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107-F714-45D1-A06D-7BE34F3A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4E7-E3FE-45CF-AA44-C858E607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391-141A-4BDA-BB89-AD02B4A8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F4A4-D062-44AC-8A82-D6EDC28A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5E0-E806-475D-9575-613908D4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4DA8-2043-4B7B-87C8-2CDBDF32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BD8-F6ED-4567-9CA0-B5EC923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6F55-39EF-4934-9183-90F64816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3CB7-9472-4860-9D73-BA5E79E9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4189-06B5-4F45-8A61-BBD2923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140-EE5A-4D8F-9FCA-DA493E2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599-CE43-43CC-8530-6FFD614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6FE0-59A1-4CF8-AB5B-902613F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D296-DD64-4B0F-B1F0-0C2B31D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5AC-920A-4F8B-916F-94D03FA1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3509-1C0E-4264-A8BD-AC641A0C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2F4-ACDE-4F00-B190-664DA627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EA5-750C-4788-B3C8-D3A6F555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0A9-B4DD-41B1-BC9A-9F1AD57F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461-DD36-4A95-9C4A-3EE5E2D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61C-0F35-4E20-BCE0-ED69623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5E8-82BC-4590-8CA5-A648083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E75-84F8-4DB3-BED2-255BCDE1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/>
            <p:nvPr/>
          </p:nvSpPr>
          <p:spPr>
            <a:xfrm>
              <a:off x="5386680" y="1590480"/>
              <a:ext cx="3744360" cy="525996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6480"/>
              <a:ext cx="16819920" cy="13689000"/>
            </a:xfrm>
            <a:custGeom>
              <a:avLst/>
              <a:gdLst>
                <a:gd name="textAreaLeft" fmla="*/ 8409240 w 16819920"/>
                <a:gd name="textAreaRight" fmla="*/ 16819200 w 16819920"/>
                <a:gd name="textAreaTop" fmla="*/ 0 h 13689000"/>
                <a:gd name="textAreaBottom" fmla="*/ 684396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B0A509-7652-4348-B1DB-445F571D98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/>
            <p:nvPr/>
          </p:nvSpPr>
          <p:spPr>
            <a:xfrm>
              <a:off x="3270600" y="2696760"/>
              <a:ext cx="5871600" cy="414756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52600"/>
              <a:ext cx="13451040" cy="10783800"/>
            </a:xfrm>
            <a:custGeom>
              <a:avLst/>
              <a:gdLst>
                <a:gd name="textAreaLeft" fmla="*/ 6724800 w 13451040"/>
                <a:gd name="textAreaRight" fmla="*/ 13450680 w 13451040"/>
                <a:gd name="textAreaTop" fmla="*/ 86760 h 10783800"/>
                <a:gd name="textAreaBottom" fmla="*/ 5391360 h 10783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002F5A-6EE8-41F8-905B-434EC444D5D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1144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Cuatro velas estabam ardiendo calmam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El ambiente estaba tan silencioso que se podia oir el diálogo entre el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 vela fui encendida el 3 de octubre de 200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guien que tiene esperanza, amor, fé y desea mucha paz, te esta enviando y esta manteniendo encendida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a tus amig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ti, te deseo que la vela de la esperanza, del  amor, de la fé, de la paz y de la AMISTAD  nunca se apague en tua vida!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a vela no pierde su llama encendiendo otra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r favor, envia a tus amigos, y haz que la vela de ellos tambiém permanesca encendid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 grande abraço e que DEUS te ABENÇO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0"/>
            <a:ext cx="87361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La </a:t>
            </a: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primera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dic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Yo soy la </a:t>
            </a:r>
            <a:r>
              <a:rPr b="0" lang="en-GB" sz="3000" spc="-1" strike="noStrike">
                <a:solidFill>
                  <a:srgbClr val="ff9933"/>
                </a:solidFill>
                <a:latin typeface="Arial"/>
              </a:rPr>
              <a:t>Paz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, y a pesar de mi luz, las person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no consiguen manterme encendida. En seguida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su llama, lentamente, se </a:t>
            </a: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apago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totalmen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920" y="69840"/>
            <a:ext cx="8910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egunda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dice: - Yo me llamo 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Fé!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Infelizmente soy supérflua para las personas. Ellas no quieren saber de Dios, por eso no hay sent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ntinuar ardie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l terminar su charla, un viento soplo levemente sobre ella, y la lla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9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9154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Muy bajo y triste l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ercera vela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se manifesto: - Yo soy e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mor!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No tengo mas fuerzas para ard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Las personas me dejan de lado, porque solo consiguen mirarse ellas mismas, se olvidan hasta de aquellos que esta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su alrededor. Y tambiém 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5120" y="101520"/>
            <a:ext cx="85345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e repente, llego un niño y vio las tres velas </a:t>
            </a:r>
            <a:r>
              <a:rPr b="0" lang="en-GB" sz="3200" spc="-1" strike="noStrike">
                <a:solidFill>
                  <a:srgbClr val="ffffcc"/>
                </a:solidFill>
                <a:latin typeface="Arial Black"/>
              </a:rPr>
              <a:t>apagadas ..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- Que es esto? Ustedes deben quedar </a:t>
            </a:r>
            <a:r>
              <a:rPr b="0" lang="en-GB" sz="3200" spc="-1" strike="noStrike">
                <a:solidFill>
                  <a:srgbClr val="ff6600"/>
                </a:solidFill>
                <a:latin typeface="Arial Black"/>
              </a:rPr>
              <a:t>encendida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y arder hasta el f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60720" y="360360"/>
            <a:ext cx="41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ntoces la </a:t>
            </a:r>
            <a:r>
              <a:rPr b="0" lang="en-GB" sz="2400" spc="-1" strike="noStrike">
                <a:solidFill>
                  <a:srgbClr val="339933"/>
                </a:solidFill>
                <a:latin typeface="Arial"/>
              </a:rPr>
              <a:t>cuarta vela habl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No tengas miedo, hijo. Mientras yo este encendida,  podremos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ncende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las otras v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80960" y="3200400"/>
            <a:ext cx="52786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Arial"/>
              </a:rPr>
              <a:t>Pausa para reflecc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Cuand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agamos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l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llamas de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la 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Paz, Fé y Amor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un asi, no todo está perdido ... Alguna cosa ha de quedar dentro de la gente. Y esto tiene que ser preservado, encima de todo 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00000" y="0"/>
            <a:ext cx="7620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ntonces el niño tomo la vela de la </a:t>
            </a:r>
            <a:r>
              <a:rPr b="0" lang="en-GB" sz="4000" spc="-1" strike="noStrike">
                <a:solidFill>
                  <a:srgbClr val="008000"/>
                </a:solidFill>
                <a:latin typeface="Arial Black"/>
              </a:rPr>
              <a:t>Esperanza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y </a:t>
            </a:r>
            <a:r>
              <a:rPr b="0" lang="en-GB" sz="3600" spc="-1" strike="noStrike">
                <a:solidFill>
                  <a:srgbClr val="ff6600"/>
                </a:solidFill>
                <a:latin typeface="Arial Black"/>
              </a:rPr>
              <a:t>encendio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 nuevamente las 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stabam </a:t>
            </a:r>
            <a:r>
              <a:rPr b="0" lang="en-GB" sz="3600" spc="-1" strike="noStrike">
                <a:solidFill>
                  <a:srgbClr val="ffffcc"/>
                </a:solidFill>
                <a:latin typeface="Arial Black"/>
              </a:rPr>
              <a:t>apag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1800" y="1792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Que la vela de la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Esperanza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nunca se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pague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dentro de us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Ella es nuestra luz al final del tu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El camino de la felicidad precisa, antes, ser pavimentado con la </a:t>
            </a:r>
            <a:r>
              <a:rPr b="1" lang="en-GB" sz="2800" spc="-1" strike="noStrike">
                <a:solidFill>
                  <a:srgbClr val="339933"/>
                </a:solidFill>
                <a:latin typeface="Arial"/>
              </a:rPr>
              <a:t>esperanz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59594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3240" y="59706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24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24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1681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La felicidad no siemp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olpea nuestra puerta.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enerla es preciso una busqueda incesante, y al encontrarla tener el corage de meterla dentro de nosotr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594036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3240" y="59706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Jostens</cp:lastModifiedBy>
  <dcterms:modified xsi:type="dcterms:W3CDTF">2009-11-18T16:31:04Z</dcterms:modified>
  <cp:revision>3</cp:revision>
  <dc:subject/>
  <dc:title>Esperança... o que seria de nós sem ela?</dc:title>
</cp:coreProperties>
</file>