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Con%20Te%20Partiro-%20Richard%20Clayderman.wav" ContentType="audio/x-wav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467AF8-083A-4414-ABB9-273C2AACA3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fé, el amor, y la paz vienen de la mano con la esperanza. Eso es lo que el Señor espera de nosotros. Que tengamos la fé, y le esperanza siempre puesta en 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C273-7A3B-4626-A3E9-7B9C76FA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2541-F900-47FF-89BE-373AB283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9020-5778-4BC9-A844-F55A12D5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EDC0-7172-4619-87D7-47490BDD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6DB9-7762-4624-AF01-87979BEF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8969-AE1C-442E-A355-380AFEB9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ABBB-56F2-4939-99BD-4D13CD44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0B46-AD7D-47AF-BBCA-2A1D5E98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02A1-B82B-4DF8-B276-DCD331D0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465120"/>
            <a:ext cx="77709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C7AD-80B0-4F34-90B5-7A8F27A1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720A-0B7F-4C67-9CB2-02624CB9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52D8-D2F8-4DB0-BD06-2A24D3A2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1543-6E70-46E2-9080-AA9158B0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4961-1AEC-485E-A132-0E84AC25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65D9-00D8-47C7-9476-317A6B6A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661B-9CD3-4CA1-A274-B78222FE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2E1F-B2A1-4A9C-AE0B-BF46DAD1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B87E-888C-40DC-B193-44AF07B1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DB21-7D2F-4A72-8734-82186397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B65E-BA69-41B3-8239-4D865FB6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65120"/>
            <a:ext cx="77709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0CA3-0125-478A-A6CC-8D0384B1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52FA-32F0-41AC-BE60-37624749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5ED0-1264-4031-B8E4-B2E9DEF6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C737-968D-4341-A74C-AB187965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680" y="6480"/>
            <a:ext cx="17541720" cy="13689000"/>
            <a:chOff x="-8410680" y="6480"/>
            <a:chExt cx="17541720" cy="13689000"/>
          </a:xfrm>
        </p:grpSpPr>
        <p:sp>
          <p:nvSpPr>
            <p:cNvPr id="1" name=""/>
            <p:cNvSpPr/>
            <p:nvPr/>
          </p:nvSpPr>
          <p:spPr>
            <a:xfrm>
              <a:off x="5386680" y="1590480"/>
              <a:ext cx="3744360" cy="5259960"/>
            </a:xfr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680" y="6480"/>
              <a:ext cx="16819920" cy="13689000"/>
            </a:xfrm>
            <a:custGeom>
              <a:avLst/>
              <a:gdLst>
                <a:gd name="textAreaLeft" fmla="*/ 8409240 w 16819920"/>
                <a:gd name="textAreaRight" fmla="*/ 16819200 w 16819920"/>
                <a:gd name="textAreaTop" fmla="*/ 0 h 13689000"/>
                <a:gd name="textAreaBottom" fmla="*/ 6843960 h 1368900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811B4F-2A7D-435F-99BD-C119C076FE8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52600"/>
            <a:ext cx="16903440" cy="10783800"/>
            <a:chOff x="-7761240" y="1452600"/>
            <a:chExt cx="16903440" cy="10783800"/>
          </a:xfrm>
        </p:grpSpPr>
        <p:sp>
          <p:nvSpPr>
            <p:cNvPr id="45" name=""/>
            <p:cNvSpPr/>
            <p:nvPr/>
          </p:nvSpPr>
          <p:spPr>
            <a:xfrm>
              <a:off x="3270600" y="2696760"/>
              <a:ext cx="5871600" cy="4147560"/>
            </a:xfr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52600"/>
              <a:ext cx="13451040" cy="10783800"/>
            </a:xfrm>
            <a:custGeom>
              <a:avLst/>
              <a:gdLst>
                <a:gd name="textAreaLeft" fmla="*/ 6724800 w 13451040"/>
                <a:gd name="textAreaRight" fmla="*/ 13450680 w 13451040"/>
                <a:gd name="textAreaTop" fmla="*/ 86760 h 10783800"/>
                <a:gd name="textAreaBottom" fmla="*/ 5391360 h 1078380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0"/>
                </a:path>
              </a:pathLst>
            </a:cu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47124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4BF584A-2ACD-4218-BCB4-A9EC23D99A2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audio" Target="../media/Con%20Te%20Partiro-%20Richard%20Clayderman.wav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1.gif"/><Relationship Id="rId5" Type="http://schemas.openxmlformats.org/officeDocument/2006/relationships/image" Target="../media/image2.png"/><Relationship Id="rId6" Type="http://schemas.openxmlformats.org/officeDocument/2006/relationships/image" Target="../media/image1.gi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0880" y="114480"/>
            <a:ext cx="876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Cuatro velas estabam ardiendo calmamen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El ambiente estaba tan silencioso que se podia oir el diálogo entre ell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662472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488960" y="1619280"/>
            <a:ext cx="4091040" cy="360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59280" y="179280"/>
            <a:ext cx="5219640" cy="37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sta vela fui encendida el 3 de octubre de 2009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lguien que tiene esperanza, amor, fé y desea mucha paz, te esta enviando y esta manteniendo encendida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via tus amigos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ti, te deseo que la vela de la esperanza, del  amor, de la fé, de la paz y de la AMISTAD  nunca se apague en tua vida!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0360" y="5400720"/>
            <a:ext cx="4500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3419640"/>
            <a:ext cx="324036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na vela no pierde su llama encendiendo otra”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r favor, envia a tus amigos, y haz que la vela de ellos tambiém permanesca encendida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0000" y="5657760"/>
            <a:ext cx="3600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m grande abraço e que DEUS te ABENÇOE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9280" y="1079640"/>
            <a:ext cx="2880000" cy="2519280"/>
          </a:xfrm>
          <a:prstGeom prst="roundRect">
            <a:avLst>
              <a:gd name="adj" fmla="val 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6642000" y="2357280"/>
            <a:ext cx="2340000" cy="1260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0"/>
            <a:ext cx="873612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Arial"/>
              </a:rPr>
              <a:t>...............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La </a:t>
            </a:r>
            <a:r>
              <a:rPr b="0" lang="en-GB" sz="3000" spc="-1" strike="noStrike">
                <a:solidFill>
                  <a:srgbClr val="ffffcc"/>
                </a:solidFill>
                <a:latin typeface="Arial"/>
              </a:rPr>
              <a:t>primera</a:t>
            </a: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 dice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 Black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Yo soy la </a:t>
            </a:r>
            <a:r>
              <a:rPr b="0" lang="en-GB" sz="3000" spc="-1" strike="noStrike">
                <a:solidFill>
                  <a:srgbClr val="ff9933"/>
                </a:solidFill>
                <a:latin typeface="Arial"/>
              </a:rPr>
              <a:t>Paz</a:t>
            </a: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, y a pesar de mi luz, las persona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no consiguen manterme encendida. En seguida,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su llama, lentamente, se </a:t>
            </a:r>
            <a:r>
              <a:rPr b="0" lang="en-GB" sz="3000" spc="-1" strike="noStrike">
                <a:solidFill>
                  <a:srgbClr val="ffffcc"/>
                </a:solidFill>
                <a:latin typeface="Arial"/>
              </a:rPr>
              <a:t>apago</a:t>
            </a:r>
            <a:r>
              <a:rPr b="0" lang="en-GB" sz="3000" spc="-1" strike="noStrike">
                <a:solidFill>
                  <a:srgbClr val="ffff00"/>
                </a:solidFill>
                <a:latin typeface="Arial"/>
              </a:rPr>
              <a:t> totalment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Arial"/>
              </a:rPr>
              <a:t>...................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6659640" y="2340000"/>
            <a:ext cx="2212920" cy="1260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160720" y="1079640"/>
            <a:ext cx="2879640" cy="2519280"/>
          </a:xfrm>
          <a:prstGeom prst="roundRect">
            <a:avLst>
              <a:gd name="adj" fmla="val 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8920" y="69840"/>
            <a:ext cx="891072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Arial"/>
              </a:rPr>
              <a:t>...................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La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segunda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dice: - Yo me llamo </a:t>
            </a:r>
            <a:r>
              <a:rPr b="0" lang="en-GB" sz="2800" spc="-1" strike="noStrike">
                <a:solidFill>
                  <a:srgbClr val="ff9933"/>
                </a:solidFill>
                <a:latin typeface="Arial"/>
              </a:rPr>
              <a:t>Fé!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Infelizmente soy supérflua para las personas. Ellas no quieren saber de Dios, por eso no hay senti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ntinuar ardien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l terminar su charla, un viento soplo levemente sobre ella, y la llam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e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p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9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6534000" y="2340000"/>
            <a:ext cx="2465640" cy="1260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319640" y="1079640"/>
            <a:ext cx="2879640" cy="2519280"/>
          </a:xfrm>
          <a:prstGeom prst="roundRect">
            <a:avLst>
              <a:gd name="adj" fmla="val 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228600"/>
            <a:ext cx="891540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Arial"/>
              </a:rPr>
              <a:t>Muy bajo y triste la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ercera vela</a:t>
            </a:r>
            <a:r>
              <a:rPr b="0" lang="en-GB" sz="2800" spc="-1" strike="noStrike">
                <a:solidFill>
                  <a:srgbClr val="ff66ff"/>
                </a:solidFill>
                <a:latin typeface="Arial"/>
              </a:rPr>
              <a:t> se manifesto: - Yo soy el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mor!</a:t>
            </a:r>
            <a:r>
              <a:rPr b="0" lang="en-GB" sz="28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Arial"/>
              </a:rPr>
              <a:t>No tengo mas fuerzas para arde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Arial"/>
              </a:rPr>
              <a:t>Las personas me dejan de lado, porque solo consiguen mirarse ellas mismas, se olvidan hasta de aquellos que estan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Arial"/>
              </a:rPr>
              <a:t>su alrededor. Y tambiém se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p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5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65120" y="101520"/>
            <a:ext cx="853452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De repente, llego un niño y vio las tres velas </a:t>
            </a:r>
            <a:r>
              <a:rPr b="0" lang="en-GB" sz="3200" spc="-1" strike="noStrike">
                <a:solidFill>
                  <a:srgbClr val="ffffcc"/>
                </a:solidFill>
                <a:latin typeface="Arial Black"/>
              </a:rPr>
              <a:t>apagadas ...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- Que es esto? Ustedes deben quedar </a:t>
            </a:r>
            <a:r>
              <a:rPr b="0" lang="en-GB" sz="3200" spc="-1" strike="noStrike">
                <a:solidFill>
                  <a:srgbClr val="ff6600"/>
                </a:solidFill>
                <a:latin typeface="Arial Black"/>
              </a:rPr>
              <a:t>encendidas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y arder hasta el f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6567480" y="2340000"/>
            <a:ext cx="243216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160720" y="360360"/>
            <a:ext cx="414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ntoces la </a:t>
            </a:r>
            <a:r>
              <a:rPr b="0" lang="en-GB" sz="2400" spc="-1" strike="noStrike">
                <a:solidFill>
                  <a:srgbClr val="339933"/>
                </a:solidFill>
                <a:latin typeface="Arial"/>
              </a:rPr>
              <a:t>cuarta vela hablo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- No tengas miedo, hijo. Mientras yo este encendida,  podremos 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ncender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las otras vel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659640" y="2340000"/>
            <a:ext cx="2340000" cy="126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380960" y="3200400"/>
            <a:ext cx="52786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600" spc="-1" strike="noStrike" u="sng">
                <a:solidFill>
                  <a:srgbClr val="ff0000"/>
                </a:solidFill>
                <a:uFillTx/>
                <a:latin typeface="Arial"/>
              </a:rPr>
              <a:t>Pausa para reflecc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7c80"/>
                </a:solidFill>
                <a:latin typeface="Arial"/>
              </a:rPr>
              <a:t>Cuando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pagamos</a:t>
            </a:r>
            <a:r>
              <a:rPr b="0" lang="en-GB" sz="2600" spc="-1" strike="noStrike">
                <a:solidFill>
                  <a:srgbClr val="ff9933"/>
                </a:solidFill>
                <a:latin typeface="Arial"/>
              </a:rPr>
              <a:t> l</a:t>
            </a:r>
            <a:r>
              <a:rPr b="0" lang="en-GB" sz="2600" spc="-1" strike="noStrike">
                <a:solidFill>
                  <a:srgbClr val="ff7c80"/>
                </a:solidFill>
                <a:latin typeface="Arial"/>
              </a:rPr>
              <a:t>a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7c80"/>
                </a:solidFill>
                <a:latin typeface="Arial"/>
              </a:rPr>
              <a:t>llamas de</a:t>
            </a:r>
            <a:r>
              <a:rPr b="0" lang="en-GB" sz="2600" spc="-1" strike="noStrike">
                <a:solidFill>
                  <a:srgbClr val="ff9933"/>
                </a:solidFill>
                <a:latin typeface="Arial"/>
              </a:rPr>
              <a:t> la </a:t>
            </a:r>
            <a:r>
              <a:rPr b="0" lang="en-GB" sz="2600" spc="-1" strike="noStrike">
                <a:solidFill>
                  <a:srgbClr val="ffff00"/>
                </a:solidFill>
                <a:latin typeface="Arial"/>
              </a:rPr>
              <a:t>Paz, Fé y Amor</a:t>
            </a:r>
            <a:r>
              <a:rPr b="0" lang="en-GB" sz="2600" spc="-1" strike="noStrike">
                <a:solidFill>
                  <a:srgbClr val="ff9933"/>
                </a:solidFill>
                <a:latin typeface="Arial"/>
              </a:rPr>
              <a:t>, </a:t>
            </a:r>
            <a:r>
              <a:rPr b="0" lang="en-GB" sz="2600" spc="-1" strike="noStrike">
                <a:solidFill>
                  <a:srgbClr val="ff7c80"/>
                </a:solidFill>
                <a:latin typeface="Arial"/>
              </a:rPr>
              <a:t>aun asi, no todo está perdido ... Alguna cosa ha de quedar dentro de la gente. Y esto tiene que ser preservado, encima de todo ..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00000" y="0"/>
            <a:ext cx="76201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Arial Black"/>
              </a:rPr>
              <a:t>Entonces el niño tomo la vela de la </a:t>
            </a:r>
            <a:r>
              <a:rPr b="0" lang="en-GB" sz="4000" spc="-1" strike="noStrike">
                <a:solidFill>
                  <a:srgbClr val="008000"/>
                </a:solidFill>
                <a:latin typeface="Arial Black"/>
              </a:rPr>
              <a:t>Esperanza</a:t>
            </a:r>
            <a:r>
              <a:rPr b="0" lang="en-GB" sz="3600" spc="-1" strike="noStrike">
                <a:solidFill>
                  <a:srgbClr val="009900"/>
                </a:solidFill>
                <a:latin typeface="Arial Black"/>
              </a:rPr>
              <a:t> y </a:t>
            </a:r>
            <a:r>
              <a:rPr b="0" lang="en-GB" sz="3600" spc="-1" strike="noStrike">
                <a:solidFill>
                  <a:srgbClr val="ff6600"/>
                </a:solidFill>
                <a:latin typeface="Arial Black"/>
              </a:rPr>
              <a:t>encendio</a:t>
            </a:r>
            <a:r>
              <a:rPr b="0" lang="en-GB" sz="3600" spc="-1" strike="noStrike">
                <a:solidFill>
                  <a:srgbClr val="009900"/>
                </a:solidFill>
                <a:latin typeface="Arial Black"/>
              </a:rPr>
              <a:t>  nuevamente las qu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Arial Black"/>
              </a:rPr>
              <a:t>estabam </a:t>
            </a:r>
            <a:r>
              <a:rPr b="0" lang="en-GB" sz="3600" spc="-1" strike="noStrike">
                <a:solidFill>
                  <a:srgbClr val="ffffcc"/>
                </a:solidFill>
                <a:latin typeface="Arial Black"/>
              </a:rPr>
              <a:t>apagada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6550200" y="2340000"/>
            <a:ext cx="2449440" cy="1260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9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9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9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61800" y="17928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6699ff"/>
                </a:solidFill>
                <a:latin typeface="Arial"/>
              </a:rPr>
              <a:t>Que la vela de la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Esperanza</a:t>
            </a:r>
            <a:r>
              <a:rPr b="1" lang="en-GB" sz="2800" spc="-1" strike="noStrike">
                <a:solidFill>
                  <a:srgbClr val="6699ff"/>
                </a:solidFill>
                <a:latin typeface="Arial"/>
              </a:rPr>
              <a:t> nunca se </a:t>
            </a: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apague</a:t>
            </a:r>
            <a:r>
              <a:rPr b="1" lang="en-GB" sz="2800" spc="-1" strike="noStrike">
                <a:solidFill>
                  <a:srgbClr val="6699ff"/>
                </a:solidFill>
                <a:latin typeface="Arial"/>
              </a:rPr>
              <a:t> dentro de us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6699ff"/>
                </a:solidFill>
                <a:latin typeface="Arial"/>
              </a:rPr>
              <a:t>Ella es nuestra luz al final del tun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6699ff"/>
                </a:solidFill>
                <a:latin typeface="Arial"/>
              </a:rPr>
              <a:t>El camino de la felicidad precisa, antes, ser pavimentado con la </a:t>
            </a:r>
            <a:r>
              <a:rPr b="1" lang="en-GB" sz="2800" spc="-1" strike="noStrike">
                <a:solidFill>
                  <a:srgbClr val="339933"/>
                </a:solidFill>
                <a:latin typeface="Arial"/>
              </a:rPr>
              <a:t>esperanza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27080" y="595944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5959440"/>
            <a:ext cx="50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b8ff"/>
                </a:solidFill>
                <a:latin typeface="Arial"/>
              </a:rPr>
              <a:t>f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9240" y="601992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m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3240" y="597060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esperan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6534000" y="2340000"/>
            <a:ext cx="246564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75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75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75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75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24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24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39640" y="168120"/>
            <a:ext cx="8458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La felicidad no siemp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golpea nuestra puerta. Par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enerla es preciso una busqueda incesante, y al encontrarla tener el corage de meterla dentro de nosotro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594036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19640" y="5959440"/>
            <a:ext cx="50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b8ff"/>
                </a:solidFill>
                <a:latin typeface="Arial"/>
              </a:rPr>
              <a:t>f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9240" y="601992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m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3240" y="597060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esperan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6534000" y="2340000"/>
            <a:ext cx="246564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IR</dc:creator>
  <dc:description>07/10/1999, 11:08:01, João Henrique Carvalho
</dc:description>
  <dc:language>en-US</dc:language>
  <cp:lastModifiedBy>Jostens</cp:lastModifiedBy>
  <dcterms:modified xsi:type="dcterms:W3CDTF">2009-11-18T16:31:04Z</dcterms:modified>
  <cp:revision>3</cp:revision>
  <dc:subject/>
  <dc:title>Esperança... o que seria de nós sem ela?</dc:title>
</cp:coreProperties>
</file>