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348-2D07-4F87-871F-68C7D94B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5E6-E50C-4E0C-838A-EA702366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FF8-F525-452A-BBD9-7BB32747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E77-DD8D-4DF0-BAE5-8C97D841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D04-5549-45DD-A411-6001ACA5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6F4-9604-4BA0-809D-90D17B4E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D55-2F21-435A-B468-9BA3F216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C11-3102-49AD-9B4C-6A657F87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D00-D221-40AB-8C82-6A08B5B4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1A3-A24D-421A-AB57-35127C2B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B02-9DB4-427A-8137-882E3E2F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B6A-50C0-4328-85A9-43ED76A2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7E73-92FA-49A6-A441-37C872ADE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c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Odeio Pob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Olha só a garagem desse pobre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aragem%20de%20pobre%201" descr=""/>
          <p:cNvPicPr/>
          <p:nvPr/>
        </p:nvPicPr>
        <p:blipFill>
          <a:blip r:embed="rId1"/>
          <a:stretch/>
        </p:blipFill>
        <p:spPr>
          <a:xfrm>
            <a:off x="457200" y="504720"/>
            <a:ext cx="853452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aragem%20de%20pobre%202" descr=""/>
          <p:cNvPicPr/>
          <p:nvPr/>
        </p:nvPicPr>
        <p:blipFill>
          <a:blip r:embed="rId1"/>
          <a:stretch/>
        </p:blipFill>
        <p:spPr>
          <a:xfrm>
            <a:off x="457200" y="650880"/>
            <a:ext cx="83059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aragem%20de%20pobre%203" descr=""/>
          <p:cNvPicPr/>
          <p:nvPr/>
        </p:nvPicPr>
        <p:blipFill>
          <a:blip r:embed="rId1"/>
          <a:stretch/>
        </p:blipFill>
        <p:spPr>
          <a:xfrm>
            <a:off x="457200" y="650880"/>
            <a:ext cx="83059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aragem%20de%20pobre%204" descr=""/>
          <p:cNvPicPr/>
          <p:nvPr/>
        </p:nvPicPr>
        <p:blipFill>
          <a:blip r:embed="rId1"/>
          <a:stretch/>
        </p:blipFill>
        <p:spPr>
          <a:xfrm>
            <a:off x="457200" y="657360"/>
            <a:ext cx="83059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aragem%20de%20pobre%205" descr=""/>
          <p:cNvPicPr/>
          <p:nvPr/>
        </p:nvPicPr>
        <p:blipFill>
          <a:blip r:embed="rId1"/>
          <a:stretch/>
        </p:blipFill>
        <p:spPr>
          <a:xfrm>
            <a:off x="533520" y="706320"/>
            <a:ext cx="81532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23:58:04Z</dcterms:created>
  <dc:creator>fERNANDO</dc:creator>
  <dc:description/>
  <dc:language>en-US</dc:language>
  <cp:lastModifiedBy>fERNANDO</cp:lastModifiedBy>
  <dcterms:modified xsi:type="dcterms:W3CDTF">2009-05-16T00:05:20Z</dcterms:modified>
  <cp:revision>1</cp:revision>
  <dc:subject/>
  <dc:title>Odeio Pobre</dc:title>
</cp:coreProperties>
</file>