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F94-14A5-4A2C-963A-5F732BD8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1CE-53AC-4F01-8AD4-A8F94870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0E1F-8F13-4ACA-8117-CB5F5576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98EB-22A0-448E-9289-3431B5A5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F0B9-8567-4F2B-9C2C-F2DC099C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9AB-64E2-4F4A-A57A-709F625E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4D53-BD22-4E5B-8C0E-39F94C24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63B9-DD1B-4101-8EE2-C9ACEB8D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A2B5-64FC-461F-BB95-B5C1A7ED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475A-47C3-4B49-BC54-AC126740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192F-2C5D-40FB-AA79-775E0604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2983-42AC-4614-9264-7C4BCD78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1C68-19D6-46F3-9A8E-F655BF272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c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deio Pob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Olha só a garagem desse pobret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aragem%20de%20pobre%201" descr=""/>
          <p:cNvPicPr/>
          <p:nvPr/>
        </p:nvPicPr>
        <p:blipFill>
          <a:blip r:embed="rId1"/>
          <a:stretch/>
        </p:blipFill>
        <p:spPr>
          <a:xfrm>
            <a:off x="457200" y="504720"/>
            <a:ext cx="8534520" cy="56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aragem%20de%20pobre%202" descr=""/>
          <p:cNvPicPr/>
          <p:nvPr/>
        </p:nvPicPr>
        <p:blipFill>
          <a:blip r:embed="rId1"/>
          <a:stretch/>
        </p:blipFill>
        <p:spPr>
          <a:xfrm>
            <a:off x="457200" y="650880"/>
            <a:ext cx="830592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aragem%20de%20pobre%203" descr=""/>
          <p:cNvPicPr/>
          <p:nvPr/>
        </p:nvPicPr>
        <p:blipFill>
          <a:blip r:embed="rId1"/>
          <a:stretch/>
        </p:blipFill>
        <p:spPr>
          <a:xfrm>
            <a:off x="457200" y="650880"/>
            <a:ext cx="830592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aragem%20de%20pobre%204" descr=""/>
          <p:cNvPicPr/>
          <p:nvPr/>
        </p:nvPicPr>
        <p:blipFill>
          <a:blip r:embed="rId1"/>
          <a:stretch/>
        </p:blipFill>
        <p:spPr>
          <a:xfrm>
            <a:off x="457200" y="657360"/>
            <a:ext cx="830592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aragem%20de%20pobre%205" descr=""/>
          <p:cNvPicPr/>
          <p:nvPr/>
        </p:nvPicPr>
        <p:blipFill>
          <a:blip r:embed="rId1"/>
          <a:stretch/>
        </p:blipFill>
        <p:spPr>
          <a:xfrm>
            <a:off x="533520" y="706320"/>
            <a:ext cx="815328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23:58:04Z</dcterms:created>
  <dc:creator>fERNANDO</dc:creator>
  <dc:description/>
  <dc:language>en-US</dc:language>
  <cp:lastModifiedBy>fERNANDO</cp:lastModifiedBy>
  <dcterms:modified xsi:type="dcterms:W3CDTF">2009-05-16T00:05:20Z</dcterms:modified>
  <cp:revision>1</cp:revision>
  <dc:subject/>
  <dc:title>Odeio Pobre</dc:title>
</cp:coreProperties>
</file>