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16.jpeg" ContentType="image/jpeg"/>
  <Override PartName="/ppt/media/(instrumental)%20-%20elton%20john%20-%20sacrific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504363" cy="5778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9480" y="685440"/>
            <a:ext cx="5639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D0C-2D55-4F28-BF29-E24444D4647F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09480" y="685800"/>
            <a:ext cx="56390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36A-0A21-4BFF-8BC8-AF4C02C179A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9480" y="685800"/>
            <a:ext cx="56390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04D5-187E-4547-A506-166A3C3ECB2B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5F9-0FCD-4678-8FE3-841C46CC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33404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F49-FF63-4262-BB15-065B1ED2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56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20A-9C91-4573-BB57-6032FC5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44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9680" y="13478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44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9680" y="3340440"/>
            <a:ext cx="2754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0A8-CDEF-4369-9F91-5DAE86A6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918-68A3-42FC-B4CD-547ADFF1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736-1EBC-45E9-A9EF-D11B9E51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8A6-FF09-498B-8CDD-6ACB1D5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FA5-0FBF-4948-AE80-3ADE64A3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4840" y="231840"/>
            <a:ext cx="8555040" cy="44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2C0-DC8C-49DC-AC2A-61C50369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EB1-83D2-461F-BAA4-8590C7A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560" y="33404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119-D795-4C79-A69C-FA2ACE5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560" y="1347840"/>
            <a:ext cx="4174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3340440"/>
            <a:ext cx="85550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7C4-BFDB-4681-831F-34173EE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840" y="231840"/>
            <a:ext cx="855504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347840"/>
            <a:ext cx="85550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4840" y="5356080"/>
            <a:ext cx="221760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560" y="5356080"/>
            <a:ext cx="30085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1560" y="5356080"/>
            <a:ext cx="22179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458-FF9B-4978-B7B6-A8E923EED21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(instrumental)%20-%20elton%20john%20-%20sacrifi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64920" y="245880"/>
            <a:ext cx="464508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0000"/>
                </a:solidFill>
                <a:latin typeface="Book Antiqua"/>
              </a:rPr>
              <a:t>Waris Diri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93560" y="5032080"/>
            <a:ext cx="6653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 Antiqua"/>
              </a:rPr>
              <a:t>“ </a:t>
            </a:r>
            <a:r>
              <a:rPr b="1" lang="es-AR" sz="2000" spc="-1" strike="noStrike">
                <a:solidFill>
                  <a:srgbClr val="000000"/>
                </a:solidFill>
                <a:latin typeface="Book Antiqua"/>
              </a:rPr>
              <a:t>A mí nadie puede ya dañarme , sólo  DIOS 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5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:\Mis Documentos\Imagen9.jpg"/>
          <p:cNvPicPr/>
          <p:nvPr/>
        </p:nvPicPr>
        <p:blipFill>
          <a:blip r:embed="rId1"/>
          <a:stretch/>
        </p:blipFill>
        <p:spPr>
          <a:xfrm>
            <a:off x="1893960" y="1317600"/>
            <a:ext cx="57816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D:\Mis Documentos\Imagen6.jpg"/>
          <p:cNvPicPr/>
          <p:nvPr/>
        </p:nvPicPr>
        <p:blipFill>
          <a:blip r:embed="rId1"/>
          <a:stretch/>
        </p:blipFill>
        <p:spPr>
          <a:xfrm>
            <a:off x="393840" y="317520"/>
            <a:ext cx="4216320" cy="514044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81480" y="388800"/>
            <a:ext cx="358632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empecé a hablar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ablación en Estados Unidos,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ntí muy culpable, 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taba criticando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ltura de mi familia a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me dedico a conseguir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for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estros en Somalía, educar a niñas ,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d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 he logrado con la 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Veinte años después de escapa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mi casa he vuelto a Somal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D:\Mis Documentos\Imagen5.jpg"/>
          <p:cNvPicPr/>
          <p:nvPr/>
        </p:nvPicPr>
        <p:blipFill>
          <a:blip r:embed="rId1"/>
          <a:stretch/>
        </p:blipFill>
        <p:spPr>
          <a:xfrm>
            <a:off x="3537000" y="388800"/>
            <a:ext cx="5549760" cy="5077080"/>
          </a:xfrm>
          <a:prstGeom prst="rect">
            <a:avLst/>
          </a:prstGeom>
          <a:ln w="0">
            <a:noFill/>
          </a:ln>
        </p:spPr>
      </p:pic>
      <p:sp>
        <p:nvSpPr>
          <p:cNvPr id="82" name="7 CuadroTexto"/>
          <p:cNvSpPr/>
          <p:nvPr/>
        </p:nvSpPr>
        <p:spPr>
          <a:xfrm>
            <a:off x="608040" y="817560"/>
            <a:ext cx="285732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reencontré con mi ma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ya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mo 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HAY ESPERANZ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escaparme, cruc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 desierto. Una mañ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perté con un león 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su enorme m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le d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D:\Mis Documentos\Imagen8.jpg"/>
          <p:cNvPicPr/>
          <p:nvPr/>
        </p:nvPicPr>
        <p:blipFill>
          <a:blip r:embed="rId1"/>
          <a:stretch/>
        </p:blipFill>
        <p:spPr>
          <a:xfrm>
            <a:off x="230040" y="388800"/>
            <a:ext cx="4594320" cy="4786560"/>
          </a:xfrm>
          <a:prstGeom prst="rect">
            <a:avLst/>
          </a:prstGeom>
          <a:ln w="0">
            <a:noFill/>
          </a:ln>
        </p:spPr>
      </p:pic>
      <p:sp>
        <p:nvSpPr>
          <p:cNvPr id="84" name="3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5396040" y="674640"/>
            <a:ext cx="321444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ómeme. Estoy prepara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se fue. Ese día s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 ALA me reservab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go…y fue que encontré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ía mía que estaba c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un diplomático soma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tinado en Lond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dí que me llevaran allí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ri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Nunca antes había visto blancos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:\Mis Documentos\Imagen4.jpg"/>
          <p:cNvPicPr/>
          <p:nvPr/>
        </p:nvPicPr>
        <p:blipFill>
          <a:blip r:embed="rId1"/>
          <a:stretch/>
        </p:blipFill>
        <p:spPr>
          <a:xfrm>
            <a:off x="3463920" y="603360"/>
            <a:ext cx="5595840" cy="4643280"/>
          </a:xfrm>
          <a:prstGeom prst="rect">
            <a:avLst/>
          </a:prstGeom>
          <a:ln w="0">
            <a:noFill/>
          </a:ln>
        </p:spPr>
      </p:pic>
      <p:sp>
        <p:nvSpPr>
          <p:cNvPr id="88" name="5 CuadroTexto"/>
          <p:cNvSpPr/>
          <p:nvPr/>
        </p:nvSpPr>
        <p:spPr>
          <a:xfrm>
            <a:off x="457920" y="960480"/>
            <a:ext cx="299412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pregunta se cambi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go de mi cuerp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i mi piernas que es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rqueadas, pero 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s agradezco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on hijas de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alnutrición infantil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las me recuer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ién s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única hermo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 valoro es la del al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bemos dar gracia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tar viv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D:\Mis Documentos\Imagen11.jpg"/>
          <p:cNvPicPr/>
          <p:nvPr/>
        </p:nvPicPr>
        <p:blipFill>
          <a:blip r:embed="rId1"/>
          <a:stretch/>
        </p:blipFill>
        <p:spPr>
          <a:xfrm>
            <a:off x="393840" y="460440"/>
            <a:ext cx="4362480" cy="4929120"/>
          </a:xfrm>
          <a:prstGeom prst="rect">
            <a:avLst/>
          </a:prstGeom>
          <a:ln w="0">
            <a:noFill/>
          </a:ln>
        </p:spPr>
      </p:pic>
      <p:sp>
        <p:nvSpPr>
          <p:cNvPr id="91" name="3 CuadroTexto"/>
          <p:cNvSpPr/>
          <p:nvPr/>
        </p:nvSpPr>
        <p:spPr>
          <a:xfrm>
            <a:off x="5168880" y="674640"/>
            <a:ext cx="360216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no me falta na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ro cuando veo el agua que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va por el desagüe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ucharme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LO QUE HARÍAN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CADA GOTA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on el tiempo vol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ver mi padre, le habí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obado su re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o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los ojos con un cuch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el desie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dó cieg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Mis Documentos\Imagen6.jpg"/>
          <p:cNvPicPr/>
          <p:nvPr/>
        </p:nvPicPr>
        <p:blipFill>
          <a:blip r:embed="rId1"/>
          <a:stretch/>
        </p:blipFill>
        <p:spPr>
          <a:xfrm>
            <a:off x="3332160" y="603360"/>
            <a:ext cx="5807160" cy="4643280"/>
          </a:xfrm>
          <a:prstGeom prst="rect">
            <a:avLst/>
          </a:prstGeom>
          <a:ln w="0">
            <a:noFill/>
          </a:ln>
        </p:spPr>
      </p:pic>
      <p:sp>
        <p:nvSpPr>
          <p:cNvPr id="94" name="5 CuadroTexto"/>
          <p:cNvSpPr/>
          <p:nvPr/>
        </p:nvSpPr>
        <p:spPr>
          <a:xfrm>
            <a:off x="459000" y="1031760"/>
            <a:ext cx="28810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aquel hombre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deroso y fuerte lo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hora frágil 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valid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Pero aún con la cab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lta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nos desped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conf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“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ú eres como yo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pad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estaba orgulloso de mí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LLOR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1119960" y="481824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( estas fueron sus palabras en una entrevista realizada en Barcelo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Víctor Amela ,periodista, escritor.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:\Mis Documentos\Imagen12.jpg"/>
          <p:cNvPicPr/>
          <p:nvPr/>
        </p:nvPicPr>
        <p:blipFill>
          <a:blip r:embed="rId1"/>
          <a:stretch/>
        </p:blipFill>
        <p:spPr>
          <a:xfrm>
            <a:off x="465120" y="317520"/>
            <a:ext cx="421488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5 Rectángulo"/>
          <p:cNvSpPr/>
          <p:nvPr/>
        </p:nvSpPr>
        <p:spPr>
          <a:xfrm>
            <a:off x="5110200" y="888840"/>
            <a:ext cx="308772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Waris Dirie se reencontró con su familia después de 22 añ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viaje de regreso fue muy chocante. Atravesando el desier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iso detenerse para recoger a una señora que caminaba con los pies ensangren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chofer respondi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No te preocupes, sólo es una mujer.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:\Mis Documentos\Imagen7.jpg"/>
          <p:cNvPicPr/>
          <p:nvPr/>
        </p:nvPicPr>
        <p:blipFill>
          <a:blip r:embed="rId1"/>
          <a:stretch/>
        </p:blipFill>
        <p:spPr>
          <a:xfrm>
            <a:off x="3251160" y="603360"/>
            <a:ext cx="5888160" cy="4708440"/>
          </a:xfrm>
          <a:prstGeom prst="rect">
            <a:avLst/>
          </a:prstGeom>
          <a:ln w="0">
            <a:noFill/>
          </a:ln>
        </p:spPr>
      </p:pic>
      <p:sp>
        <p:nvSpPr>
          <p:cNvPr id="101" name="5 Rectángulo"/>
          <p:cNvSpPr/>
          <p:nvPr/>
        </p:nvSpPr>
        <p:spPr>
          <a:xfrm>
            <a:off x="393840" y="674640"/>
            <a:ext cx="321444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o en un cuento de had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Waris Dirie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,  se convirtió en </a:t>
            </a: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de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modelo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ookman Old Style"/>
              </a:rPr>
              <a:t>solicitadas de la época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día mientras frega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una tie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fotógrafo la descubrió.M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ron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figura se pase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tre París , Londres , Ital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ueva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Mis Documentos\Imagen13.jpg"/>
          <p:cNvPicPr/>
          <p:nvPr/>
        </p:nvPicPr>
        <p:blipFill>
          <a:blip r:embed="rId1"/>
          <a:stretch/>
        </p:blipFill>
        <p:spPr>
          <a:xfrm>
            <a:off x="250920" y="317520"/>
            <a:ext cx="4322520" cy="5143320"/>
          </a:xfrm>
          <a:prstGeom prst="rect">
            <a:avLst/>
          </a:prstGeom>
          <a:ln w="0">
            <a:noFill/>
          </a:ln>
        </p:spPr>
      </p:pic>
      <p:sp>
        <p:nvSpPr>
          <p:cNvPr id="104" name="4 Rectángulo"/>
          <p:cNvSpPr/>
          <p:nvPr/>
        </p:nvSpPr>
        <p:spPr>
          <a:xfrm>
            <a:off x="5038560" y="960480"/>
            <a:ext cx="324828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Waris Dirie dejó atrás las pasarelas, el cine y la mo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o Embajadora de Naciones Unid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recorrió Áfri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nsiguió que 15 países penalicen la mutilación femen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 creado la fundación Desert Da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ara luchar contra esta violencia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D:\Mis Documentos\Imagen8.jpg"/>
          <p:cNvPicPr/>
          <p:nvPr/>
        </p:nvPicPr>
        <p:blipFill>
          <a:blip r:embed="rId1"/>
          <a:stretch/>
        </p:blipFill>
        <p:spPr>
          <a:xfrm>
            <a:off x="3208320" y="531720"/>
            <a:ext cx="5962680" cy="4714920"/>
          </a:xfrm>
          <a:prstGeom prst="rect">
            <a:avLst/>
          </a:prstGeom>
          <a:ln w="0">
            <a:noFill/>
          </a:ln>
        </p:spPr>
      </p:pic>
      <p:sp>
        <p:nvSpPr>
          <p:cNvPr id="107" name="6 Rectángulo"/>
          <p:cNvSpPr/>
          <p:nvPr/>
        </p:nvSpPr>
        <p:spPr>
          <a:xfrm>
            <a:off x="536400" y="817560"/>
            <a:ext cx="280512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mi regreso de África, lo conté todo. A periodistas, en conferencias, en programas de televisión, como defensora de las seis mil niñas que, día a día, son mutiladas. Nada puede ser peor que orinar y menstruar por una abertura del tamaño de un guisante.”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7 CuadroTexto"/>
          <p:cNvSpPr/>
          <p:nvPr/>
        </p:nvSpPr>
        <p:spPr>
          <a:xfrm>
            <a:off x="4928400" y="246240"/>
            <a:ext cx="356544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heroína de esta historia re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f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primer mode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frican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 contrato en exclusiv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evl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:\Mis Documentos\Imagen17.jpg"/>
          <p:cNvPicPr/>
          <p:nvPr/>
        </p:nvPicPr>
        <p:blipFill>
          <a:blip r:embed="rId1"/>
          <a:stretch/>
        </p:blipFill>
        <p:spPr>
          <a:xfrm>
            <a:off x="679320" y="460440"/>
            <a:ext cx="3668760" cy="2449440"/>
          </a:xfrm>
          <a:prstGeom prst="rect">
            <a:avLst/>
          </a:prstGeom>
          <a:ln w="0">
            <a:noFill/>
          </a:ln>
        </p:spPr>
      </p:pic>
      <p:sp>
        <p:nvSpPr>
          <p:cNvPr id="55" name="10 Rectángulo"/>
          <p:cNvSpPr/>
          <p:nvPr/>
        </p:nvSpPr>
        <p:spPr>
          <a:xfrm>
            <a:off x="465120" y="3032280"/>
            <a:ext cx="843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n 1997,escribe su primer libro, su autobiografía,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Flor del desierto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, se publicó en Nueva Y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el segundo libro ,año 2002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MANECER EN EL DESIERTO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, describe su vi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su tercer libro, 2005 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IÑAS DEL DESIERTO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, habla del día que rompió el silencio, sus contratiempos y sus éxi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cuarto libro en 2007,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CARTAS A MI M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Flecha abajo"/>
          <p:cNvSpPr/>
          <p:nvPr/>
        </p:nvSpPr>
        <p:spPr>
          <a:xfrm>
            <a:off x="4608360" y="5032440"/>
            <a:ext cx="287640" cy="46044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2.bp.blogspot.com/_HFAo9aLWHsE/S7xffZACGzI/AAAAAAAAay0/KxflB-Vsl5o/s400/dirie.jpg"/>
          <p:cNvPicPr/>
          <p:nvPr/>
        </p:nvPicPr>
        <p:blipFill>
          <a:blip r:embed="rId1"/>
          <a:stretch/>
        </p:blipFill>
        <p:spPr>
          <a:xfrm>
            <a:off x="457200" y="384120"/>
            <a:ext cx="4157640" cy="5010120"/>
          </a:xfrm>
          <a:prstGeom prst="rect">
            <a:avLst/>
          </a:prstGeom>
          <a:ln w="0">
            <a:noFill/>
          </a:ln>
        </p:spPr>
      </p:pic>
      <p:sp>
        <p:nvSpPr>
          <p:cNvPr id="110" name="5 Rectángulo"/>
          <p:cNvSpPr/>
          <p:nvPr/>
        </p:nvSpPr>
        <p:spPr>
          <a:xfrm>
            <a:off x="4967280" y="674640"/>
            <a:ext cx="342900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No son víctimas. Ayud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mujeres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ieren 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vid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e luchan por ello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No sé si existe algo llamado valor y no sé si yo lo tengo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ice este 'Ave Fénix de ébano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renacida varia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us ceni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Quien se vea en mis circunstancias, hallará la fuerza para llegar al otro 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D:\Mis Documentos\Imagen15.jpg"/>
          <p:cNvPicPr/>
          <p:nvPr/>
        </p:nvPicPr>
        <p:blipFill>
          <a:blip r:embed="rId1"/>
          <a:stretch/>
        </p:blipFill>
        <p:spPr>
          <a:xfrm>
            <a:off x="3251160" y="317520"/>
            <a:ext cx="5875200" cy="5072040"/>
          </a:xfrm>
          <a:prstGeom prst="rect">
            <a:avLst/>
          </a:prstGeom>
          <a:ln w="0">
            <a:noFill/>
          </a:ln>
        </p:spPr>
      </p:pic>
      <p:sp>
        <p:nvSpPr>
          <p:cNvPr id="113" name="9 Rectángulo"/>
          <p:cNvSpPr/>
          <p:nvPr/>
        </p:nvSpPr>
        <p:spPr>
          <a:xfrm>
            <a:off x="536400" y="960480"/>
            <a:ext cx="280512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s algo que hacen mill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eres humanos cada día, y a los que queremos ayudar» propone Di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Mi modo de ayudar es ser como so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cer l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ago cada día, convencie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a la gente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s posible cambiar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Mis Documentos\Imagen14.jpg"/>
          <p:cNvPicPr/>
          <p:nvPr/>
        </p:nvPicPr>
        <p:blipFill>
          <a:blip r:embed="rId1"/>
          <a:stretch/>
        </p:blipFill>
        <p:spPr>
          <a:xfrm>
            <a:off x="393840" y="38880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6 Rectángulo"/>
          <p:cNvSpPr/>
          <p:nvPr/>
        </p:nvSpPr>
        <p:spPr>
          <a:xfrm>
            <a:off x="5181480" y="746280"/>
            <a:ext cx="294660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irie ha escrito varios libros so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vida y recorre el mundo en una ba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in desca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ntra la ablación, pero asegura q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hoy por ho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u única meta «es lograr la paz, el amo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el respeto que siempre he buscado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uno valores que «exijo al mund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ara mi y para todos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Mis Documentos\Imagen10.jpg"/>
          <p:cNvPicPr/>
          <p:nvPr/>
        </p:nvPicPr>
        <p:blipFill>
          <a:blip r:embed="rId1"/>
          <a:stretch/>
        </p:blipFill>
        <p:spPr>
          <a:xfrm>
            <a:off x="4251240" y="388800"/>
            <a:ext cx="4876920" cy="5106960"/>
          </a:xfrm>
          <a:prstGeom prst="rect">
            <a:avLst/>
          </a:prstGeom>
          <a:ln w="0">
            <a:noFill/>
          </a:ln>
        </p:spPr>
      </p:pic>
      <p:sp>
        <p:nvSpPr>
          <p:cNvPr id="119" name="8 Rectángulo"/>
          <p:cNvSpPr/>
          <p:nvPr/>
        </p:nvSpPr>
        <p:spPr>
          <a:xfrm>
            <a:off x="750960" y="674640"/>
            <a:ext cx="321444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herry Hormann, dij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«Hice la película (basada en la novela original) porque soy mujer, madre y un ser hu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Todos lo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compartimos ha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sido niñ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y los niños deberían estar a salvo del cualquier daño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planteó Horman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que des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la primera lectura del libro de Dirie colocó la «valentí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Bookman Old Style"/>
              </a:rPr>
              <a:t>de su autora «por encina de la tristeza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D:\Mis Documentos\Imagen16.jpg"/>
          <p:cNvPicPr/>
          <p:nvPr/>
        </p:nvPicPr>
        <p:blipFill>
          <a:blip r:embed="rId1"/>
          <a:stretch/>
        </p:blipFill>
        <p:spPr>
          <a:xfrm>
            <a:off x="108000" y="103320"/>
            <a:ext cx="4643280" cy="5429160"/>
          </a:xfrm>
          <a:prstGeom prst="rect">
            <a:avLst/>
          </a:prstGeom>
          <a:ln w="0">
            <a:noFill/>
          </a:ln>
        </p:spPr>
      </p:pic>
      <p:sp>
        <p:nvSpPr>
          <p:cNvPr id="121" name="5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4885200" y="746280"/>
            <a:ext cx="3900960" cy="256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oy se dedica a su hij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LEE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13 años y a su 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-CUESTA SOSTENERL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MIRAD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ES LA MIRADA OMNIPOT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UN LEÓ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725040" y="5175360"/>
            <a:ext cx="32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úsica : Elton John - Sacr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1 CuadroTexto"/>
          <p:cNvSpPr/>
          <p:nvPr/>
        </p:nvSpPr>
        <p:spPr>
          <a:xfrm>
            <a:off x="6387120" y="48895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h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2322360" y="746280"/>
            <a:ext cx="478800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Waris Dirie dice que “Este es mi libro más intimista. Hay heridas que tardan en cicatrizar. El deseo de ver a mi madre de nuevo, …olvidarla, …fue inten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Tuve que darme cuent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el amor y el sufrimiento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muchas veces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Trabajar en este libro fue doloros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Bookman Old Style"/>
              </a:rPr>
              <a:t>pero una experiencia realmente necesaria para  m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:\Mis Documentos\Imagen4.jpg"/>
          <p:cNvPicPr/>
          <p:nvPr/>
        </p:nvPicPr>
        <p:blipFill>
          <a:blip r:embed="rId1"/>
          <a:stretch/>
        </p:blipFill>
        <p:spPr>
          <a:xfrm>
            <a:off x="393840" y="388800"/>
            <a:ext cx="4224240" cy="4954680"/>
          </a:xfrm>
          <a:prstGeom prst="rect">
            <a:avLst/>
          </a:prstGeom>
          <a:ln w="0">
            <a:noFill/>
          </a:ln>
        </p:spPr>
      </p:pic>
      <p:sp>
        <p:nvSpPr>
          <p:cNvPr id="61" name="7 CuadroTexto"/>
          <p:cNvSpPr/>
          <p:nvPr/>
        </p:nvSpPr>
        <p:spPr>
          <a:xfrm>
            <a:off x="5181480" y="603360"/>
            <a:ext cx="321336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ací en el desierto de Somalía, no 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edad que tengo, lo único que s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 que cada día es nuevo. 33 año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36 años ? ¡ qué más da !, en el des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o hay papeles ni falta que ha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l desierto fue mi hogar durante 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infancia, yo pastoreaba el rebañ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amellos y cabras de mi pa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D:\Mis Documentos\Imagen14.jpg"/>
          <p:cNvPicPr/>
          <p:nvPr/>
        </p:nvPicPr>
        <p:blipFill>
          <a:blip r:embed="rId1"/>
          <a:stretch/>
        </p:blipFill>
        <p:spPr>
          <a:xfrm>
            <a:off x="3822840" y="317520"/>
            <a:ext cx="5116320" cy="5000760"/>
          </a:xfrm>
          <a:prstGeom prst="rect">
            <a:avLst/>
          </a:prstGeom>
          <a:ln w="0">
            <a:noFill/>
          </a:ln>
        </p:spPr>
      </p:pic>
      <p:sp>
        <p:nvSpPr>
          <p:cNvPr id="64" name="10 CuadroTexto"/>
          <p:cNvSpPr/>
          <p:nvPr/>
        </p:nvSpPr>
        <p:spPr>
          <a:xfrm>
            <a:off x="393840" y="1031760"/>
            <a:ext cx="3500280" cy="366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 peor era estar descalza,el s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rizado de piedras, no podí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garnos unas sanda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Cómo me sangrab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os pies 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o teníamos na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i casa , ni agua, éramos nómadas…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Teníamos el rebañ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Mis Documentos\Imagen3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88800"/>
            <a:ext cx="4286160" cy="4929480"/>
          </a:xfrm>
          <a:prstGeom prst="rect">
            <a:avLst/>
          </a:prstGeom>
          <a:ln w="0">
            <a:noFill/>
          </a:ln>
        </p:spPr>
      </p:pic>
      <p:sp>
        <p:nvSpPr>
          <p:cNvPr id="67" name="3 CuadroTexto"/>
          <p:cNvSpPr/>
          <p:nvPr/>
        </p:nvSpPr>
        <p:spPr>
          <a:xfrm>
            <a:off x="5110200" y="746280"/>
            <a:ext cx="3214800" cy="44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Estábamos bie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Unidos : mi madre , mis hermanos,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dre…me pegaba, pero… Él mand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ra un hombre fuerte , alto ,sól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Guer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ero debo decir que año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uando estaba sola en Nueva Yo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Habría preferido mil vece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Bofetón de mi padre a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ol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D:\Mis Documentos\Imagen12.jpg"/>
          <p:cNvPicPr/>
          <p:nvPr/>
        </p:nvPicPr>
        <p:blipFill>
          <a:blip r:embed="rId1"/>
          <a:stretch/>
        </p:blipFill>
        <p:spPr>
          <a:xfrm>
            <a:off x="3511440" y="388800"/>
            <a:ext cx="5619960" cy="5000760"/>
          </a:xfrm>
          <a:prstGeom prst="rect">
            <a:avLst/>
          </a:prstGeom>
          <a:ln w="0">
            <a:noFill/>
          </a:ln>
        </p:spPr>
      </p:pic>
      <p:sp>
        <p:nvSpPr>
          <p:cNvPr id="70" name="7 CuadroTexto"/>
          <p:cNvSpPr/>
          <p:nvPr/>
        </p:nvSpPr>
        <p:spPr>
          <a:xfrm>
            <a:off x="465120" y="603360"/>
            <a:ext cx="3000240" cy="420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legué a Nueva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un milagro , Cuando tenía 13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e escapé. Mi padre ib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asarme con un viejo de 6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que le daba 5 cam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o era especial, rebelde.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niñas son educadas para trabajar y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ofrecidas en matrimo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so quieren los p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sus hi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Mis Documentos\Imagen10.jpg"/>
          <p:cNvPicPr/>
          <p:nvPr/>
        </p:nvPicPr>
        <p:blipFill>
          <a:blip r:embed="rId1"/>
          <a:stretch/>
        </p:blipFill>
        <p:spPr>
          <a:xfrm>
            <a:off x="465120" y="460440"/>
            <a:ext cx="445608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967280" y="746280"/>
            <a:ext cx="3571920" cy="393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madre se preocupa d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 hija sea p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impia , virgen y por 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mía a los cinco años me llev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 la ab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or amor a m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Y yo , cl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quería ser “pura y limpia”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n Somalía se practica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ablación más sever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extirpan clítoris y labio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 la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179280" y="174600"/>
            <a:ext cx="9074160" cy="542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:\Mis Documentos\Imagen11.jpg"/>
          <p:cNvPicPr/>
          <p:nvPr/>
        </p:nvPicPr>
        <p:blipFill>
          <a:blip r:embed="rId1"/>
          <a:stretch/>
        </p:blipFill>
        <p:spPr>
          <a:xfrm>
            <a:off x="4037040" y="531720"/>
            <a:ext cx="5091120" cy="4643640"/>
          </a:xfrm>
          <a:prstGeom prst="rect">
            <a:avLst/>
          </a:prstGeom>
          <a:ln w="0">
            <a:noFill/>
          </a:ln>
        </p:spPr>
      </p:pic>
      <p:sp>
        <p:nvSpPr>
          <p:cNvPr id="76" name="6 CuadroTexto"/>
          <p:cNvSpPr/>
          <p:nvPr/>
        </p:nvSpPr>
        <p:spPr>
          <a:xfrm>
            <a:off x="465120" y="388800"/>
            <a:ext cx="3286080" cy="47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La herida se cose dej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ólo una abertur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iámetro de una cabez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ceri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Para la orina y la menstrua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Mi hermana murió desang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Y yo desde aq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í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Supe que ya nada pod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destru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Bookman Old Style"/>
              </a:rPr>
              <a:t>¡ Sólo temo a Dio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L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ES YA EL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QUE PUEDE HACERME DAÑ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1:06:24Z</dcterms:created>
  <dc:creator>CHICHA</dc:creator>
  <dc:description/>
  <dc:language>en-US</dc:language>
  <cp:lastModifiedBy>CHICHA</cp:lastModifiedBy>
  <dcterms:modified xsi:type="dcterms:W3CDTF">2010-05-21T01:15:53Z</dcterms:modified>
  <cp:revision>12</cp:revision>
  <dc:subject/>
  <dc:title>Waris Dirie</dc:title>
</cp:coreProperties>
</file>