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16.jpeg" ContentType="image/jpeg"/>
  <Override PartName="/ppt/media/(instrumental)%20-%20elton%20john%20-%20sacrific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504363" cy="5778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09480" y="685440"/>
            <a:ext cx="56390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1D59-C67A-463D-B7C6-5ED8A96BDD80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609480" y="685800"/>
            <a:ext cx="563904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4AD6-4288-4961-A76D-0B30C370C2C5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9480" y="685800"/>
            <a:ext cx="56390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BC95-4F23-4FF4-B913-3F6BC3DA4BD1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82C-3D0D-402B-A35E-EEDA8B32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85550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840" y="3340440"/>
            <a:ext cx="85550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B01-7BCA-4ED1-B354-D9E5CD1C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560" y="13478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840" y="33404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8560" y="33404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99B-BB5C-43E6-B926-82307EBC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2754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7440" y="1347840"/>
            <a:ext cx="2754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9680" y="1347840"/>
            <a:ext cx="2754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840" y="3340440"/>
            <a:ext cx="2754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7440" y="3340440"/>
            <a:ext cx="2754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9680" y="3340440"/>
            <a:ext cx="2754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F74-0666-48DD-BB93-BE350F1C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4840" y="1347840"/>
            <a:ext cx="85550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2E3-C1B0-4CA4-B2CE-64BD980F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85550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EA6-98F4-43CD-A0DE-C9426B2D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41745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8560" y="1347840"/>
            <a:ext cx="41745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467-EBB1-4EC2-BD42-B0D79A2C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6C0-32C7-4925-9FA9-86651C03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4840" y="231840"/>
            <a:ext cx="8555040" cy="44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231-EBEC-4BED-936D-11B3CA53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8560" y="1347840"/>
            <a:ext cx="41745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840" y="33404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852-B567-41C4-87BE-DB6E3668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41745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560" y="13478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8560" y="33404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8E4-B4FF-4265-9CA7-A9358070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8560" y="13478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840" y="3340440"/>
            <a:ext cx="85550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1E7-930C-401D-A75F-7CA3CEB2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347840"/>
            <a:ext cx="85550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4840" y="5356080"/>
            <a:ext cx="22176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47560" y="5356080"/>
            <a:ext cx="30085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1560" y="5356080"/>
            <a:ext cx="22179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8993-5BD8-4040-88DC-5188254AB7C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(instrumental)%20-%20elton%20john%20-%20sacrific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64920" y="245880"/>
            <a:ext cx="464508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0000"/>
                </a:solidFill>
                <a:latin typeface="Book Antiqua"/>
              </a:rPr>
              <a:t>Waris Diri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93560" y="5032080"/>
            <a:ext cx="6653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 Antiqua"/>
              </a:rPr>
              <a:t>“ </a:t>
            </a:r>
            <a:r>
              <a:rPr b="1" lang="es-AR" sz="2000" spc="-1" strike="noStrike">
                <a:solidFill>
                  <a:srgbClr val="000000"/>
                </a:solidFill>
                <a:latin typeface="Book Antiqua"/>
              </a:rPr>
              <a:t>A mí nadie puede ya dañarme , sólo  DIOS 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5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D:\Mis Documentos\Imagen9.jpg"/>
          <p:cNvPicPr/>
          <p:nvPr/>
        </p:nvPicPr>
        <p:blipFill>
          <a:blip r:embed="rId1"/>
          <a:stretch/>
        </p:blipFill>
        <p:spPr>
          <a:xfrm>
            <a:off x="1893960" y="1317600"/>
            <a:ext cx="57816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D:\Mis Documentos\Imagen6.jpg"/>
          <p:cNvPicPr/>
          <p:nvPr/>
        </p:nvPicPr>
        <p:blipFill>
          <a:blip r:embed="rId1"/>
          <a:stretch/>
        </p:blipFill>
        <p:spPr>
          <a:xfrm>
            <a:off x="393840" y="317520"/>
            <a:ext cx="4216320" cy="5140440"/>
          </a:xfrm>
          <a:prstGeom prst="rect">
            <a:avLst/>
          </a:prstGeom>
          <a:ln w="0">
            <a:noFill/>
          </a:ln>
        </p:spPr>
      </p:pic>
      <p:sp>
        <p:nvSpPr>
          <p:cNvPr id="79" name="3 CuadroTexto"/>
          <p:cNvSpPr/>
          <p:nvPr/>
        </p:nvSpPr>
        <p:spPr>
          <a:xfrm>
            <a:off x="5181480" y="388800"/>
            <a:ext cx="358632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uando empecé a hablar s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ablación en Estados Unidos,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entí muy culpable, por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staba criticando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ultura de mi familia a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Hoy me dedico a conseguir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ara for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aestros en Somalía, educar a niñas , a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adr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o he logrado con la 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Veinte años después de escapa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 mi casa he vuelto a Somal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D:\Mis Documentos\Imagen5.jpg"/>
          <p:cNvPicPr/>
          <p:nvPr/>
        </p:nvPicPr>
        <p:blipFill>
          <a:blip r:embed="rId1"/>
          <a:stretch/>
        </p:blipFill>
        <p:spPr>
          <a:xfrm>
            <a:off x="3537000" y="388800"/>
            <a:ext cx="5549760" cy="5077080"/>
          </a:xfrm>
          <a:prstGeom prst="rect">
            <a:avLst/>
          </a:prstGeom>
          <a:ln w="0">
            <a:noFill/>
          </a:ln>
        </p:spPr>
      </p:pic>
      <p:sp>
        <p:nvSpPr>
          <p:cNvPr id="82" name="7 CuadroTexto"/>
          <p:cNvSpPr/>
          <p:nvPr/>
        </p:nvSpPr>
        <p:spPr>
          <a:xfrm>
            <a:off x="608040" y="817560"/>
            <a:ext cx="2857320" cy="366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e reencontré con mi mad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y ya pi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omo 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HAY ESPERANZ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ara escaparme, cruc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l desierto. Una mañ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sperté con un león 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on su enorme me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y le d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D:\Mis Documentos\Imagen8.jpg"/>
          <p:cNvPicPr/>
          <p:nvPr/>
        </p:nvPicPr>
        <p:blipFill>
          <a:blip r:embed="rId1"/>
          <a:stretch/>
        </p:blipFill>
        <p:spPr>
          <a:xfrm>
            <a:off x="230040" y="388800"/>
            <a:ext cx="4594320" cy="4786560"/>
          </a:xfrm>
          <a:prstGeom prst="rect">
            <a:avLst/>
          </a:prstGeom>
          <a:ln w="0">
            <a:noFill/>
          </a:ln>
        </p:spPr>
      </p:pic>
      <p:sp>
        <p:nvSpPr>
          <p:cNvPr id="84" name="3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5396040" y="674640"/>
            <a:ext cx="3214440" cy="366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ómeme. Estoy prepara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y se fue. Ese día s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que ALA me reservab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lgo…y fue que encontré 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tía mía que estaba c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on un diplomático soma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stinado en Londr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edí que me llevaran allí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ri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Nunca antes había visto blancos 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D:\Mis Documentos\Imagen4.jpg"/>
          <p:cNvPicPr/>
          <p:nvPr/>
        </p:nvPicPr>
        <p:blipFill>
          <a:blip r:embed="rId1"/>
          <a:stretch/>
        </p:blipFill>
        <p:spPr>
          <a:xfrm>
            <a:off x="3463920" y="603360"/>
            <a:ext cx="5595840" cy="4643280"/>
          </a:xfrm>
          <a:prstGeom prst="rect">
            <a:avLst/>
          </a:prstGeom>
          <a:ln w="0">
            <a:noFill/>
          </a:ln>
        </p:spPr>
      </p:pic>
      <p:sp>
        <p:nvSpPr>
          <p:cNvPr id="88" name="5 CuadroTexto"/>
          <p:cNvSpPr/>
          <p:nvPr/>
        </p:nvSpPr>
        <p:spPr>
          <a:xfrm>
            <a:off x="457920" y="960480"/>
            <a:ext cx="2994120" cy="420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e pregunta se cambia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lgo de mi cuerp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i mi piernas que es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rqueadas, pero 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s agradezco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or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on hijas de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alnutrición infantil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llas me recuer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quién so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única hermos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que valoro es la del al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bemos dar gracia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star viv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D:\Mis Documentos\Imagen11.jpg"/>
          <p:cNvPicPr/>
          <p:nvPr/>
        </p:nvPicPr>
        <p:blipFill>
          <a:blip r:embed="rId1"/>
          <a:stretch/>
        </p:blipFill>
        <p:spPr>
          <a:xfrm>
            <a:off x="393840" y="460440"/>
            <a:ext cx="4362480" cy="4929120"/>
          </a:xfrm>
          <a:prstGeom prst="rect">
            <a:avLst/>
          </a:prstGeom>
          <a:ln w="0">
            <a:noFill/>
          </a:ln>
        </p:spPr>
      </p:pic>
      <p:sp>
        <p:nvSpPr>
          <p:cNvPr id="91" name="3 CuadroTexto"/>
          <p:cNvSpPr/>
          <p:nvPr/>
        </p:nvSpPr>
        <p:spPr>
          <a:xfrm>
            <a:off x="5168880" y="674640"/>
            <a:ext cx="360216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Hoy no me falta na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ero cuando veo el agua que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va por el desagüe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ucharme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sesp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LO QUE HARÍAN E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S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ON CADA GOTA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on el tiempo vol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 ver mi padre, le habí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robado su reb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y op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 los ojos con un cuch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n el desier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Quedó cieg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D:\Mis Documentos\Imagen6.jpg"/>
          <p:cNvPicPr/>
          <p:nvPr/>
        </p:nvPicPr>
        <p:blipFill>
          <a:blip r:embed="rId1"/>
          <a:stretch/>
        </p:blipFill>
        <p:spPr>
          <a:xfrm>
            <a:off x="3332160" y="603360"/>
            <a:ext cx="5807160" cy="4643280"/>
          </a:xfrm>
          <a:prstGeom prst="rect">
            <a:avLst/>
          </a:prstGeom>
          <a:ln w="0">
            <a:noFill/>
          </a:ln>
        </p:spPr>
      </p:pic>
      <p:sp>
        <p:nvSpPr>
          <p:cNvPr id="94" name="5 CuadroTexto"/>
          <p:cNvSpPr/>
          <p:nvPr/>
        </p:nvSpPr>
        <p:spPr>
          <a:xfrm>
            <a:off x="459000" y="1031760"/>
            <a:ext cx="288108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 aquel hombre 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oderoso y fuerte lo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hora frágil 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svalid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Pero aún con la cab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lta 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uando nos despedi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e confe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“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Tú eres como yo 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i pad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estaba orgulloso de mí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LLORÉ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6 CuadroTexto"/>
          <p:cNvSpPr/>
          <p:nvPr/>
        </p:nvSpPr>
        <p:spPr>
          <a:xfrm>
            <a:off x="1119960" y="4818240"/>
            <a:ext cx="75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( estas fueron sus palabras en una entrevista realizada en Barcelo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or Víctor Amela ,periodista, escritor.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D:\Mis Documentos\Imagen12.jpg"/>
          <p:cNvPicPr/>
          <p:nvPr/>
        </p:nvPicPr>
        <p:blipFill>
          <a:blip r:embed="rId1"/>
          <a:stretch/>
        </p:blipFill>
        <p:spPr>
          <a:xfrm>
            <a:off x="465120" y="317520"/>
            <a:ext cx="4214880" cy="5143320"/>
          </a:xfrm>
          <a:prstGeom prst="rect">
            <a:avLst/>
          </a:prstGeom>
          <a:ln w="0">
            <a:noFill/>
          </a:ln>
        </p:spPr>
      </p:pic>
      <p:sp>
        <p:nvSpPr>
          <p:cNvPr id="98" name="5 Rectángulo"/>
          <p:cNvSpPr/>
          <p:nvPr/>
        </p:nvSpPr>
        <p:spPr>
          <a:xfrm>
            <a:off x="5110200" y="888840"/>
            <a:ext cx="3087720" cy="393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Waris Dirie se reencontró con su familia después de 22 añ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El viaje de regreso fue muy chocante. Atravesando el desier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quiso detenerse para recoger a una señora que caminaba con los pies ensangrent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El chofer respondió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No te preocupes, sólo es una mujer.”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D:\Mis Documentos\Imagen7.jpg"/>
          <p:cNvPicPr/>
          <p:nvPr/>
        </p:nvPicPr>
        <p:blipFill>
          <a:blip r:embed="rId1"/>
          <a:stretch/>
        </p:blipFill>
        <p:spPr>
          <a:xfrm>
            <a:off x="3251160" y="603360"/>
            <a:ext cx="5888160" cy="4708440"/>
          </a:xfrm>
          <a:prstGeom prst="rect">
            <a:avLst/>
          </a:prstGeom>
          <a:ln w="0">
            <a:noFill/>
          </a:ln>
        </p:spPr>
      </p:pic>
      <p:sp>
        <p:nvSpPr>
          <p:cNvPr id="101" name="5 Rectángulo"/>
          <p:cNvSpPr/>
          <p:nvPr/>
        </p:nvSpPr>
        <p:spPr>
          <a:xfrm>
            <a:off x="393840" y="674640"/>
            <a:ext cx="3214440" cy="47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Como en un cuento de had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ookman Old Style"/>
              </a:rPr>
              <a:t>Waris Dirie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,  se convirtió en </a:t>
            </a:r>
            <a:r>
              <a:rPr b="1" lang="es-AR" sz="1800" spc="-1" strike="noStrike">
                <a:solidFill>
                  <a:srgbClr val="000000"/>
                </a:solidFill>
                <a:latin typeface="Bookman Old Style"/>
              </a:rPr>
              <a:t>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ookman Old Style"/>
              </a:rPr>
              <a:t>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Bookman Old Style"/>
              </a:rPr>
              <a:t>modelos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ookman Old Style"/>
              </a:rPr>
              <a:t>solicitadas de la época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Un día mientras frega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n una tien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Un fotógrafo la descubrió.M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ron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u figura se pase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ntre París , Londres , Itali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Nueva Y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D:\Mis Documentos\Imagen13.jpg"/>
          <p:cNvPicPr/>
          <p:nvPr/>
        </p:nvPicPr>
        <p:blipFill>
          <a:blip r:embed="rId1"/>
          <a:stretch/>
        </p:blipFill>
        <p:spPr>
          <a:xfrm>
            <a:off x="250920" y="317520"/>
            <a:ext cx="4322520" cy="5143320"/>
          </a:xfrm>
          <a:prstGeom prst="rect">
            <a:avLst/>
          </a:prstGeom>
          <a:ln w="0">
            <a:noFill/>
          </a:ln>
        </p:spPr>
      </p:pic>
      <p:sp>
        <p:nvSpPr>
          <p:cNvPr id="104" name="4 Rectángulo"/>
          <p:cNvSpPr/>
          <p:nvPr/>
        </p:nvSpPr>
        <p:spPr>
          <a:xfrm>
            <a:off x="5038560" y="960480"/>
            <a:ext cx="3248280" cy="393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Waris Dirie dejó atrás las pasarelas, el cine y la mo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Como Embajadora de Naciones Unid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recorrió Áfric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consiguió que 15 países penalicen la mutilación femen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Ha creado la fundación Desert Da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para luchar contra esta violencia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D:\Mis Documentos\Imagen8.jpg"/>
          <p:cNvPicPr/>
          <p:nvPr/>
        </p:nvPicPr>
        <p:blipFill>
          <a:blip r:embed="rId1"/>
          <a:stretch/>
        </p:blipFill>
        <p:spPr>
          <a:xfrm>
            <a:off x="3208320" y="531720"/>
            <a:ext cx="5962680" cy="4714920"/>
          </a:xfrm>
          <a:prstGeom prst="rect">
            <a:avLst/>
          </a:prstGeom>
          <a:ln w="0">
            <a:noFill/>
          </a:ln>
        </p:spPr>
      </p:pic>
      <p:sp>
        <p:nvSpPr>
          <p:cNvPr id="107" name="6 Rectángulo"/>
          <p:cNvSpPr/>
          <p:nvPr/>
        </p:nvSpPr>
        <p:spPr>
          <a:xfrm>
            <a:off x="536400" y="817560"/>
            <a:ext cx="2805120" cy="420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A mi regreso de África, lo conté todo. A periodistas, en conferencias, en programas de televisión, como defensora de las seis mil niñas que, día a día, son mutiladas. Nada puede ser peor que orinar y menstruar por una abertura del tamaño de un guisante.”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7 CuadroTexto"/>
          <p:cNvSpPr/>
          <p:nvPr/>
        </p:nvSpPr>
        <p:spPr>
          <a:xfrm>
            <a:off x="4928400" y="246240"/>
            <a:ext cx="356544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heroína de esta historia re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f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primer mode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frican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un contrato en exclusiva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Revl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D:\Mis Documentos\Imagen17.jpg"/>
          <p:cNvPicPr/>
          <p:nvPr/>
        </p:nvPicPr>
        <p:blipFill>
          <a:blip r:embed="rId1"/>
          <a:stretch/>
        </p:blipFill>
        <p:spPr>
          <a:xfrm>
            <a:off x="679320" y="460440"/>
            <a:ext cx="3668760" cy="2449440"/>
          </a:xfrm>
          <a:prstGeom prst="rect">
            <a:avLst/>
          </a:prstGeom>
          <a:ln w="0">
            <a:noFill/>
          </a:ln>
        </p:spPr>
      </p:pic>
      <p:sp>
        <p:nvSpPr>
          <p:cNvPr id="55" name="10 Rectángulo"/>
          <p:cNvSpPr/>
          <p:nvPr/>
        </p:nvSpPr>
        <p:spPr>
          <a:xfrm>
            <a:off x="465120" y="3032280"/>
            <a:ext cx="843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En 1997,escribe su primer libro, su autobiografía,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Flor del desierto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, se publicó en Nueva Y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n el segundo libro ,año 2002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AMANECER EN EL DESIERTO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, describe su vi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n su tercer libro, 2005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NIÑAS DEL DESIERTO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, habla del día que rompió el silencio, sus contratiempos y sus éxi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u cuarto libro en 2007,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CARTAS A MI MAD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Flecha abajo"/>
          <p:cNvSpPr/>
          <p:nvPr/>
        </p:nvSpPr>
        <p:spPr>
          <a:xfrm>
            <a:off x="4608360" y="5032440"/>
            <a:ext cx="287640" cy="46044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2.bp.blogspot.com/_HFAo9aLWHsE/S7xffZACGzI/AAAAAAAAay0/KxflB-Vsl5o/s400/dirie.jpg"/>
          <p:cNvPicPr/>
          <p:nvPr/>
        </p:nvPicPr>
        <p:blipFill>
          <a:blip r:embed="rId1"/>
          <a:stretch/>
        </p:blipFill>
        <p:spPr>
          <a:xfrm>
            <a:off x="457200" y="384120"/>
            <a:ext cx="4157640" cy="5010120"/>
          </a:xfrm>
          <a:prstGeom prst="rect">
            <a:avLst/>
          </a:prstGeom>
          <a:ln w="0">
            <a:noFill/>
          </a:ln>
        </p:spPr>
      </p:pic>
      <p:sp>
        <p:nvSpPr>
          <p:cNvPr id="110" name="5 Rectángulo"/>
          <p:cNvSpPr/>
          <p:nvPr/>
        </p:nvSpPr>
        <p:spPr>
          <a:xfrm>
            <a:off x="4967280" y="674640"/>
            <a:ext cx="3429000" cy="420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«No son víctimas. Ayud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a mujeres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quieren mejo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su vid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que luchan por ello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«No sé si existe algo llamado valor y no sé si yo lo tengo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dice este 'Ave Fénix de ébano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renacida varias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de sus ceni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«Quien se vea en mis circunstancias, hallará la fuerza para llegar al otro l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D:\Mis Documentos\Imagen15.jpg"/>
          <p:cNvPicPr/>
          <p:nvPr/>
        </p:nvPicPr>
        <p:blipFill>
          <a:blip r:embed="rId1"/>
          <a:stretch/>
        </p:blipFill>
        <p:spPr>
          <a:xfrm>
            <a:off x="3251160" y="317520"/>
            <a:ext cx="5875200" cy="5072040"/>
          </a:xfrm>
          <a:prstGeom prst="rect">
            <a:avLst/>
          </a:prstGeom>
          <a:ln w="0">
            <a:noFill/>
          </a:ln>
        </p:spPr>
      </p:pic>
      <p:sp>
        <p:nvSpPr>
          <p:cNvPr id="113" name="9 Rectángulo"/>
          <p:cNvSpPr/>
          <p:nvPr/>
        </p:nvSpPr>
        <p:spPr>
          <a:xfrm>
            <a:off x="536400" y="960480"/>
            <a:ext cx="2805120" cy="366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Es algo que hacen mill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de seres humanos cada día, y a los que queremos ayudar» propone Di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«Mi modo de ayudar es ser como so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hacer l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hago cada día, convenci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a la gente d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es posible cambiar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D:\Mis Documentos\Imagen14.jpg"/>
          <p:cNvPicPr/>
          <p:nvPr/>
        </p:nvPicPr>
        <p:blipFill>
          <a:blip r:embed="rId1"/>
          <a:stretch/>
        </p:blipFill>
        <p:spPr>
          <a:xfrm>
            <a:off x="393840" y="388800"/>
            <a:ext cx="4286160" cy="5000760"/>
          </a:xfrm>
          <a:prstGeom prst="rect">
            <a:avLst/>
          </a:prstGeom>
          <a:ln w="0">
            <a:noFill/>
          </a:ln>
        </p:spPr>
      </p:pic>
      <p:sp>
        <p:nvSpPr>
          <p:cNvPr id="116" name="6 Rectángulo"/>
          <p:cNvSpPr/>
          <p:nvPr/>
        </p:nvSpPr>
        <p:spPr>
          <a:xfrm>
            <a:off x="5181480" y="746280"/>
            <a:ext cx="2946600" cy="420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Dirie ha escrito varios libros so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su vida y recorre el mundo en una bat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sin desca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contra la ablación, pero asegura qu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hoy por ho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su única meta «es lograr la paz, el amo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el respeto que siempre he buscado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uno valores que «exijo al mun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para mi y para todo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:\Mis Documentos\Imagen10.jpg"/>
          <p:cNvPicPr/>
          <p:nvPr/>
        </p:nvPicPr>
        <p:blipFill>
          <a:blip r:embed="rId1"/>
          <a:stretch/>
        </p:blipFill>
        <p:spPr>
          <a:xfrm>
            <a:off x="4251240" y="388800"/>
            <a:ext cx="4876920" cy="5106960"/>
          </a:xfrm>
          <a:prstGeom prst="rect">
            <a:avLst/>
          </a:prstGeom>
          <a:ln w="0">
            <a:noFill/>
          </a:ln>
        </p:spPr>
      </p:pic>
      <p:sp>
        <p:nvSpPr>
          <p:cNvPr id="119" name="8 Rectángulo"/>
          <p:cNvSpPr/>
          <p:nvPr/>
        </p:nvSpPr>
        <p:spPr>
          <a:xfrm>
            <a:off x="750960" y="674640"/>
            <a:ext cx="321444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Sherry Hormann, dij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«Hice la película (basada en la novela original) porque soy mujer, madre y un ser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Todos los hum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compartimos ha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sido niñ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y los niños deberían estar a salvo del cualquier daño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planteó Horman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que des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la primera lectura del libro de Dirie colocó la «valentía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de su autora «por encina de la tristeza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D:\Mis Documentos\Imagen16.jpg"/>
          <p:cNvPicPr/>
          <p:nvPr/>
        </p:nvPicPr>
        <p:blipFill>
          <a:blip r:embed="rId1"/>
          <a:stretch/>
        </p:blipFill>
        <p:spPr>
          <a:xfrm>
            <a:off x="108000" y="103320"/>
            <a:ext cx="4643280" cy="5429160"/>
          </a:xfrm>
          <a:prstGeom prst="rect">
            <a:avLst/>
          </a:prstGeom>
          <a:ln w="0">
            <a:noFill/>
          </a:ln>
        </p:spPr>
      </p:pic>
      <p:sp>
        <p:nvSpPr>
          <p:cNvPr id="121" name="5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9 CuadroTexto"/>
          <p:cNvSpPr/>
          <p:nvPr/>
        </p:nvSpPr>
        <p:spPr>
          <a:xfrm>
            <a:off x="4885200" y="746280"/>
            <a:ext cx="3900960" cy="256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Hoy se dedica a su hijo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ALEE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 13 años y a su 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-CUESTA SOSTENERL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MIRAD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ES LA MIRADA OMNIPOTENT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UN LEÓ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0 CuadroTexto"/>
          <p:cNvSpPr/>
          <p:nvPr/>
        </p:nvSpPr>
        <p:spPr>
          <a:xfrm>
            <a:off x="725040" y="5175360"/>
            <a:ext cx="32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úsica : Elton John - Sacri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1 CuadroTexto"/>
          <p:cNvSpPr/>
          <p:nvPr/>
        </p:nvSpPr>
        <p:spPr>
          <a:xfrm>
            <a:off x="6387120" y="48895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hi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República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2322360" y="746280"/>
            <a:ext cx="4788000" cy="375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Waris Dirie dice que “Este es mi libro más intimista. Hay heridas que tardan en cicatrizar. El deseo de ver a mi madre de nuevo, …olvidarla, …fue inten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Tuve que darme cuenta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el amor y el sufrimiento est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muchas veces 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Trabajar en este libro fue doloros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pero una experiencia realmente necesaria para  mi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D:\Mis Documentos\Imagen4.jpg"/>
          <p:cNvPicPr/>
          <p:nvPr/>
        </p:nvPicPr>
        <p:blipFill>
          <a:blip r:embed="rId1"/>
          <a:stretch/>
        </p:blipFill>
        <p:spPr>
          <a:xfrm>
            <a:off x="393840" y="388800"/>
            <a:ext cx="4224240" cy="4954680"/>
          </a:xfrm>
          <a:prstGeom prst="rect">
            <a:avLst/>
          </a:prstGeom>
          <a:ln w="0">
            <a:noFill/>
          </a:ln>
        </p:spPr>
      </p:pic>
      <p:sp>
        <p:nvSpPr>
          <p:cNvPr id="61" name="7 CuadroTexto"/>
          <p:cNvSpPr/>
          <p:nvPr/>
        </p:nvSpPr>
        <p:spPr>
          <a:xfrm>
            <a:off x="5181480" y="603360"/>
            <a:ext cx="321336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Nací en el desierto de Somalía, no 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edad que tengo, lo único que s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s que cada día es nuevo. 33 año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36 años ? ¡ qué más da !, en el des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no hay papeles ni falta que ha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l desierto fue mi hogar durante 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i infancia, yo pastoreaba el rebañ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amellos y cabras de mi pad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D:\Mis Documentos\Imagen14.jpg"/>
          <p:cNvPicPr/>
          <p:nvPr/>
        </p:nvPicPr>
        <p:blipFill>
          <a:blip r:embed="rId1"/>
          <a:stretch/>
        </p:blipFill>
        <p:spPr>
          <a:xfrm>
            <a:off x="3822840" y="317520"/>
            <a:ext cx="5116320" cy="5000760"/>
          </a:xfrm>
          <a:prstGeom prst="rect">
            <a:avLst/>
          </a:prstGeom>
          <a:ln w="0">
            <a:noFill/>
          </a:ln>
        </p:spPr>
      </p:pic>
      <p:sp>
        <p:nvSpPr>
          <p:cNvPr id="64" name="10 CuadroTexto"/>
          <p:cNvSpPr/>
          <p:nvPr/>
        </p:nvSpPr>
        <p:spPr>
          <a:xfrm>
            <a:off x="393840" y="1031760"/>
            <a:ext cx="3500280" cy="366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o peor era estar descalza,el s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rizado de piedras, no podí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agarnos unas sanda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Cómo me sangrab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os pies 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No teníamos nad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ni casa , ni agua, éramos nómadas…p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Teníamos el rebañ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 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:\Mis Documentos\Imagen3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388800"/>
            <a:ext cx="4286160" cy="4929480"/>
          </a:xfrm>
          <a:prstGeom prst="rect">
            <a:avLst/>
          </a:prstGeom>
          <a:ln w="0">
            <a:noFill/>
          </a:ln>
        </p:spPr>
      </p:pic>
      <p:sp>
        <p:nvSpPr>
          <p:cNvPr id="67" name="3 CuadroTexto"/>
          <p:cNvSpPr/>
          <p:nvPr/>
        </p:nvSpPr>
        <p:spPr>
          <a:xfrm>
            <a:off x="5110200" y="746280"/>
            <a:ext cx="321480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Estábamos bien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Unidos : mi madre , mis hermanos,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adre…me pegaba, pero… Él mand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ra un hombre fuerte , alto ,sóli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Guerr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ero debo decir que años desp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uando estaba sola en Nueva Yor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Habría preferido mil veces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Bofetón de mi padre a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ol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D:\Mis Documentos\Imagen12.jpg"/>
          <p:cNvPicPr/>
          <p:nvPr/>
        </p:nvPicPr>
        <p:blipFill>
          <a:blip r:embed="rId1"/>
          <a:stretch/>
        </p:blipFill>
        <p:spPr>
          <a:xfrm>
            <a:off x="3511440" y="388800"/>
            <a:ext cx="5619960" cy="5000760"/>
          </a:xfrm>
          <a:prstGeom prst="rect">
            <a:avLst/>
          </a:prstGeom>
          <a:ln w="0">
            <a:noFill/>
          </a:ln>
        </p:spPr>
      </p:pic>
      <p:sp>
        <p:nvSpPr>
          <p:cNvPr id="70" name="7 CuadroTexto"/>
          <p:cNvSpPr/>
          <p:nvPr/>
        </p:nvSpPr>
        <p:spPr>
          <a:xfrm>
            <a:off x="465120" y="603360"/>
            <a:ext cx="3000240" cy="420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legué a Nueva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or un milagro , Cuando tenía 13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e escapé. Mi padre ib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asarme con un viejo de 6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orque le daba 5 camel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Yo era especial, rebelde.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niñas son educadas para trabajar y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ofrecidas en matrim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so quieren los p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ara sus hij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Mis Documentos\Imagen10.jpg"/>
          <p:cNvPicPr/>
          <p:nvPr/>
        </p:nvPicPr>
        <p:blipFill>
          <a:blip r:embed="rId1"/>
          <a:stretch/>
        </p:blipFill>
        <p:spPr>
          <a:xfrm>
            <a:off x="465120" y="460440"/>
            <a:ext cx="4456080" cy="485784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4967280" y="746280"/>
            <a:ext cx="3571920" cy="393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madre se preocupa d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u hija sea p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impia , virgen y por 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mía a los cinco años me llev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 la a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or amor a m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Y yo , cl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quería ser “pura y limpia”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n Somalía se practica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blación más sever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xtirpan clítoris y labios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 la va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D:\Mis Documentos\Imagen11.jpg"/>
          <p:cNvPicPr/>
          <p:nvPr/>
        </p:nvPicPr>
        <p:blipFill>
          <a:blip r:embed="rId1"/>
          <a:stretch/>
        </p:blipFill>
        <p:spPr>
          <a:xfrm>
            <a:off x="4037040" y="531720"/>
            <a:ext cx="5091120" cy="4643640"/>
          </a:xfrm>
          <a:prstGeom prst="rect">
            <a:avLst/>
          </a:prstGeom>
          <a:ln w="0">
            <a:noFill/>
          </a:ln>
        </p:spPr>
      </p:pic>
      <p:sp>
        <p:nvSpPr>
          <p:cNvPr id="76" name="6 CuadroTexto"/>
          <p:cNvSpPr/>
          <p:nvPr/>
        </p:nvSpPr>
        <p:spPr>
          <a:xfrm>
            <a:off x="465120" y="388800"/>
            <a:ext cx="3286080" cy="47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herida se cose dej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ólo una abertur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iámetro de una cabez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eril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ara la orina y la menstrua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i hermana murió desang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Y yo desde aq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í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upe que ya nada pod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strui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Sólo temo a Dios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AL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ES YA EL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QUE PUEDE HACERME DAÑ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21:06:24Z</dcterms:created>
  <dc:creator>CHICHA</dc:creator>
  <dc:description/>
  <dc:language>en-US</dc:language>
  <cp:lastModifiedBy>CHICHA</cp:lastModifiedBy>
  <dcterms:modified xsi:type="dcterms:W3CDTF">2010-05-21T01:15:53Z</dcterms:modified>
  <cp:revision>12</cp:revision>
  <dc:subject/>
  <dc:title>Waris Dirie</dc:title>
</cp:coreProperties>
</file>