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ardin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EDA-738D-4FA7-80D4-464E838D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327-BEAA-4264-B0E7-1E138203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6C7-2906-495E-8410-63432C85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EC0-A858-4F2C-8003-51633EE4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1F6-9A90-4103-AB54-5A39B33B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BA1-7A8B-4A37-8A24-A2B239C1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320-76AA-4347-A1F9-8F39FC77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581-C1C3-4EB3-91CD-C0C555F7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9B4-5B73-4DC8-9FB2-464CD070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B9E-2F97-4676-AF31-9618C44E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CCE-8F1C-4032-9DE0-C6794E22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3D4-3082-4572-B451-88634531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A820-8134-46C0-BA54-C759BA97CE95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ardi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125360"/>
            <a:ext cx="7200720" cy="34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0000"/>
                </a:solidFill>
                <a:latin typeface="Bodoni MT"/>
                <a:ea typeface="Arial"/>
              </a:rPr>
              <a:t>SOLAMENT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0000"/>
                </a:solidFill>
                <a:latin typeface="Bodoni MT"/>
                <a:ea typeface="Arial"/>
              </a:rPr>
              <a:t>TEN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000000"/>
                </a:solidFill>
                <a:latin typeface="Bodoni MT"/>
                <a:ea typeface="Arial"/>
              </a:rPr>
              <a:t>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Jard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0"/>
            <a:ext cx="856908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asa este mensaje bien rápido, a los que más puedas, no importa que muchos no crean en TI, algunas personas estarán orando por todos nosotros…</a:t>
            </a: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¡¡Que tengas un Feliz Día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8 Ángeles te lo han envi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ú debes enviarlo a 8 person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En 8 minutos, recibirás algo inesper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IEMPRE TEN 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87280" y="2781360"/>
            <a:ext cx="7056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No me quería levantar, ¿me quería quedar ahí?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0"/>
            <a:ext cx="8280360" cy="62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in tener que preocuparme por nad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ero entonces recordé que no debía hacerlo…</a:t>
            </a:r>
            <a:r>
              <a:rPr b="1" lang="de-DE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5280" y="0"/>
            <a:ext cx="5256360" cy="49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orque existen millones de persona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que darían cualquier cosa por estar en mi lugar…</a:t>
            </a:r>
            <a:r>
              <a:rPr b="1" lang="de-DE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0"/>
            <a:ext cx="8088120" cy="53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Levantarse y tener a dónde ir, sin estar vagand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eniendo algo qué comer, teniendo con qué vestir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296280" cy="65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oy Señor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gradezco por la noche maravillos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or tus ángeles que velaron mis sueño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19320"/>
            <a:ext cx="9144000" cy="377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or la cobija que me calient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or mi alimento, por un día más de trabaj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y principalmente… por un día más de VID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549360"/>
            <a:ext cx="8153280" cy="59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Bendice Seño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mi familia, a mis amigos y a mis amigas, a mis compañeras y compañeros de trabajo, y sobretodo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mis enemigos y enemiga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orque también necesitan de TI.</a:t>
            </a:r>
            <a:r>
              <a:rPr b="1" lang="de-DE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84360" y="1197000"/>
            <a:ext cx="6264360" cy="53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Bendice Seño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 la persona que está leyendo este mensaje ahora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U sabes el afecto que le ten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Amé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1:14:31Z</dcterms:created>
  <dc:creator>Darco</dc:creator>
  <dc:description/>
  <dc:language>en-US</dc:language>
  <cp:lastModifiedBy>Pilar Troncoso</cp:lastModifiedBy>
  <dcterms:modified xsi:type="dcterms:W3CDTF">2007-07-03T07:35:52Z</dcterms:modified>
  <cp:revision>13</cp:revision>
  <dc:subject/>
  <dc:title>PowerPoint-Presentacion</dc:title>
</cp:coreProperties>
</file>