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ardin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818-CD32-4BB8-BEEF-40430B46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2F8-FD76-4396-860A-B317CBF6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600-AD33-442F-932D-21AD999D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8F7-1634-4BF6-9C50-0724DB24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0BB-AAC0-49D8-A2CC-FE4AD4A2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A56-327B-48B4-8C76-1AF87631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BA5-CF09-43E6-A484-154B43C8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607-D46A-4E37-9738-D0AFF1FB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379-FF45-4B57-B380-3D54F82D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AA2-2C05-4094-9D93-5199CE38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AD7-FEE1-4C4C-92AE-0B6D54FE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6EC-1209-4584-AB4D-11A4C8E4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4290-5B13-4F25-ACAC-1EDA8F1AC817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ardi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1125360"/>
            <a:ext cx="7200720" cy="34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0000"/>
                </a:solidFill>
                <a:latin typeface="Bodoni MT"/>
                <a:ea typeface="Arial"/>
              </a:rPr>
              <a:t>SOLAMENT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0000"/>
                </a:solidFill>
                <a:latin typeface="Bodoni MT"/>
                <a:ea typeface="Arial"/>
              </a:rPr>
              <a:t>TEN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0000"/>
                </a:solidFill>
                <a:latin typeface="Bodoni MT"/>
                <a:ea typeface="Arial"/>
              </a:rPr>
              <a:t>F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Jard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0"/>
            <a:ext cx="856908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Pasa este mensaje bien rápido, a los que más puedas, no importa que muchos no crean en TI, algunas personas estarán orando por todos nosotros…</a:t>
            </a: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¡¡Que tengas un Feliz Día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8 Ángeles te lo han enviad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Tú debes enviarlo a 8 person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En 8 minutos, recibirás algo inesperad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SIEMPRE TEN 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87280" y="2781360"/>
            <a:ext cx="7056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No me quería levantar, ¿me quería quedar ahí?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0"/>
            <a:ext cx="8280360" cy="62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Sin tener que preocuparme por nad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pero entonces recordé que no debía hacerlo…</a:t>
            </a:r>
            <a:r>
              <a:rPr b="1" lang="de-DE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35280" y="0"/>
            <a:ext cx="5256360" cy="49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Porque existen millones de persona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que darían cualquier cosa por estar en mi lugar…</a:t>
            </a:r>
            <a:r>
              <a:rPr b="1" lang="de-DE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0"/>
            <a:ext cx="8088120" cy="53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Levantarse y tener a dónde ir, sin estar vagand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teniendo algo qué comer, teniendo con qué vestir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296280" cy="65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Hoy Señor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gradezco por la noche maravillos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Por tus ángeles que velaron mis sueño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19320"/>
            <a:ext cx="9144000" cy="377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Por la cobija que me calient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por mi alimento, por un día más de trabajo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y principalmente… por un día más de VIDA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549360"/>
            <a:ext cx="8153280" cy="59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Bendice Seño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 mi familia, a mis amigos y a mis amigas, a mis compañeras y compañeros de trabajo, y sobretodo…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 mis enemigos y enemiga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porque también necesitan de TI.</a:t>
            </a:r>
            <a:r>
              <a:rPr b="1" lang="de-DE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84360" y="1197000"/>
            <a:ext cx="6264360" cy="53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Bendice Seño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 la persona que está leyendo este mensaje ahora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TU sabes el afecto que le ten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mé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21:14:31Z</dcterms:created>
  <dc:creator>Darco</dc:creator>
  <dc:description/>
  <dc:language>en-US</dc:language>
  <cp:lastModifiedBy>Pilar Troncoso</cp:lastModifiedBy>
  <dcterms:modified xsi:type="dcterms:W3CDTF">2007-07-03T07:35:52Z</dcterms:modified>
  <cp:revision>13</cp:revision>
  <dc:subject/>
  <dc:title>PowerPoint-Presentacion</dc:title>
</cp:coreProperties>
</file>