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F30-7457-45EF-8D58-13AEB624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11F-0CBA-442F-9F38-FFEE028B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B45-CDC6-47C6-9BD3-BC37232E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5B9-8F7E-4F9D-8AD0-D324BB76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B71-81BF-4F99-9EF8-876C1C7C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CDC-C07E-40B1-85AD-479B4397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2E1-475F-4840-8FC8-B6019024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2E1-C864-4FC7-8C1B-C3AD56CD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155-E22D-4540-BF2C-A482853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860-E6AB-43B0-B583-A8F06D4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AAB-7C75-417D-92BB-793B83B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23C-158E-4870-A5F3-DF95926B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5933-E05E-4E98-9596-F05517CCA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68720"/>
            <a:ext cx="69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ego de meter todo el equipa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l Papa Benedicto en la limos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chofer se da cuenta que el Pa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ún está parado en el borde de la ac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Disculpe, Su Santidad, dice el condu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¿podría Usted, por fav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mar asiento y así poder part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Bueno, para ser honesto, dice El Pap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unca me dejaron conduc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n el Vaticano cuando fui Carden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y realmente me gustaría manejar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43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736280"/>
            <a:ext cx="69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Lo siento, Su Santid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o no le puedo dejar manej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dería mi trabaj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Y qué si pasara algo?, dice el condu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Quién va a saberl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demás, pudiera haber algo extra para 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ice El Papa, con una sonri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cio, el chofer se mete atr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el Papa salta al vo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50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0296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chofer se arrepiente rápid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su decisión cuan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ego de salir del aeropuer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Pontífice pisa durísi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elerando la limosina a 170 k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¡Por favor baje la velocid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 Santidad!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lica el preocupado chof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o el Papa hunde el p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asta que se escucha la sire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Oh, Dios mí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oy a perder mi licencia y mi trabajo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 lamenta el pobre cho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57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85840"/>
            <a:ext cx="69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Papa se detiene a un l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baja el vid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entras el policía se acer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o cuando el polic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e echa un buen vistaz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gresa a su motocicle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llama por rad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Necesito hablar con el Jefe!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e dice al operad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Jefe se pone al ra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el policía le dice que detu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una limosina que iba vol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64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00476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Arréstalo pues, dice el Je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No creo que podamos hacer e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él tipo es realmente importa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ce el polic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el Jefe excl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Con más razó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No, realmente es importa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ce el policía con insist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tonces el Jefe pregun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A quién tienes ahí, al Alcal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Este... MAS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Al Gobernad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Mmm... Pe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71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6992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- Mierda -dice el Jefe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¿quién es el tip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- Creo que es Dios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l Jefe más desconcert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y más curio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- ¿Qué te hace pensar que es Di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- Porque tiene al Papa de chofer...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08360" y="360360"/>
            <a:ext cx="1625760" cy="1339920"/>
            <a:chOff x="3708360" y="360360"/>
            <a:chExt cx="1625760" cy="1339920"/>
          </a:xfrm>
        </p:grpSpPr>
        <p:pic>
          <p:nvPicPr>
            <p:cNvPr id="78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3708360" y="360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3924360" y="576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4140360" y="79236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4356000" y="100800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4572000" y="122400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3468240" y="5355000"/>
            <a:ext cx="2106000" cy="945360"/>
            <a:chOff x="3468240" y="5355000"/>
            <a:chExt cx="2106000" cy="945360"/>
          </a:xfrm>
        </p:grpSpPr>
        <p:pic>
          <p:nvPicPr>
            <p:cNvPr id="84" name="" descr="VAT2.gif (8443 bytes)"/>
            <p:cNvPicPr/>
            <p:nvPr/>
          </p:nvPicPr>
          <p:blipFill>
            <a:blip r:embed="rId6"/>
            <a:stretch/>
          </p:blipFill>
          <p:spPr>
            <a:xfrm rot="19141800">
              <a:off x="3530880" y="55461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VAT2.gif (8443 bytes)"/>
            <p:cNvPicPr/>
            <p:nvPr/>
          </p:nvPicPr>
          <p:blipFill>
            <a:blip r:embed="rId7"/>
            <a:stretch/>
          </p:blipFill>
          <p:spPr>
            <a:xfrm rot="19141800">
              <a:off x="3835440" y="55677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VAT2.gif (8443 bytes)"/>
            <p:cNvPicPr/>
            <p:nvPr/>
          </p:nvPicPr>
          <p:blipFill>
            <a:blip r:embed="rId8"/>
            <a:stretch/>
          </p:blipFill>
          <p:spPr>
            <a:xfrm rot="19141800">
              <a:off x="4140360" y="5589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VAT2.gif (8443 bytes)"/>
            <p:cNvPicPr/>
            <p:nvPr/>
          </p:nvPicPr>
          <p:blipFill>
            <a:blip r:embed="rId9"/>
            <a:stretch/>
          </p:blipFill>
          <p:spPr>
            <a:xfrm rot="19141800">
              <a:off x="4444560" y="561060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VAT2.gif (8443 bytes)"/>
            <p:cNvPicPr/>
            <p:nvPr/>
          </p:nvPicPr>
          <p:blipFill>
            <a:blip r:embed="rId10"/>
            <a:stretch/>
          </p:blipFill>
          <p:spPr>
            <a:xfrm rot="19141800">
              <a:off x="4749120" y="563220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1:51:01Z</dcterms:created>
  <dc:creator>PatriciaEMF</dc:creator>
  <dc:description/>
  <dc:language>en-US</dc:language>
  <cp:lastModifiedBy>Matias</cp:lastModifiedBy>
  <dcterms:modified xsi:type="dcterms:W3CDTF">2006-05-20T15:49:54Z</dcterms:modified>
  <cp:revision>31</cp:revision>
  <dc:subject/>
  <dc:title>La travesura del PAPA</dc:title>
</cp:coreProperties>
</file>