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5C49-DFF1-47F8-92FF-425B438E0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FD34-FABF-4302-95ED-CD5D1C363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3D17-3836-4404-A98D-68CA7EE72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A022-E05E-4DA6-8EFF-8C0A73636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02C3-10D6-479A-BC48-447012173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F732-230C-4A35-B6AC-3293C368E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7EB8-A705-4554-88F6-8AD39EAA7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52D7-D959-4E2B-83FE-DE4647BF7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7660-E71F-42DC-9C7C-2359AAB51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CE32-E3D9-4CA5-AB0E-88CC5B9A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1684-17C5-40CC-B304-F8F49252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707B-1CE4-4FB6-9979-EE72578F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C333B-DEDD-4D77-A209-101A42F4D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368720"/>
            <a:ext cx="6948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Luego de meter todo el equipa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el Papa Benedicto en la limosin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l chofer se da cuenta que el Pap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ún está parado en el borde de la acer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- Disculpe, Su Santidad, dice el conducto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¿podría Usted, por favo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tomar asiento y así poder parti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- Bueno, para ser honesto, dice El Pap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nunca me dejaron conduci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en el Vaticano cuando fui Cardena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y realmente me gustaría manejar ho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6978600" y="2736720"/>
            <a:ext cx="1625760" cy="1339920"/>
            <a:chOff x="6978600" y="2736720"/>
            <a:chExt cx="1625760" cy="1339920"/>
          </a:xfrm>
        </p:grpSpPr>
        <p:pic>
          <p:nvPicPr>
            <p:cNvPr id="43" name="" descr="VAT2.gif (8443 bytes)"/>
            <p:cNvPicPr/>
            <p:nvPr/>
          </p:nvPicPr>
          <p:blipFill>
            <a:blip r:embed="rId1"/>
            <a:stretch/>
          </p:blipFill>
          <p:spPr>
            <a:xfrm>
              <a:off x="6978600" y="2736720"/>
              <a:ext cx="76212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VAT2.gif (8443 bytes)"/>
            <p:cNvPicPr/>
            <p:nvPr/>
          </p:nvPicPr>
          <p:blipFill>
            <a:blip r:embed="rId2"/>
            <a:stretch/>
          </p:blipFill>
          <p:spPr>
            <a:xfrm>
              <a:off x="7194600" y="2952720"/>
              <a:ext cx="76212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VAT2.gif (8443 bytes)"/>
            <p:cNvPicPr/>
            <p:nvPr/>
          </p:nvPicPr>
          <p:blipFill>
            <a:blip r:embed="rId3"/>
            <a:stretch/>
          </p:blipFill>
          <p:spPr>
            <a:xfrm>
              <a:off x="7410600" y="3168720"/>
              <a:ext cx="76176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VAT2.gif (8443 bytes)"/>
            <p:cNvPicPr/>
            <p:nvPr/>
          </p:nvPicPr>
          <p:blipFill>
            <a:blip r:embed="rId4"/>
            <a:stretch/>
          </p:blipFill>
          <p:spPr>
            <a:xfrm>
              <a:off x="7626240" y="3384360"/>
              <a:ext cx="76212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VAT2.gif (8443 bytes)"/>
            <p:cNvPicPr/>
            <p:nvPr/>
          </p:nvPicPr>
          <p:blipFill>
            <a:blip r:embed="rId5"/>
            <a:stretch/>
          </p:blipFill>
          <p:spPr>
            <a:xfrm>
              <a:off x="7842240" y="3600360"/>
              <a:ext cx="762120" cy="476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2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2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20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20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2000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2000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2000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2000"/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2000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2000"/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736280"/>
            <a:ext cx="694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- Lo siento, Su Santidad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pero no le puedo dejar maneja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perdería mi trabajo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Y qué si pasara algo?, dice el conduct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- Quién va a saberlo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Además, pudiera haber algo extra para t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dice El Papa, con una sonris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eacio, el chofer se mete atrá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y el Papa salta al vola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978600" y="2736720"/>
            <a:ext cx="1625760" cy="1339920"/>
            <a:chOff x="6978600" y="2736720"/>
            <a:chExt cx="1625760" cy="1339920"/>
          </a:xfrm>
        </p:grpSpPr>
        <p:pic>
          <p:nvPicPr>
            <p:cNvPr id="50" name="" descr="VAT2.gif (8443 bytes)"/>
            <p:cNvPicPr/>
            <p:nvPr/>
          </p:nvPicPr>
          <p:blipFill>
            <a:blip r:embed="rId1"/>
            <a:stretch/>
          </p:blipFill>
          <p:spPr>
            <a:xfrm>
              <a:off x="6978600" y="2736720"/>
              <a:ext cx="76212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VAT2.gif (8443 bytes)"/>
            <p:cNvPicPr/>
            <p:nvPr/>
          </p:nvPicPr>
          <p:blipFill>
            <a:blip r:embed="rId2"/>
            <a:stretch/>
          </p:blipFill>
          <p:spPr>
            <a:xfrm>
              <a:off x="7194600" y="2952720"/>
              <a:ext cx="76212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VAT2.gif (8443 bytes)"/>
            <p:cNvPicPr/>
            <p:nvPr/>
          </p:nvPicPr>
          <p:blipFill>
            <a:blip r:embed="rId3"/>
            <a:stretch/>
          </p:blipFill>
          <p:spPr>
            <a:xfrm>
              <a:off x="7410600" y="3168720"/>
              <a:ext cx="76176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VAT2.gif (8443 bytes)"/>
            <p:cNvPicPr/>
            <p:nvPr/>
          </p:nvPicPr>
          <p:blipFill>
            <a:blip r:embed="rId4"/>
            <a:stretch/>
          </p:blipFill>
          <p:spPr>
            <a:xfrm>
              <a:off x="7626240" y="3384360"/>
              <a:ext cx="76212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VAT2.gif (8443 bytes)"/>
            <p:cNvPicPr/>
            <p:nvPr/>
          </p:nvPicPr>
          <p:blipFill>
            <a:blip r:embed="rId5"/>
            <a:stretch/>
          </p:blipFill>
          <p:spPr>
            <a:xfrm>
              <a:off x="7842240" y="3600360"/>
              <a:ext cx="762120" cy="476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2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2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5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2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20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02960"/>
            <a:ext cx="6948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l chofer se arrepiente rápidam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e su decisión cuand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luego de salir del aeropuert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l Pontífice pisa durísim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celerando la limosina a 170 k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- ¡Por favor baje la velocidad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Su Santidad!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suplica el preocupado chofe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ero el Papa hunde el p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hasta que se escucha la sire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- Oh, Dios mí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voy a perder mi licencia y mi trabajo!!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se lamenta el pobre chof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978600" y="2736720"/>
            <a:ext cx="1625760" cy="1339920"/>
            <a:chOff x="6978600" y="2736720"/>
            <a:chExt cx="1625760" cy="1339920"/>
          </a:xfrm>
        </p:grpSpPr>
        <p:pic>
          <p:nvPicPr>
            <p:cNvPr id="57" name="" descr="VAT2.gif (8443 bytes)"/>
            <p:cNvPicPr/>
            <p:nvPr/>
          </p:nvPicPr>
          <p:blipFill>
            <a:blip r:embed="rId1"/>
            <a:stretch/>
          </p:blipFill>
          <p:spPr>
            <a:xfrm>
              <a:off x="6978600" y="2736720"/>
              <a:ext cx="76212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VAT2.gif (8443 bytes)"/>
            <p:cNvPicPr/>
            <p:nvPr/>
          </p:nvPicPr>
          <p:blipFill>
            <a:blip r:embed="rId2"/>
            <a:stretch/>
          </p:blipFill>
          <p:spPr>
            <a:xfrm>
              <a:off x="7194600" y="2952720"/>
              <a:ext cx="76212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VAT2.gif (8443 bytes)"/>
            <p:cNvPicPr/>
            <p:nvPr/>
          </p:nvPicPr>
          <p:blipFill>
            <a:blip r:embed="rId3"/>
            <a:stretch/>
          </p:blipFill>
          <p:spPr>
            <a:xfrm>
              <a:off x="7410600" y="3168720"/>
              <a:ext cx="76176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VAT2.gif (8443 bytes)"/>
            <p:cNvPicPr/>
            <p:nvPr/>
          </p:nvPicPr>
          <p:blipFill>
            <a:blip r:embed="rId4"/>
            <a:stretch/>
          </p:blipFill>
          <p:spPr>
            <a:xfrm>
              <a:off x="7626240" y="3384360"/>
              <a:ext cx="76212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VAT2.gif (8443 bytes)"/>
            <p:cNvPicPr/>
            <p:nvPr/>
          </p:nvPicPr>
          <p:blipFill>
            <a:blip r:embed="rId5"/>
            <a:stretch/>
          </p:blipFill>
          <p:spPr>
            <a:xfrm>
              <a:off x="7842240" y="3600360"/>
              <a:ext cx="762120" cy="476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2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2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600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20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9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2000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2000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2000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185840"/>
            <a:ext cx="694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l Papa se detiene a un la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y baja el vidr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ientras el policía se acerc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ero cuando el policí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le echa un buen vistaz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egresa a su motociclet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y llama por radi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- Necesito hablar con el Jefe!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le dice al operad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l Jefe se pone al rad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y el policía le dice que detuv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 una limosina que iba volan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6978600" y="2736720"/>
            <a:ext cx="1625760" cy="1339920"/>
            <a:chOff x="6978600" y="2736720"/>
            <a:chExt cx="1625760" cy="1339920"/>
          </a:xfrm>
        </p:grpSpPr>
        <p:pic>
          <p:nvPicPr>
            <p:cNvPr id="64" name="" descr="VAT2.gif (8443 bytes)"/>
            <p:cNvPicPr/>
            <p:nvPr/>
          </p:nvPicPr>
          <p:blipFill>
            <a:blip r:embed="rId1"/>
            <a:stretch/>
          </p:blipFill>
          <p:spPr>
            <a:xfrm>
              <a:off x="6978600" y="2736720"/>
              <a:ext cx="76212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VAT2.gif (8443 bytes)"/>
            <p:cNvPicPr/>
            <p:nvPr/>
          </p:nvPicPr>
          <p:blipFill>
            <a:blip r:embed="rId2"/>
            <a:stretch/>
          </p:blipFill>
          <p:spPr>
            <a:xfrm>
              <a:off x="7194600" y="2952720"/>
              <a:ext cx="76212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VAT2.gif (8443 bytes)"/>
            <p:cNvPicPr/>
            <p:nvPr/>
          </p:nvPicPr>
          <p:blipFill>
            <a:blip r:embed="rId3"/>
            <a:stretch/>
          </p:blipFill>
          <p:spPr>
            <a:xfrm>
              <a:off x="7410600" y="3168720"/>
              <a:ext cx="76176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VAT2.gif (8443 bytes)"/>
            <p:cNvPicPr/>
            <p:nvPr/>
          </p:nvPicPr>
          <p:blipFill>
            <a:blip r:embed="rId4"/>
            <a:stretch/>
          </p:blipFill>
          <p:spPr>
            <a:xfrm>
              <a:off x="7626240" y="3384360"/>
              <a:ext cx="76212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VAT2.gif (8443 bytes)"/>
            <p:cNvPicPr/>
            <p:nvPr/>
          </p:nvPicPr>
          <p:blipFill>
            <a:blip r:embed="rId5"/>
            <a:stretch/>
          </p:blipFill>
          <p:spPr>
            <a:xfrm>
              <a:off x="7842240" y="3600360"/>
              <a:ext cx="762120" cy="476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2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2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2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20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20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2000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2000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2000"/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1004760"/>
            <a:ext cx="6948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- Arréstalo pues, dice el Jef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- No creo que podamos hacer es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él tipo es realmente important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dice el policí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Y el Jefe exclam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- Con más razón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- No, realmente es important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dice el policía con insistenc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ntonces el Jefe pregunt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- A quién tienes ahí, al Alcald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- Este... MAS !!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- Al Gobernado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- Mmm... Pe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6978600" y="2736720"/>
            <a:ext cx="1625760" cy="1339920"/>
            <a:chOff x="6978600" y="2736720"/>
            <a:chExt cx="1625760" cy="1339920"/>
          </a:xfrm>
        </p:grpSpPr>
        <p:pic>
          <p:nvPicPr>
            <p:cNvPr id="71" name="" descr="VAT2.gif (8443 bytes)"/>
            <p:cNvPicPr/>
            <p:nvPr/>
          </p:nvPicPr>
          <p:blipFill>
            <a:blip r:embed="rId1"/>
            <a:stretch/>
          </p:blipFill>
          <p:spPr>
            <a:xfrm>
              <a:off x="6978600" y="2736720"/>
              <a:ext cx="76212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VAT2.gif (8443 bytes)"/>
            <p:cNvPicPr/>
            <p:nvPr/>
          </p:nvPicPr>
          <p:blipFill>
            <a:blip r:embed="rId2"/>
            <a:stretch/>
          </p:blipFill>
          <p:spPr>
            <a:xfrm>
              <a:off x="7194600" y="2952720"/>
              <a:ext cx="76212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VAT2.gif (8443 bytes)"/>
            <p:cNvPicPr/>
            <p:nvPr/>
          </p:nvPicPr>
          <p:blipFill>
            <a:blip r:embed="rId3"/>
            <a:stretch/>
          </p:blipFill>
          <p:spPr>
            <a:xfrm>
              <a:off x="7410600" y="3168720"/>
              <a:ext cx="76176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VAT2.gif (8443 bytes)"/>
            <p:cNvPicPr/>
            <p:nvPr/>
          </p:nvPicPr>
          <p:blipFill>
            <a:blip r:embed="rId4"/>
            <a:stretch/>
          </p:blipFill>
          <p:spPr>
            <a:xfrm>
              <a:off x="7626240" y="3384360"/>
              <a:ext cx="76212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VAT2.gif (8443 bytes)"/>
            <p:cNvPicPr/>
            <p:nvPr/>
          </p:nvPicPr>
          <p:blipFill>
            <a:blip r:embed="rId5"/>
            <a:stretch/>
          </p:blipFill>
          <p:spPr>
            <a:xfrm>
              <a:off x="7842240" y="3600360"/>
              <a:ext cx="762120" cy="476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8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20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20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20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60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2000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80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2000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2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40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2000"/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169920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- Mierda -dice el Jefe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¿quién es el tipo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- Creo que es Dios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El Jefe más desconcertad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y más curios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- ¿Qué te hace pensar que es Dio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- Porque tiene al Papa de chofer... 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3708360" y="360360"/>
            <a:ext cx="1625760" cy="1339920"/>
            <a:chOff x="3708360" y="360360"/>
            <a:chExt cx="1625760" cy="1339920"/>
          </a:xfrm>
        </p:grpSpPr>
        <p:pic>
          <p:nvPicPr>
            <p:cNvPr id="78" name="" descr="VAT2.gif (8443 bytes)"/>
            <p:cNvPicPr/>
            <p:nvPr/>
          </p:nvPicPr>
          <p:blipFill>
            <a:blip r:embed="rId1"/>
            <a:stretch/>
          </p:blipFill>
          <p:spPr>
            <a:xfrm>
              <a:off x="3708360" y="360360"/>
              <a:ext cx="76212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VAT2.gif (8443 bytes)"/>
            <p:cNvPicPr/>
            <p:nvPr/>
          </p:nvPicPr>
          <p:blipFill>
            <a:blip r:embed="rId2"/>
            <a:stretch/>
          </p:blipFill>
          <p:spPr>
            <a:xfrm>
              <a:off x="3924360" y="576360"/>
              <a:ext cx="76212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VAT2.gif (8443 bytes)"/>
            <p:cNvPicPr/>
            <p:nvPr/>
          </p:nvPicPr>
          <p:blipFill>
            <a:blip r:embed="rId3"/>
            <a:stretch/>
          </p:blipFill>
          <p:spPr>
            <a:xfrm>
              <a:off x="4140360" y="792360"/>
              <a:ext cx="76176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VAT2.gif (8443 bytes)"/>
            <p:cNvPicPr/>
            <p:nvPr/>
          </p:nvPicPr>
          <p:blipFill>
            <a:blip r:embed="rId4"/>
            <a:stretch/>
          </p:blipFill>
          <p:spPr>
            <a:xfrm>
              <a:off x="4356000" y="1008000"/>
              <a:ext cx="76212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VAT2.gif (8443 bytes)"/>
            <p:cNvPicPr/>
            <p:nvPr/>
          </p:nvPicPr>
          <p:blipFill>
            <a:blip r:embed="rId5"/>
            <a:stretch/>
          </p:blipFill>
          <p:spPr>
            <a:xfrm>
              <a:off x="4572000" y="1224000"/>
              <a:ext cx="762120" cy="476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" name=""/>
          <p:cNvGrpSpPr/>
          <p:nvPr/>
        </p:nvGrpSpPr>
        <p:grpSpPr>
          <a:xfrm>
            <a:off x="3468240" y="5355000"/>
            <a:ext cx="2106000" cy="945360"/>
            <a:chOff x="3468240" y="5355000"/>
            <a:chExt cx="2106000" cy="945360"/>
          </a:xfrm>
        </p:grpSpPr>
        <p:pic>
          <p:nvPicPr>
            <p:cNvPr id="84" name="" descr="VAT2.gif (8443 bytes)"/>
            <p:cNvPicPr/>
            <p:nvPr/>
          </p:nvPicPr>
          <p:blipFill>
            <a:blip r:embed="rId6"/>
            <a:stretch/>
          </p:blipFill>
          <p:spPr>
            <a:xfrm rot="19141800">
              <a:off x="3530880" y="5546160"/>
              <a:ext cx="76212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VAT2.gif (8443 bytes)"/>
            <p:cNvPicPr/>
            <p:nvPr/>
          </p:nvPicPr>
          <p:blipFill>
            <a:blip r:embed="rId7"/>
            <a:stretch/>
          </p:blipFill>
          <p:spPr>
            <a:xfrm rot="19141800">
              <a:off x="3835440" y="5567760"/>
              <a:ext cx="76212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VAT2.gif (8443 bytes)"/>
            <p:cNvPicPr/>
            <p:nvPr/>
          </p:nvPicPr>
          <p:blipFill>
            <a:blip r:embed="rId8"/>
            <a:stretch/>
          </p:blipFill>
          <p:spPr>
            <a:xfrm rot="19141800">
              <a:off x="4140360" y="5589720"/>
              <a:ext cx="76176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VAT2.gif (8443 bytes)"/>
            <p:cNvPicPr/>
            <p:nvPr/>
          </p:nvPicPr>
          <p:blipFill>
            <a:blip r:embed="rId9"/>
            <a:stretch/>
          </p:blipFill>
          <p:spPr>
            <a:xfrm rot="19141800">
              <a:off x="4444560" y="5610600"/>
              <a:ext cx="76212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VAT2.gif (8443 bytes)"/>
            <p:cNvPicPr/>
            <p:nvPr/>
          </p:nvPicPr>
          <p:blipFill>
            <a:blip r:embed="rId10"/>
            <a:stretch/>
          </p:blipFill>
          <p:spPr>
            <a:xfrm rot="19141800">
              <a:off x="4749120" y="5632200"/>
              <a:ext cx="762120" cy="476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9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5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7000"/>
                            </p:stCondLst>
                            <p:childTnLst>
                              <p:par>
                                <p:cTn id="2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1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8000"/>
                            </p:stCondLst>
                            <p:childTnLst>
                              <p:par>
                                <p:cTn id="243" nodeType="after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5" dur="20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0T11:51:01Z</dcterms:created>
  <dc:creator>PatriciaEMF</dc:creator>
  <dc:description/>
  <dc:language>en-US</dc:language>
  <cp:lastModifiedBy>Matias</cp:lastModifiedBy>
  <dcterms:modified xsi:type="dcterms:W3CDTF">2006-05-20T15:49:54Z</dcterms:modified>
  <cp:revision>31</cp:revision>
  <dc:subject/>
  <dc:title>La travesura del PAPA</dc:title>
</cp:coreProperties>
</file>