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gif" ContentType="image/gif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D93-CB5C-4ADC-A1FF-93A777D0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2DE-115D-4734-8E6E-5C963FAA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EA7-0F31-434D-8273-ED2FE9A3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E34-0C21-4E2C-8621-C6E277B7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98A-7281-4341-815B-FCCA3163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3F3-5487-48DE-A4CB-3056A1EC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A83-EDFE-409B-8893-5C309376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65B-7AD4-4700-A0F4-6BD3F7B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CAE-CB2E-44B3-B83C-443907AA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487-2649-4DC8-8BB0-7DA5E95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01D-67C7-4400-AF2A-1B7C0962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858-FB08-4BE4-AE48-3D3C355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7974-185D-4F83-956B-148873E44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Bilderschnipsel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657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nd was kommt jetzt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litter1" descr=""/>
          <p:cNvPicPr/>
          <p:nvPr/>
        </p:nvPicPr>
        <p:blipFill>
          <a:blip r:embed="rId1"/>
          <a:stretch/>
        </p:blipFill>
        <p:spPr>
          <a:xfrm>
            <a:off x="2819520" y="5410080"/>
            <a:ext cx="3749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unbenannt" descr=""/>
          <p:cNvPicPr/>
          <p:nvPr/>
        </p:nvPicPr>
        <p:blipFill>
          <a:blip r:embed="rId1"/>
          <a:stretch/>
        </p:blipFill>
        <p:spPr>
          <a:xfrm>
            <a:off x="5905440" y="2590920"/>
            <a:ext cx="3238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nbenannt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veters_01" descr=""/>
          <p:cNvPicPr/>
          <p:nvPr/>
        </p:nvPicPr>
        <p:blipFill>
          <a:blip r:embed="rId1"/>
          <a:stretch/>
        </p:blipFill>
        <p:spPr>
          <a:xfrm>
            <a:off x="2971800" y="390600"/>
            <a:ext cx="6172200" cy="287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veters_02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vsudyu_01" descr=""/>
          <p:cNvPicPr/>
          <p:nvPr/>
        </p:nvPicPr>
        <p:blipFill>
          <a:blip r:embed="rId1"/>
          <a:stretch/>
        </p:blipFill>
        <p:spPr>
          <a:xfrm>
            <a:off x="0" y="762120"/>
            <a:ext cx="64008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sudyu_0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zhenboi_01" descr=""/>
          <p:cNvPicPr/>
          <p:nvPr/>
        </p:nvPicPr>
        <p:blipFill>
          <a:blip r:embed="rId1"/>
          <a:stretch/>
        </p:blipFill>
        <p:spPr>
          <a:xfrm>
            <a:off x="1752480" y="0"/>
            <a:ext cx="5410440" cy="3765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zhenboi_06" descr=""/>
          <p:cNvPicPr/>
          <p:nvPr/>
        </p:nvPicPr>
        <p:blipFill>
          <a:blip r:embed="rId1"/>
          <a:stretch/>
        </p:blipFill>
        <p:spPr>
          <a:xfrm>
            <a:off x="1716120" y="0"/>
            <a:ext cx="57135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vushki_01" descr=""/>
          <p:cNvPicPr/>
          <p:nvPr/>
        </p:nvPicPr>
        <p:blipFill>
          <a:blip r:embed="rId1"/>
          <a:stretch/>
        </p:blipFill>
        <p:spPr>
          <a:xfrm>
            <a:off x="0" y="1343160"/>
            <a:ext cx="6705720" cy="5514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evushki_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otik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rotest_01" descr=""/>
          <p:cNvPicPr/>
          <p:nvPr/>
        </p:nvPicPr>
        <p:blipFill>
          <a:blip r:embed="rId1"/>
          <a:stretch/>
        </p:blipFill>
        <p:spPr>
          <a:xfrm>
            <a:off x="3124080" y="614520"/>
            <a:ext cx="601992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rotest_02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5613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otik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arochka_01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4173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arochka_02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abota_kal_01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679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abota_kal_02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229600" cy="6870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ghtjeans_01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70572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ghtjeans_02" descr="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2:13:19Z</dcterms:created>
  <dc:creator> </dc:creator>
  <dc:description/>
  <dc:language>en-US</dc:language>
  <cp:lastModifiedBy> </cp:lastModifiedBy>
  <dcterms:modified xsi:type="dcterms:W3CDTF">2006-10-24T07:20:31Z</dcterms:modified>
  <cp:revision>3</cp:revision>
  <dc:subject/>
  <dc:title>Bilderschnipsel.. </dc:title>
</cp:coreProperties>
</file>