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620-9E52-4751-BE9F-71DDEFFB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C57-5404-4605-B870-F5DC4DB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502-76F3-4467-B6AE-1F85167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A31-8003-4041-89CC-BD434756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D668-6155-4631-B0CC-97D54EB0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B3B5-F2B5-42F5-A174-B658891E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9B06-B439-4AAD-8647-1150CCC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D0F-7016-4428-9EA1-0639E7FB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E83-1167-4666-A788-9D99950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7718-440F-4123-A78D-671B875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BE92-4BCF-47A4-9BDD-E8BC1F1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57A-2E36-456D-AAD1-D0D8CA0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26DA-5359-4643-872E-E1E2A1A5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446-F102-4059-AAC1-F21E21F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4D7-816B-4DDA-A6D6-6A45465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0F9-5E68-448D-A888-5C091078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3204-0472-48D2-A1A8-EAFF2225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F08-D066-466A-85D4-DC3245C9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222-18DC-4ECD-9C27-78F7E8A3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BBF-C8FA-4605-AB31-1787A56F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308-AF59-46E8-9A8E-60D3679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1A6-A9F1-4EEA-B5FA-5D36751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0E5-84BE-4F9C-9E6E-AAA6A43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B0C-EE35-4896-B874-0134575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8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B75-70CB-432F-AB1D-D08679C382F5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8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F893-0A8F-4F8B-B5A1-16D7F5F66CBD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1000080" y="1643040"/>
            <a:ext cx="71438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Un día , una dueña de casa buscaba leña para su cocina , estaba cerca del río, cortando una rama de un árbol caído, cuando se le escapo el hacha de las manos y fue a parar al fondo del rí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62d4c"/>
                </a:solidFill>
                <a:latin typeface="Times New Roman"/>
              </a:rPr>
              <a:t>TRIGAM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2500200"/>
            <a:ext cx="8435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halló justo el comentario de la mujer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y la perdonó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332000" y="836640"/>
            <a:ext cx="6095880" cy="30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MORALEJ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264c"/>
                </a:solidFill>
                <a:latin typeface="Bookman Old Style"/>
              </a:rPr>
              <a:t>“</a:t>
            </a:r>
            <a:r>
              <a:rPr b="1" lang="es-MX" sz="3600" spc="-1" strike="noStrike">
                <a:solidFill>
                  <a:srgbClr val="00264c"/>
                </a:solidFill>
                <a:latin typeface="Bookman Old Style"/>
              </a:rPr>
              <a:t>Las mujeres mienten tan bien que hasta Dios les cree”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00080" y="1928880"/>
            <a:ext cx="731520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a mujer suplicó a Dios y Él apareció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e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¿Por qué estas llorando mujer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La mujer respondió que su hacha se había caído al rí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7"/>
          <p:cNvSpPr/>
          <p:nvPr/>
        </p:nvSpPr>
        <p:spPr>
          <a:xfrm>
            <a:off x="857160" y="357120"/>
            <a:ext cx="757260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entró al río, sacó un hacha de oro y le preguntó a la muje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a tu hacha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La noble mujer respondi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NO, Dios no es esa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entró nuevamente y sacó del río un hacha de plata y volvió a pregunta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Ésta es tu hacha mujer?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NO, respondió ell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1428840" y="1714680"/>
            <a:ext cx="609588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 volvió nuevamente al río y sacó  un hacha de hierro y madera y de nuevo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a tu hacha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Sí, respondió ella, esa es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428840" y="2143080"/>
            <a:ext cx="6095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Dios estaba tan contento con la sinceridad de la mujer que la mandó de vuelta a su casa, regalándole las otras dos hachas, la de oro y la de plat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85880" y="1214280"/>
            <a:ext cx="750096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Otro día, la mujer y su amado esposo estaban paseando por los campos, cuando él tropezó y cayó al río. La infeliz mujer, que no sabía nadar, se puso a suplicar a Dios,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Él apareció y le pregunt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</a:rPr>
              <a:t>Mujer, otra vez tú, ¿por qué estas llorando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22952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La mujer respondió que su esposo había caído al río y se había ahog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Inmediatamente, Dios se tiró de cabeza al río, sacó de las mechas a Brad Pitt y le preguntó a la mujer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¿Es éste tú esposo?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42960" y="1643040"/>
            <a:ext cx="7467480" cy="32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Sí, si, asintió la Mujer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Entonces Dios se enfureció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¡Eres una mujer mentirosa!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Bookman Old Style"/>
              </a:rPr>
              <a:t>Pero rápidamente la mujer le explicó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85840" y="500040"/>
            <a:ext cx="84358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Dios, usted perdone, pero fue un malentendi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Si yo hubiese dicho que “no”, entonces Ud. me habría traído a Mel Gibson del río y si le hubiera vuelto a decir que tampoco era él, Ud. me habría traído a mi marido, y cuando dijera que sí, Ud. me mandaría para mí casa con los tres homb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Más Yo soy una humilde mujer y no podría cometer TRIGAMIA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Bookman Old Style"/>
              </a:rPr>
              <a:t>Por eso es que le dije sí al primero de ellos…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6:17:07Z</dcterms:created>
  <dc:creator>Guillermo Hernandez</dc:creator>
  <dc:description/>
  <dc:language>en-US</dc:language>
  <cp:lastModifiedBy> </cp:lastModifiedBy>
  <dcterms:modified xsi:type="dcterms:W3CDTF">2009-10-08T13:57:53Z</dcterms:modified>
  <cp:revision>19</cp:revision>
  <dc:subject/>
  <dc:title>Presentación de PowerPoint</dc:title>
</cp:coreProperties>
</file>