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67FD-3BFA-422D-AD92-499E4F6C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E90-1254-4C39-AF8D-4C23D9B2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5349-37D8-4593-8C1B-6A52B761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182F-1E35-4CB9-9100-E22F53F2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F4CB-9D04-4CF3-ABC7-FFB1E4A3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4A25-A1C0-424E-BA42-2FD1A2C6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5DF5-A992-4FF5-BF01-D49A5F29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3872-3047-4E94-BD89-18B693F5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7299-2CBD-47CA-AA04-A39150F7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4F7C-6656-47B2-8753-E61D03F3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B95A-118F-498C-9982-F2A55922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DF16-C9A8-48D3-BD2E-9E8100C5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36DE-B1D2-4897-96F5-358F9C33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F9A3-F84F-4517-894E-E9353E5F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AA28-1C04-4BAB-B104-0D54C7FC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920D-D6A2-4098-9479-C683EC37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E515-BB91-4764-AFCF-FF36174B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9A23-3A23-4B7B-B28D-5582BF19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EAB5-6ECE-4089-B0D5-D2C44338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F6D7-D72D-4E51-8929-5EB5C505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D1AE-849C-4354-8471-CA822E6D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4A49-6166-4A0B-BF4F-B2482F82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C80-7EA1-4926-8CE9-6396A47D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884E-8997-48EF-9A0A-02864DC0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8e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6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6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4E1B-74E6-4F22-B1B6-E63D7C8C6A0C}" type="slidenum">
              <a:rPr b="0" lang="es-E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8e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57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8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59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61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62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C0C5-D035-4144-B5C5-BBD685B05188}" type="slidenum">
              <a:rPr b="0" lang="es-E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6"/>
          <p:cNvSpPr/>
          <p:nvPr/>
        </p:nvSpPr>
        <p:spPr>
          <a:xfrm>
            <a:off x="1000080" y="1643040"/>
            <a:ext cx="714384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Un día , una dueña de casa buscaba leña para su cocina , estaba cerca del río, cortando una rama de un árbol caído, cuando se le escapo el hacha de las manos y fue a parar al fondo del rí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62d4c"/>
                </a:solidFill>
                <a:latin typeface="Times New Roman"/>
              </a:rPr>
              <a:t>TRIGAMI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428760" y="2500200"/>
            <a:ext cx="843588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Dios halló justo el comentario de la muje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y la perdonó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33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1332000" y="836640"/>
            <a:ext cx="6095880" cy="30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264c"/>
                </a:solidFill>
                <a:latin typeface="Bookman Old Style"/>
              </a:rPr>
              <a:t>MORALEJA…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264c"/>
                </a:solidFill>
                <a:latin typeface="Bookman Old Style"/>
              </a:rPr>
              <a:t>“</a:t>
            </a:r>
            <a:r>
              <a:rPr b="1" lang="es-MX" sz="3600" spc="-1" strike="noStrike">
                <a:solidFill>
                  <a:srgbClr val="00264c"/>
                </a:solidFill>
                <a:latin typeface="Bookman Old Style"/>
              </a:rPr>
              <a:t>Las mujeres mienten tan bien que hasta Dios les cree”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1000080" y="1928880"/>
            <a:ext cx="7315200" cy="34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Bookman Old Style"/>
              </a:rPr>
              <a:t>La mujer suplicó a Dios y Él apareció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Bookman Old Style"/>
              </a:rPr>
              <a:t>Le preguntó: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Bookman Old Style"/>
              </a:rPr>
              <a:t>¿Por qué estas llorando mujer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Bookman Old Style"/>
              </a:rPr>
              <a:t>La mujer respondió que su hacha se había caído al rí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7"/>
          <p:cNvSpPr/>
          <p:nvPr/>
        </p:nvSpPr>
        <p:spPr>
          <a:xfrm>
            <a:off x="857160" y="357120"/>
            <a:ext cx="7572600" cy="58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Dios entró al río, sacó un hacha de oro y le preguntó a la mujer: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¿Es ésta tu hacha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La noble mujer respondió: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NO, Dios no es esa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Dios entró nuevamente y sacó del río un hacha de plata y volvió a preguntar: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¿Ésta es tu hacha mujer?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NO, respondió ella…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028"/>
          <p:cNvSpPr/>
          <p:nvPr/>
        </p:nvSpPr>
        <p:spPr>
          <a:xfrm>
            <a:off x="1428840" y="1714680"/>
            <a:ext cx="6095880" cy="35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Dios volvió nuevamente al río y sacó  un hacha de hierro y madera y de nuevo preguntó: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¿Es ésta tu hacha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Sí, respondió ella, esa es..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428840" y="2143080"/>
            <a:ext cx="60958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Bookman Old Style"/>
              </a:rPr>
              <a:t>Dios estaba tan contento con la sinceridad de la mujer que la mandó de vuelta a su casa, regalándole las otras dos hachas, la de oro y la de plata…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785880" y="1214280"/>
            <a:ext cx="7500960" cy="48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264c"/>
                </a:solidFill>
                <a:latin typeface="Bookman Old Style"/>
              </a:rPr>
              <a:t>Otro día, la mujer y su amado esposo estaban paseando por los campos, cuando él tropezó y cayó al río. La infeliz mujer, que no sabía nadar, se puso a suplicar a Dios,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264c"/>
                </a:solidFill>
                <a:latin typeface="Bookman Old Style"/>
              </a:rPr>
              <a:t>Él apareció y le preguntó: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264c"/>
                </a:solidFill>
                <a:latin typeface="Bookman Old Style"/>
              </a:rPr>
              <a:t>Mujer, otra vez tú, ¿por qué estas llorando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000080" y="1643040"/>
            <a:ext cx="7229520" cy="39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La mujer respondió que su esposo había caído al río y se había ahogad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Inmediatamente, Dios se tiró de cabeza al río, sacó de las mechas a Brad Pitt y le preguntó a la mujer: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¿Es éste tú esposo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642960" y="1643040"/>
            <a:ext cx="7467480" cy="32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Bookman Old Style"/>
              </a:rPr>
              <a:t>Sí, si, asintió la Mujer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Bookman Old Style"/>
              </a:rPr>
              <a:t>Entonces Dios se enfureció: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Bookman Old Style"/>
              </a:rPr>
              <a:t>¡Eres una mujer mentirosa!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Bookman Old Style"/>
              </a:rPr>
              <a:t>Pero rápidamente la mujer le explicó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285840" y="500040"/>
            <a:ext cx="843588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Dios, usted perdone, pero fue un malentendid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Si yo hubiese dicho que “no”, entonces Ud. me habría traído a Mel Gibson del río y si le hubiera vuelto a decir que tampoco era él, Ud. me habría traído a mi marido, y cuando dijera que sí, Ud. me mandaría para mí casa con los tres hombre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Más Yo soy una humilde mujer y no podría cometer TRIGAMIA…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Por eso es que le dije sí al primero de ellos…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6:17:07Z</dcterms:created>
  <dc:creator>Guillermo Hernandez</dc:creator>
  <dc:description/>
  <dc:language>en-US</dc:language>
  <cp:lastModifiedBy> </cp:lastModifiedBy>
  <dcterms:modified xsi:type="dcterms:W3CDTF">2009-10-08T13:57:53Z</dcterms:modified>
  <cp:revision>19</cp:revision>
  <dc:subject/>
  <dc:title>Presentación de PowerPoint</dc:title>
</cp:coreProperties>
</file>