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jpeg" ContentType="image/jpeg"/>
  <Override PartName="/ppt/media/image14.gif" ContentType="image/gif"/>
  <Override PartName="/ppt/media/image13.jpeg" ContentType="image/jpeg"/>
  <Override PartName="/ppt/media/image1.png" ContentType="image/png"/>
  <Override PartName="/ppt/media/image2.jpeg" ContentType="image/jpeg"/>
  <Override PartName="/ppt/media/image3.gif" ContentType="image/gif"/>
  <Override PartName="/ppt/media/Cortazar%20-%20Stolen%20kiss.wav" ContentType="audio/x-wav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A42-2F73-4486-8042-D73EB2BC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E804-7FBA-4BCD-9ABD-E3B19636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968-57C8-43EA-9FA3-DEC402C5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45C-B94A-4671-BEDB-E1710035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6A3-5E61-4000-A06F-67E7E957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778-BE38-4D5B-AFC3-C0FF9E31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DC4-29B1-4B59-AEC3-808E8703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51B-DF49-41D1-8E23-74F89054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FD2-F3C0-4B5A-AFCC-B8E88975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A9F-FA4A-4B35-AD0E-7C232DDB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87F-5857-427A-B0EA-BCD37E70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6B8-940C-42E3-A23E-37D9CBB4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758A-57AD-4889-B955-22D2EDCDE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audio" Target="../media/Cortazar%20-%20Stolen%20kis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zInstAndreRieu-vientosyviolin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slide0001_image003xxx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0" y="-27000"/>
            <a:ext cx="9325080" cy="6986520"/>
          </a:xfrm>
          <a:prstGeom prst="rect">
            <a:avLst/>
          </a:prstGeom>
          <a:ln w="0">
            <a:noFill/>
          </a:ln>
          <a:effectLst>
            <a:outerShdw dist="137587" dir="2021404" blurRad="0" rotWithShape="0">
              <a:srgbClr val="000000"/>
            </a:outerShdw>
          </a:effectLst>
        </p:spPr>
      </p:pic>
      <p:sp>
        <p:nvSpPr>
          <p:cNvPr id="43" name="Rectangle 6"/>
          <p:cNvSpPr/>
          <p:nvPr/>
        </p:nvSpPr>
        <p:spPr>
          <a:xfrm>
            <a:off x="2484360" y="3876840"/>
            <a:ext cx="626436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que la persona que está </a:t>
            </a:r>
            <a:br>
              <a:rPr sz="3600"/>
            </a:b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leyendo 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es muy espe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para mí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619280" y="1343160"/>
            <a:ext cx="6840360" cy="192276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cc99"/>
                </a:solidFill>
                <a:latin typeface="Comic Sans MS"/>
              </a:rPr>
              <a:t>Tu sabes, mí Señor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57600" y="333360"/>
            <a:ext cx="138276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Cortazar%20-%20Stolen%20kis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39333_poster405"/>
          <p:cNvPicPr/>
          <p:nvPr/>
        </p:nvPicPr>
        <p:blipFill>
          <a:blip r:embed="rId1">
            <a:lum contrast="-24000"/>
          </a:blip>
          <a:srcRect l="0" t="0" r="0" b="8889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1829160" y="333360"/>
            <a:ext cx="5618520" cy="8251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83c680"/>
                </a:solidFill>
                <a:latin typeface="Comic Sans MS"/>
              </a:rPr>
              <a:t>Por eso, mi Seño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50920" y="1905120"/>
            <a:ext cx="86421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3c680"/>
                </a:solidFill>
                <a:latin typeface="Comic Sans MS"/>
              </a:rPr>
              <a:t>te pido para ella 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3c680"/>
                </a:solidFill>
                <a:latin typeface="Comic Sans MS"/>
              </a:rPr>
              <a:t>derrames tu gran misericordia </a:t>
            </a:r>
            <a:br>
              <a:rPr sz="3600"/>
            </a:br>
            <a:r>
              <a:rPr b="1" lang="es-ES_tradnl" sz="3600" spc="-1" strike="noStrike">
                <a:solidFill>
                  <a:srgbClr val="83c680"/>
                </a:solidFill>
                <a:latin typeface="Comic Sans MS"/>
              </a:rPr>
              <a:t>en su vi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95280" y="4254480"/>
            <a:ext cx="8497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3c680"/>
                </a:solidFill>
                <a:latin typeface="Comic Sans MS"/>
              </a:rPr>
              <a:t>Llena su corazón de Amor, de Pa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3c680"/>
                </a:solidFill>
                <a:latin typeface="Comic Sans MS"/>
              </a:rPr>
              <a:t>y de Alegrí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4797360"/>
            <a:ext cx="960480" cy="560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flipH="1">
            <a:off x="2435040" y="3516480"/>
            <a:ext cx="912600" cy="560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380360" y="5445000"/>
            <a:ext cx="960480" cy="560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 flipH="1">
            <a:off x="3131640" y="5805360"/>
            <a:ext cx="1008360" cy="704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55" name="Picture 3" descr="044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4"/>
            <p:cNvSpPr/>
            <p:nvPr/>
          </p:nvSpPr>
          <p:spPr>
            <a:xfrm>
              <a:off x="4195800" y="17784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5"/>
            <p:cNvSpPr/>
            <p:nvPr/>
          </p:nvSpPr>
          <p:spPr>
            <a:xfrm>
              <a:off x="-360" y="4800600"/>
              <a:ext cx="273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00"/>
                  </a:solidFill>
                  <a:latin typeface="Tribune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6"/>
            <p:cNvSpPr/>
            <p:nvPr/>
          </p:nvSpPr>
          <p:spPr>
            <a:xfrm>
              <a:off x="0" y="24829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Rectangle 8"/>
          <p:cNvSpPr/>
          <p:nvPr/>
        </p:nvSpPr>
        <p:spPr>
          <a:xfrm>
            <a:off x="468360" y="333360"/>
            <a:ext cx="79912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Toca su ment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sus emocion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sus recuerdo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50920" y="2500200"/>
            <a:ext cx="8642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Elimina sus miedo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50920" y="4869000"/>
            <a:ext cx="871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Quita sus preocupacione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395280" y="3619440"/>
            <a:ext cx="8353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Libérala de sus angusti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Image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95280" y="617400"/>
            <a:ext cx="8391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2b2b2"/>
                </a:solidFill>
                <a:latin typeface="Comic Sans MS"/>
              </a:rPr>
              <a:t>Cura las heridas de su histori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1413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2b2b2"/>
                </a:solidFill>
                <a:latin typeface="Comic Sans MS"/>
              </a:rPr>
              <a:t>las frustraciones de sus sueños no realizados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2b2b2"/>
                </a:solidFill>
                <a:latin typeface="Comic Sans MS"/>
              </a:rPr>
              <a:t>sus ilusiones perdid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5148360" y="3616200"/>
            <a:ext cx="3671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b2b2b2"/>
                </a:solidFill>
                <a:latin typeface="Comic Sans MS"/>
              </a:rPr>
              <a:t>su cuerp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s-ES_tradnl" sz="3600" spc="-1" strike="noStrike">
                <a:solidFill>
                  <a:srgbClr val="b2b2b2"/>
                </a:solidFill>
                <a:latin typeface="Comic Sans MS"/>
              </a:rPr>
              <a:t>su ment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b2b2b2"/>
                </a:solidFill>
                <a:latin typeface="Comic Sans MS"/>
              </a:rPr>
              <a:t> </a:t>
            </a:r>
            <a:br>
              <a:rPr sz="1000"/>
            </a:br>
            <a:r>
              <a:rPr b="1" lang="es-ES_tradnl" sz="3600" spc="-1" strike="noStrike">
                <a:solidFill>
                  <a:srgbClr val="b2b2b2"/>
                </a:solidFill>
                <a:latin typeface="Comic Sans MS"/>
              </a:rPr>
              <a:t>su senti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093080" y="5872320"/>
            <a:ext cx="1008000" cy="869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mag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5145480" y="4325760"/>
            <a:ext cx="3855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lumina su vid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séñale a am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Imagen3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786120" y="2214720"/>
            <a:ext cx="489600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99"/>
                </a:solidFill>
                <a:latin typeface="Comic Sans MS"/>
              </a:rPr>
              <a:t>Dale fuerza y ternu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ffcc99"/>
                </a:solidFill>
                <a:latin typeface="Comic Sans MS"/>
              </a:rPr>
              <a:t>entereza y dulzur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99"/>
                </a:solidFill>
                <a:latin typeface="Comic Sans MS"/>
              </a:rPr>
              <a:t>Dale sabiduría y val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99"/>
                </a:solidFill>
                <a:latin typeface="Comic Sans MS"/>
              </a:rPr>
              <a:t>Dale mas Fe en ti.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1044720" y="-243000"/>
            <a:ext cx="11449080" cy="7488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0" y="620280"/>
            <a:ext cx="424800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Bendice su hogar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4500720" y="4365720"/>
            <a:ext cx="4174920" cy="1678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¡Bendícela </a:t>
            </a:r>
            <a:r>
              <a:rPr b="1" lang="es-ES_tradnl" sz="6000" spc="-1" strike="noStrike">
                <a:solidFill>
                  <a:srgbClr val="000000"/>
                </a:solidFill>
                <a:latin typeface="Comic Sans MS"/>
              </a:rPr>
              <a:t>Señor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4788000" y="185112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Su famil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4356000" y="29973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Su vida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284720" y="1868400"/>
            <a:ext cx="1295280" cy="1055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rayo de lu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8560" y="475920"/>
            <a:ext cx="3781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Comic Sans MS"/>
              </a:rPr>
              <a:t>¡Amén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6 CuadroTexto"/>
          <p:cNvSpPr/>
          <p:nvPr/>
        </p:nvSpPr>
        <p:spPr>
          <a:xfrm>
            <a:off x="3564000" y="54784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Manda esta bendición a quien tu quie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1" descr="C:\Documents and Settings\Pilar\Mis documentos\Mis imágenes\Galería multimedia de Microsoft\j0365272.gif"/>
          <p:cNvPicPr/>
          <p:nvPr/>
        </p:nvPicPr>
        <p:blipFill>
          <a:blip r:embed="rId2"/>
          <a:stretch/>
        </p:blipFill>
        <p:spPr>
          <a:xfrm>
            <a:off x="8101080" y="587700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87280" y="836640"/>
            <a:ext cx="1791000" cy="2155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50920" y="4508640"/>
            <a:ext cx="1790640" cy="21556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21:54:56Z</dcterms:created>
  <dc:creator>rordonez</dc:creator>
  <dc:description/>
  <dc:language>en-US</dc:language>
  <cp:lastModifiedBy>rordonez</cp:lastModifiedBy>
  <dcterms:modified xsi:type="dcterms:W3CDTF">2008-02-01T23:22:39Z</dcterms:modified>
  <cp:revision>3</cp:revision>
  <dc:subject/>
  <dc:title>Diapositiva 1</dc:title>
</cp:coreProperties>
</file>