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14.gif" ContentType="image/gif"/>
  <Override PartName="/ppt/media/image13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Cortazar%20-%20Stolen%20kiss.wav" ContentType="audio/x-wav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22D-5401-4755-8691-4241136B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E44-4071-4675-A613-F8D99D19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E13-7BB6-4153-B319-1D375059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8E6-DDCE-46E4-AC28-6316D7E8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FCC-2289-4220-8991-F975C05F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129-DEBD-4AB3-981C-618EBE3B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92B-DEC4-412A-BBDF-C20CA94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EDD-3077-4F3C-AA9E-FD908914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322-6835-41EB-8643-2BC7326D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544-93B7-4677-82EA-04DCC908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387-4D80-445C-86A3-64F9AD6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7FA-FCA4-424B-B0E3-EEBC365D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5E29-8895-40A9-83B8-74B3A93FC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Cortazar%20-%20Stolen%20kis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InstAndreRieu-vientosyviolin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slide0001_image003xxx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-27000"/>
            <a:ext cx="9325080" cy="6986520"/>
          </a:xfrm>
          <a:prstGeom prst="rect">
            <a:avLst/>
          </a:prstGeom>
          <a:ln w="0">
            <a:noFill/>
          </a:ln>
          <a:effectLst>
            <a:outerShdw dist="137587" dir="2021404" blurRad="0" rotWithShape="0">
              <a:srgbClr val="000000"/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484360" y="3876840"/>
            <a:ext cx="62643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que la persona que está </a:t>
            </a:r>
            <a:br>
              <a:rPr sz="3600"/>
            </a:b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leyendo 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es muy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para mí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619280" y="1343160"/>
            <a:ext cx="6840360" cy="1922760"/>
          </a:xfrm>
          <a:prstGeom prst="rect">
            <a:avLst/>
          </a:prstGeom>
          <a:noFill/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cc99"/>
                </a:solidFill>
                <a:latin typeface="Comic Sans MS"/>
              </a:rPr>
              <a:t>Tu sabes, mí Señor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57600" y="333360"/>
            <a:ext cx="138276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Cortazar%20-%20Stolen%20ki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9333_poster405"/>
          <p:cNvPicPr/>
          <p:nvPr/>
        </p:nvPicPr>
        <p:blipFill>
          <a:blip r:embed="rId1">
            <a:lum contrast="-24000"/>
          </a:blip>
          <a:srcRect l="0" t="0" r="0" b="8889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829160" y="333360"/>
            <a:ext cx="5618520" cy="825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83c680"/>
                </a:solidFill>
                <a:latin typeface="Comic Sans MS"/>
              </a:rPr>
              <a:t>Por eso, mi Señ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50920" y="1905120"/>
            <a:ext cx="86421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te pido para ella 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derrames tu gran misericordia </a:t>
            </a:r>
            <a:br>
              <a:rPr sz="3600"/>
            </a:b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en su v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95280" y="4254480"/>
            <a:ext cx="849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Llena su corazón de Amor, de Pa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3c680"/>
                </a:solidFill>
                <a:latin typeface="Comic Sans MS"/>
              </a:rPr>
              <a:t>y de Aleg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flipH="1">
            <a:off x="2435040" y="3516480"/>
            <a:ext cx="912600" cy="560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80360" y="54450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 flipH="1">
            <a:off x="3131640" y="5805360"/>
            <a:ext cx="1008360" cy="70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55" name="Picture 3" descr="044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4"/>
            <p:cNvSpPr/>
            <p:nvPr/>
          </p:nvSpPr>
          <p:spPr>
            <a:xfrm>
              <a:off x="4195800" y="1778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-360" y="4800600"/>
              <a:ext cx="273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ribune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0" y="24829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8"/>
          <p:cNvSpPr/>
          <p:nvPr/>
        </p:nvSpPr>
        <p:spPr>
          <a:xfrm>
            <a:off x="468360" y="333360"/>
            <a:ext cx="7991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Toca su ment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sus emocion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sus recuerdo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50920" y="2500200"/>
            <a:ext cx="8642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Elimina sus miedo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50920" y="4869000"/>
            <a:ext cx="871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Quita sus preocupacion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395280" y="3619440"/>
            <a:ext cx="835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99"/>
                </a:solidFill>
                <a:latin typeface="Comic Sans MS"/>
              </a:rPr>
              <a:t>Libérala de sus angusti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95280" y="617400"/>
            <a:ext cx="8391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2b2b2"/>
                </a:solidFill>
                <a:latin typeface="Comic Sans MS"/>
              </a:rPr>
              <a:t>Cura las heridas de su histori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1413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2b2b2"/>
                </a:solidFill>
                <a:latin typeface="Comic Sans MS"/>
              </a:rPr>
              <a:t>las frustraciones de sus sueños no realizados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2b2b2"/>
                </a:solidFill>
                <a:latin typeface="Comic Sans MS"/>
              </a:rPr>
              <a:t>sus ilusiones perdid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148360" y="3616200"/>
            <a:ext cx="3671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b2b2b2"/>
                </a:solidFill>
                <a:latin typeface="Comic Sans MS"/>
              </a:rPr>
              <a:t>su cuerp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_tradnl" sz="3600" spc="-1" strike="noStrike">
                <a:solidFill>
                  <a:srgbClr val="b2b2b2"/>
                </a:solidFill>
                <a:latin typeface="Comic Sans MS"/>
              </a:rPr>
              <a:t>su ment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br>
              <a:rPr sz="1000"/>
            </a:br>
            <a:r>
              <a:rPr b="1" lang="es-ES_tradnl" sz="3600" spc="-1" strike="noStrike">
                <a:solidFill>
                  <a:srgbClr val="b2b2b2"/>
                </a:solidFill>
                <a:latin typeface="Comic Sans MS"/>
              </a:rPr>
              <a:t>su senti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93080" y="5872320"/>
            <a:ext cx="1008000" cy="86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5145480" y="4325760"/>
            <a:ext cx="3855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lumina su vi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séñale a a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agen3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786120" y="2214720"/>
            <a:ext cx="489600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Dale fuerza y ternu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entereza y dulzur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Dale sabiduría y va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Comic Sans MS"/>
              </a:rPr>
              <a:t>Dale mas Fe en ti.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1044720" y="-243000"/>
            <a:ext cx="11449080" cy="7488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0" y="620280"/>
            <a:ext cx="424800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Bendice su hoga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500720" y="4365720"/>
            <a:ext cx="4174920" cy="1678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¡Bendícela </a:t>
            </a:r>
            <a:r>
              <a:rPr b="1" lang="es-ES_tradnl" sz="6000" spc="-1" strike="noStrike">
                <a:solidFill>
                  <a:srgbClr val="000000"/>
                </a:solidFill>
                <a:latin typeface="Comic Sans MS"/>
              </a:rPr>
              <a:t>Señor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788000" y="185112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Su famil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356000" y="29973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Su vida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720" y="1868400"/>
            <a:ext cx="1295280" cy="105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rayo de lu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8560" y="475920"/>
            <a:ext cx="3781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omic Sans MS"/>
              </a:rPr>
              <a:t>¡Amé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3564000" y="54784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Manda esta bendición a quien tu quie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C:\Documents and Settings\Pilar\Mis documentos\Mis imágenes\Galería multimedia de Microsoft\j0365272.gif"/>
          <p:cNvPicPr/>
          <p:nvPr/>
        </p:nvPicPr>
        <p:blipFill>
          <a:blip r:embed="rId2"/>
          <a:stretch/>
        </p:blipFill>
        <p:spPr>
          <a:xfrm>
            <a:off x="8101080" y="587700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87280" y="836640"/>
            <a:ext cx="1791000" cy="2155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1790640" cy="21556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21:54:56Z</dcterms:created>
  <dc:creator>rordonez</dc:creator>
  <dc:description/>
  <dc:language>en-US</dc:language>
  <cp:lastModifiedBy>rordonez</cp:lastModifiedBy>
  <dcterms:modified xsi:type="dcterms:W3CDTF">2008-02-01T23:22:39Z</dcterms:modified>
  <cp:revision>3</cp:revision>
  <dc:subject/>
  <dc:title>Diapositiva 1</dc:title>
</cp:coreProperties>
</file>