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Manuel-de-Falla-Concierto-de-Aranjuez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8353-8D48-4637-A892-94759F6A5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EF67-6586-4EA8-BDE8-AFAD46C8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DEB1-B90F-4FEF-BA5C-B9462D6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2AA9-E19A-441D-BA2F-A2453B201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5A11D-F2AA-4586-8BED-1FD669727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17C9F-EE54-4BF6-8CDC-55B0761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0130-1742-4D4A-B95F-56729B16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DBD3-6E39-420F-9078-C6BBE3D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A849F-5300-47D3-B6A1-6383F374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4BA07-78C4-49F2-8032-FEC5D98E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1F5D-36AE-4922-8AFB-C1CE88C6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4DD3-41B7-4BAD-B7DC-B4C6664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86E55-56C5-445E-83D5-4EEF115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D70BA-9EF5-474E-85F4-E8AB35CA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1AABB-DC57-4E2A-A283-7BCD842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D009E-4F25-4A92-99A0-B526232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A0740-F195-4E34-9EF2-F47E59CD60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EF82-4D13-4004-8256-07139ACC8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0897-790E-423F-8C61-07C22EA7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86D3-D5F6-4D71-BE44-A3F58641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D8D-2E1B-4A83-975D-AF68FFA2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4C51-1F8A-47B2-8ABF-9C47E101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1C77-158F-4A8D-B656-554AD34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31ED-E224-4B97-BD90-B925F3CB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DDD0-908C-4A01-BC32-1240117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686F-58B2-4942-8684-1C78BC9F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D8AA-3770-426B-BD70-93C5A14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8F4-1D13-465A-952F-B8BB43F9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71FA-7A81-48C7-97B1-961B614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D70D-B17E-4286-AF62-322690247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3428F-B67A-4E5D-BAB2-56CA1B0EF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3A3FA-40B3-4379-81C0-9B6D9F2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4B787-FD28-482A-A215-37AB83EC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BC29-489C-48BE-8837-AF6B4776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42044-C959-4C58-B27A-1CF831F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1C8BC-169C-498D-A6BA-BBAAD594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00B47-9BB4-4776-BFAC-7832150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9C5E4-DEAD-4C00-8BFA-CC4F7C94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394D7-A7DB-4F7F-83F5-028350AE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D6A9A-1504-47C0-A6A5-1BFEAD7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4354C-1B89-4B31-9353-0594728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E3076-7BA3-416D-9A26-4757C05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8F79B-6881-41CF-894E-D4D8C341D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03133-601E-4B0B-A7D4-475CE05EB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D767-25C8-4C4B-B566-00E6DDEA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B7B1B-5E46-4539-8595-7BFA7EEA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0F7B5-D528-4356-9F19-B1B46F85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EA018-B5FA-466D-A024-B212D45D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7156F-E7C9-4931-A3EB-A425129A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E1A35-42F9-4A37-AE1B-1D86CF4C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C367B-24B4-4A29-9F7A-63074CE4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C3521-46F9-4A53-86BA-B94642A7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E72AD-4298-4F33-9BE4-6218282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F2CC3-2CE2-4524-9F6D-1F7B4E2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A7D0D-0D90-45D8-9608-B1789AA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0045-8B11-491E-8706-240A1E37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B2E93-EB87-4BBA-8F86-594BA32D7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D6EF-0821-4E83-AE6F-6FF8ADA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FD61-EC1A-4792-B29A-EB630A8B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5ED0-8C67-4BDF-A62A-5C6FD71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19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0C4EA8-73E5-4D62-B583-3433BE9CCE99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6419880"/>
            <a:ext cx="29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7488F1-13E4-4954-B328-E05E7FEC4C57}" type="slidenum">
              <a:rPr b="0" lang="es-MX" sz="1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5200" y="64184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64B218-3981-4E23-B338-995318AA5668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419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D5E1C5-12CC-4118-B3FD-5CE954E24E9B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41844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254280" y="655128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5DC116-67EC-40AB-AB63-195C9050A80A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Manuel-de-Falla-Concierto-de-Aranjuez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359160" y="530280"/>
            <a:ext cx="5553000" cy="2878200"/>
            <a:chOff x="3359160" y="530280"/>
            <a:chExt cx="5553000" cy="28782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359160" y="530280"/>
              <a:ext cx="555300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59160" y="530280"/>
              <a:ext cx="555300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92880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voy a tener suministro de muestras médicas, consultas con amigos especialistas y condones gratis toda mi vi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todos se acercan a mi para preguntarme que es lo que pueden tomar,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aunque no me pregunten si ya comí o cómo me siento hoy, cómo me fue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puedes estar en pijama (quirúrgica) todo el dí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8571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para quienes creemos en un Ser Superior, tenemos el privilegio de que EL guié nuestras manos y decisiones en algún momento difíc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 la emoción indescriptible que sentiste cuando atendiste tu primer parto y viste el prodigio de la vida, o cuando acompañaste a alguien a morir, y sentiste la despedida de su g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la mejor paga no esta en tu tarjetón de pago, sino en el ¡¡Gracias!! de un paci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86832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no sabes lo que es no tener vida social y... no importa, tu vida social esta dentro de un hospital, donde conoces amigos diferentes en cada servicio y por qué no, al gran amor de tu vida tal vez.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las conversaciones jamás se terminarán en un hospi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para ti los días buenos y malos han cambiado: un día bueno es cuando no se te ha muerto nadie y has podido hacer 13 ingresos sin que nadie salga herido. No has podido comer, pero ¡qué bien lo has hecho! Y además, no has dejado nada pendiente al turno sigui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28760" y="939960"/>
            <a:ext cx="723888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te encanta ver como tras los grandes esfuerzos que realizas para que algo esté en su sitio (una sonda, un catéter, un parche, etc.) el paciente casi siempre va a hacer aquello que le has dicho explícitamente que NO hag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SOLAMENTE PUEDES APRENDER A VIVIR, CUANDO HAS VISTO LA MUERTE MÁS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ERCA QUE LOS DEMÁS Y CUANDO VES COMO LA GENTE MALA SE SALVA, LOS BUENOS S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UEREN  O VICEVERSA, Y COMO LA MUERTE NO DISCRIMINA A NAD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92880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dormir más; es vivir menos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vaya a donde vaya, “solo veo virus, bacterias, parásitos, analizo y diagnostico sin querer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he aprendido a ver a las personas de otra mane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soy quizás, algo masoquista, y me gusta que los familiares de los enfermos m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falten al respeto y me griten sin razón sólo porque están nerviosos, angustiados y quieren que los atienda en segun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00008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me gusta desayunar cuando los demás comen, comer cuando cenan y cenar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ientras duer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necesitaba saber cuánto café puedo soportar, cuánto tiempo puedo aguantar sin comer, dormir, beber agua, orinar o evacu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me encanta que los domingos a la hora de la comida familiar me pregunten que; qué pueden tomar para cierta molestia que lleva meses y hasta ahora que me ven se acuerdan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928800"/>
            <a:ext cx="723888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no puedo vivir sin el sonido del localizador ó celular a las 4 de la mañ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nadie sabrá nunca en que turno trabajas por más que intentes explicar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tu calendario  de turn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es “interesante” ir de vacaciones cuando nadie más puede. Y es más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“interesante” estar trabajando cuando todos los demás están de vacacion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857160"/>
            <a:ext cx="72388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tus ojos brillarán de una forma diferente cuando veas las venas de tus amigos y pienses: ahí entraría un punzocat del 18 sin problemas; o el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uello para ver si puedes ponerle un catéter, o checas la espalda de tu novia para ver si pudieras ponerle un bloqueo epidur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la sensación de sacar a alguien de un paro cardiorrespiratorio aporta más adrenalina que cualquier deporte extrem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100008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sé de enfermedades que no salen ni en “ER”, “Dr. House”, “Anatomía de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Grey” ni en “Expedientes X”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sabes que en estos programas, en  donde los médicos hacen todo, desde recibir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al paciente, hacerle los exámenes, radiografías, ponerle una venoclisis y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edir estudios cuyos resultados llegan en minutos, etc. son FALSOS, NO ES EL MUNDO RE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00008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orque me niego a comprar y a recetar los productos para ponerme en forma o milagrosos que me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venden en la TV a las 4 de la mañana mientras me como un bocadill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orque he extraído o visto extraer objetos insospechados de agujeros corporales (un carrito de plástico de la nariz, una moneda del esófago, una canica de la garganta, un frijol de la oreja, y hasta una botella de refresco del rect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orque los pacientes me lo agradecerán algunas veces, pero siempre me sentiré satisfecho, aunque quizás sólo pocos recordarán mi nombre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8571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el hospital es mejor que un Big Brother (reallity show), una aventuras en áfrica, un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granja de famosos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me encanta cenar mientras veo el amanecer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es todo un reto abrir solo un paquete estéril de guantes antes de un procedimien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la falta de recursos para ejercer mi profesión aumenta mi creativida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86832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quieres “experimentar” por ti mismo que se siente tener 25 enfermos a tu carg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te “sorprende” que los pacientes, después de que has logrado evitarles una muerte casi segura, les den las gracias a la familia porque se curaron gracias a las misas y rezos que les organizaron en la parroquia de Santa Marta de los Milag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cuando inicias tu jornada de trabajo, nadie sabe lo que te deparará el resto del día y la noch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3:36:54Z</dcterms:created>
  <dc:creator>JL</dc:creator>
  <dc:description/>
  <dc:language>en-US</dc:language>
  <cp:lastModifiedBy>JL</cp:lastModifiedBy>
  <dcterms:modified xsi:type="dcterms:W3CDTF">2009-09-06T05:59:18Z</dcterms:modified>
  <cp:revision>22</cp:revision>
  <dc:subject/>
  <dc:title>¿Por qué estudié MEDICINA?</dc:title>
</cp:coreProperties>
</file>