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Manuel-de-Falla-Concierto-de-Aranjuez.wav" ContentType="audio/x-wav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A32DB-1FC8-4BF2-B61D-8F6D205158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C346F-8FBF-4580-B614-E0E777C1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27E52-753D-4047-A22E-DF1ABC20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67DC8-21A4-48F0-B89D-EEB4164507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1912A-F241-400E-8216-D563974D2A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D89F7-56E5-462F-8017-4A3DC41B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EFCA4-BED2-41AC-9131-6DACE137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6CF05-08E1-429F-B80A-E08677FB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E03E2-793E-4DBD-B7B9-82B0B6549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7237440" cy="53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DFE92-233D-4D0B-A45E-5B0AA22B1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6D37B-A3E2-4197-9099-3548F2B0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46B18-91BF-487E-9D4C-910F01D0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E5900-7732-44E6-83AC-AEDAF169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AFD2C-A916-4F60-BA24-797A9F88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9FAE2-C436-4A37-AE84-9E313474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211C3-C7DD-415F-BB1E-BD6194A8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9DBDF-A29E-4298-90FB-94245946FC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7587-2D6C-4C1A-8111-66FD2D1101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00E3-C281-470B-91A3-55B86BB5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59D6-44E6-4F4D-A9D4-E8AE5D14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5F55-9DC6-4BDF-A2C8-9D7FBC94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C363-F31C-407D-B318-E36FA490D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82B5A-1BF6-40F9-9A4E-5E2227BF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7237440" cy="53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067B-80A6-464B-93C9-0792ADBA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0448-4FEC-49CB-B611-38304C1F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AD7A-3B8D-47CB-9C72-49C9E2DD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6CE6-59F1-4566-A8EE-4E81597C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2C3F-5295-4F05-B99C-923AB786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8C32-9E9C-4105-9B3C-0EF002B7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5B61-3A14-4FF1-BE70-17C58845FC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04F2F1-6033-4DD4-9847-AD882AA469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744A6A-B972-4482-8C23-E4146D49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506414-BDB1-44E4-9372-B5A43BA6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51887-C57A-4CC8-8C09-578B989A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2D2307-15E7-41AB-9EC0-6A0502FB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87CFA5-AC28-4CD9-8D79-87A83F11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7237440" cy="53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308DFB-2406-4A15-9E67-8A26BFE3A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CCAEB3-D202-4A4C-8E84-D1C18AB6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B9CAB1-AA18-4CFC-8AF9-72DF35F1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36B845-0B4E-411C-8BCC-CED65D97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8524FA-FEA9-4E27-A547-99E715D5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7C74F9-2B58-454B-99B2-857AADBE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BF71A9-4FD5-4202-BF48-2B8A643584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A2AC6A-F9EB-4077-AFE2-129F8272D2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53051-15A4-4190-B753-6460A500A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435128-EAD0-4BD6-B690-8127C582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4F6886-9337-48B4-9053-E2FC5484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6D6FCE-F83D-4593-8C59-2B066468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A309D2-C63C-4CF8-9045-3779C023B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7237440" cy="53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B4348F-3A30-4F65-A6FC-7389610F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B4223B-E583-4E42-8F39-8FF4D35C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F6EC14-64DF-4B93-811B-2C943DE9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3AB1C1-A454-411D-B4B4-2E7E8F64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A54E60-689A-41CF-BF4C-E611559A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D7E194-DE79-43FD-BF21-3F9158C2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7237440" cy="53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EF3D4-BE60-49D2-8CC1-D8EFD9291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068248-B521-4C1E-B96A-E68719280F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7CA96-DF73-49A2-9AFE-C4C9A464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AE63B-0AB9-4521-A6A6-97DBF89F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878EA-6553-4E06-8252-6AA6956E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560" y="6558120"/>
            <a:ext cx="200016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MX" sz="1000" spc="-1" strike="noStrike">
                <a:solidFill>
                  <a:srgbClr val="b13f9a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1000" spc="-1" strike="noStrike">
                <a:solidFill>
                  <a:srgbClr val="b13f9a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41988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251400" y="6555960"/>
            <a:ext cx="5875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MX" sz="1100" spc="-1" strike="noStrike">
                <a:solidFill>
                  <a:srgbClr val="b13f9a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8FA369-E828-47C4-B736-AC4DEEED1629}" type="slidenum">
              <a:rPr b="0" lang="es-MX" sz="1100" spc="-1" strike="noStrike">
                <a:solidFill>
                  <a:srgbClr val="b13f9a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"/>
          <p:cNvSpPr/>
          <p:nvPr/>
        </p:nvSpPr>
        <p:spPr>
          <a:xfrm flipV="1">
            <a:off x="2666880" y="-1440"/>
            <a:ext cx="1800" cy="686088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5870160" y="6558120"/>
            <a:ext cx="200196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MX" sz="10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6419880"/>
            <a:ext cx="292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880040" y="6555960"/>
            <a:ext cx="58716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11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AD73C68-B720-4EA5-AEA8-8A0CFAEF9FBF}" type="slidenum">
              <a:rPr b="0" lang="es-MX" sz="1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5"/>
          </p:nvPr>
        </p:nvSpPr>
        <p:spPr>
          <a:xfrm>
            <a:off x="4723920" y="6556320"/>
            <a:ext cx="200052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MX" sz="1000" spc="-1" strike="noStrike">
                <a:solidFill>
                  <a:srgbClr val="b13f9a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MX" sz="1000" spc="-1" strike="noStrike">
                <a:solidFill>
                  <a:srgbClr val="b13f9a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35200" y="6418440"/>
            <a:ext cx="2895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6"/>
          </p:nvPr>
        </p:nvSpPr>
        <p:spPr>
          <a:xfrm>
            <a:off x="6733800" y="6554880"/>
            <a:ext cx="585720" cy="2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1100" spc="-1" strike="noStrike">
                <a:solidFill>
                  <a:srgbClr val="b13f9a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1B3619-4A66-447B-95EA-FD289AD70522}" type="slidenum">
              <a:rPr b="0" lang="es-MX" sz="1100" spc="-1" strike="noStrike">
                <a:solidFill>
                  <a:srgbClr val="b13f9a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 rot="21240000">
            <a:off x="596880" y="1006560"/>
            <a:ext cx="4319640" cy="4311720"/>
          </a:xfrm>
          <a:prstGeom prst="rect">
            <a:avLst/>
          </a:prstGeom>
          <a:solidFill>
            <a:srgbClr val="fafafa"/>
          </a:solidFill>
          <a:ln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4246560" y="6558120"/>
            <a:ext cx="200016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MX" sz="1000" spc="-1" strike="noStrike">
                <a:solidFill>
                  <a:srgbClr val="b13f9a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MX" sz="1000" spc="-1" strike="noStrike">
                <a:solidFill>
                  <a:srgbClr val="b13f9a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641988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sldNum" idx="8"/>
          </p:nvPr>
        </p:nvSpPr>
        <p:spPr>
          <a:xfrm>
            <a:off x="6251400" y="6555960"/>
            <a:ext cx="5875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1100" spc="-1" strike="noStrike">
                <a:solidFill>
                  <a:srgbClr val="b13f9a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6B2861F-1437-4CD9-B86E-B4BDF5B5CB75}" type="slidenum">
              <a:rPr b="0" lang="es-MX" sz="1100" spc="-1" strike="noStrike">
                <a:solidFill>
                  <a:srgbClr val="b13f9a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9"/>
          </p:nvPr>
        </p:nvSpPr>
        <p:spPr>
          <a:xfrm>
            <a:off x="4243320" y="6558120"/>
            <a:ext cx="200016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MX" sz="1000" spc="-1" strike="noStrike">
                <a:solidFill>
                  <a:srgbClr val="b13f9a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MX" sz="1000" spc="-1" strike="noStrike">
                <a:solidFill>
                  <a:srgbClr val="b13f9a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641844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sldNum" idx="10"/>
          </p:nvPr>
        </p:nvSpPr>
        <p:spPr>
          <a:xfrm>
            <a:off x="6254280" y="6551280"/>
            <a:ext cx="5857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1100" spc="-1" strike="noStrike">
                <a:solidFill>
                  <a:srgbClr val="b13f9a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E459CB4-58D7-4C86-A3FA-A71B01C4A329}" type="slidenum">
              <a:rPr b="0" lang="es-MX" sz="1100" spc="-1" strike="noStrike">
                <a:solidFill>
                  <a:srgbClr val="b13f9a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audio" Target="../media/Manuel-de-Falla-Concierto-de-Aranjuez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3359160" y="530280"/>
            <a:ext cx="5553000" cy="2878200"/>
            <a:chOff x="3359160" y="530280"/>
            <a:chExt cx="5553000" cy="2878200"/>
          </a:xfrm>
        </p:grpSpPr>
        <p:pic>
          <p:nvPicPr>
            <p:cNvPr id="221" name="" descr=""/>
            <p:cNvPicPr/>
            <p:nvPr/>
          </p:nvPicPr>
          <p:blipFill>
            <a:blip r:embed="rId2"/>
            <a:stretch/>
          </p:blipFill>
          <p:spPr>
            <a:xfrm>
              <a:off x="3359160" y="530280"/>
              <a:ext cx="5553000" cy="28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359160" y="530280"/>
              <a:ext cx="5553000" cy="28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57200" y="92880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Porque voy a tener suministro de muestras médicas, consultas con amigos especialistas y condones gratis toda mi vid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Porque todos se acercan a mi para preguntarme que es lo que pueden tomar,</a:t>
            </a:r>
            <a:br>
              <a:rPr sz="2600"/>
            </a:b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aunque no me pregunten si ya comí o cómo me siento hoy, cómo me fue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Porque puedes estar en pijama (quirúrgica) todo el dí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57200" y="85716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orque para quienes creemos en un Ser Superior, tenemos el privilegio de que EL guié nuestras manos y decisiones en algún momento difíci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or la emoción indescriptible que sentiste cuando atendiste tu primer parto y viste el prodigio de la vida, o cuando acompañaste a alguien a morir, y sentiste la despedida de su gen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orque la mejor paga no esta en tu tarjetón de pago, sino en el ¡¡Gracias!! de un pacien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57200" y="86832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orque no sabes lo que es no tener vida social y... no importa, tu vida social esta dentro de un hospital, donde conoces amigos diferentes en cada servicio y por qué no, al gran amor de tu vida tal vez...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orque las conversaciones jamás se terminarán en un hospit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orque para ti los días buenos y malos han cambiado: un día bueno es cuando no se te ha muerto nadie y has podido hacer 13 ingresos sin que nadie salga herido. No has podido comer, pero ¡qué bien lo has hecho! Y además, no has dejado nada pendiente al turno siguien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28760" y="939960"/>
            <a:ext cx="7238880" cy="48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orque te encanta ver como tras los grandes esfuerzos que realizas para que algo esté en su sitio (una sonda, un catéter, un parche, etc.) el paciente casi siempre va a hacer aquello que le has dicho explícitamente que NO hag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ORQUE SOLAMENTE PUEDES APRENDER A VIVIR, CUANDO HAS VISTO LA MUERTE MÁS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CERCA QUE LOS DEMÁS Y CUANDO VES COMO LA GENTE MALA SE SALVA, LOS BUENOS SE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MUEREN  O VICEVERSA, Y COMO LA MUERTE NO DISCRIMINA A NADI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92880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orque dormir más; es vivir menos…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orque vaya a donde vaya, “solo veo virus, bacterias, parásitos, analizo y diagnostico sin querer”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orque he aprendido a ver a las personas de otra maner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orque soy quizás, algo masoquista, y me gusta que los familiares de los enfermos me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falten al respeto y me griten sin razón sólo porque están nerviosos, angustiados y quieren que los atienda en segund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57200" y="100008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orque me gusta desayunar cuando los demás comen, comer cuando cenan y cenar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mientras duerm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orque necesitaba saber cuánto café puedo soportar, cuánto tiempo puedo aguantar sin comer, dormir, beber agua, orinar o evacua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orque me encanta que los domingos a la hora de la comida familiar me pregunten que; qué pueden tomar para cierta molestia que lleva meses y hasta ahora que me ven se acuerdan…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928800"/>
            <a:ext cx="7238880" cy="52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Porque no puedo vivir sin el sonido del localizador ó celular a las 4 de la maña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Porque nadie sabrá nunca en que turno trabajas por más que intentes explicar</a:t>
            </a:r>
            <a:br>
              <a:rPr sz="2600"/>
            </a:b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tu calendario  de turn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Porque es “interesante” ir de vacaciones cuando nadie más puede. Y es más</a:t>
            </a:r>
            <a:br>
              <a:rPr sz="2600"/>
            </a:b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“interesante” estar trabajando cuando todos los demás están de vacacion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57200" y="857160"/>
            <a:ext cx="723888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Porque tus ojos brillarán de una forma diferente cuando veas las venas de tus amigos y pienses: ahí entraría un punzocat del 18 sin problemas; o el</a:t>
            </a:r>
            <a:br>
              <a:rPr sz="2600"/>
            </a:b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cuello para ver si puedes ponerle un catéter, o checas la espalda de tu novia para ver si pudieras ponerle un bloqueo epidur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Porque la sensación de sacar a alguien de un paro cardiorrespiratorio aporta más adrenalina que cualquier deporte extrem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100008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Porque sé de enfermedades que no salen ni en “ER”, “Dr. House”, “Anatomía de</a:t>
            </a:r>
            <a:br>
              <a:rPr sz="2600"/>
            </a:b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Grey” ni en “Expedientes X”..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Porque sabes que en estos programas, en  donde los médicos hacen todo, desde recibir</a:t>
            </a:r>
            <a:br>
              <a:rPr sz="2600"/>
            </a:b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al paciente, hacerle los exámenes, radiografías, ponerle una venoclisis y</a:t>
            </a:r>
            <a:br>
              <a:rPr sz="2600"/>
            </a:b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pedir estudios cuyos resultados llegan en minutos, etc. son FALSOS, NO ES EL MUNDO RE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57200" y="100008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Porque me niego a comprar y a recetar los productos para ponerme en forma o milagrosos que me</a:t>
            </a:r>
            <a:br>
              <a:rPr sz="2200"/>
            </a:b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venden en la TV a las 4 de la mañana mientras me como un bocadillo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Porque he extraído o visto extraer objetos insospechados de agujeros corporales (un carrito de plástico de la nariz, una moneda del esófago, una canica de la garganta, un frijol de la oreja, y hasta una botella de refresco del recto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Porque los pacientes me lo agradecerán algunas veces, pero siempre me sentiré satisfecho, aunque quizás sólo pocos recordarán mi nombre…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457200" y="85716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orque el hospital es mejor que un Big Brother (reallity show), una aventuras en áfrica, una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granja de famosos, etc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orque me encanta cenar mientras veo el amanecer..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orque es todo un reto abrir solo un paquete estéril de guantes antes de un procedimient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orque la falta de recursos para ejercer mi profesión aumenta mi creatividad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57200" y="86832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orque quieres “experimentar” por ti mismo que se siente tener 25 enfermos a tu carg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orque te “sorprende” que los pacientes, después de que has logrado evitarles una muerte casi segura, les den las gracias a la familia porque se curaron gracias a las misas y rezos que les organizaron en la parroquia de Santa Marta de los Milagr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orque cuando inicias tu jornada de trabajo, nadie sabe lo que te deparará el resto del día y la noch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03:36:54Z</dcterms:created>
  <dc:creator>JL</dc:creator>
  <dc:description/>
  <dc:language>en-US</dc:language>
  <cp:lastModifiedBy>JL</cp:lastModifiedBy>
  <dcterms:modified xsi:type="dcterms:W3CDTF">2009-09-06T05:59:18Z</dcterms:modified>
  <cp:revision>22</cp:revision>
  <dc:subject/>
  <dc:title>¿Por qué estudié MEDICINA?</dc:title>
</cp:coreProperties>
</file>