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3.jpeg" ContentType="image/jpeg"/>
  <Override PartName="/ppt/media/image23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1D3-6BFA-4DD9-9B89-4F7B3B79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F01-A668-4ED6-A2CF-8A3BCBA9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715-1983-4384-A3D3-2AE5F835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537-7054-441B-A23C-CFEBE359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AED-7AD7-40CF-8EE1-3335AAA3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389-A762-4AF4-9FC6-85A18D1B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7D7-F415-4883-B480-73477766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AC3-9881-408E-A2BA-EBCA936C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977-5A9E-4A6E-B855-4D576D5A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B54-2EEC-4CA3-96E4-87EDE426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587-630A-4157-82F5-E79F6EE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DEC-81E8-4B95-80F6-6E49DF3B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6DAD-45B2-481E-A828-0D89E94AC7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15280" y="45086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Handwriting"/>
              </a:rPr>
              <a:t>Eduardo Gale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92720" y="1700280"/>
            <a:ext cx="2808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lthazar"/>
              </a:rPr>
              <a:t>La paradoja andan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35622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Handwriting"/>
              </a:rPr>
              <a:t>(fragme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3529080" cy="3479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164196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nacimiento de una nación”, la primera superproducción de Hollywood, se estrenó en 1915, en la Casa Blan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esident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odrow Wil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 aplaudió de pie. Él era el autor de los textos de la película, un himno racista de alabanza al Ku Klux K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32360" y="360720"/>
            <a:ext cx="3527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nombre de la libertad, la igualdad y la fraternidad, la revolución francesa proclamó en 1793 la Declaración de los Derechos del Hombre y del Ciudadano. Entonces, la militante revolucionaria Olympia de Gouges propuso la Declaración de los Derechos de la Mujer y de la Ciudad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uillotina le cortó la cabeza. Medio siglo después, otro gobierno revolucionario, durante la Primera Comuna de París, proclamó el sufragio universal. Al mismo tiempo, negó el derecho de voto a las mujeres, por unanimidad menos uno: 899 votos en contra, uno a fa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3362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30720" y="283752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59280" y="433440"/>
            <a:ext cx="35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de el año 1234, y durante los siete siglos siguientes, la Iglesia Católica prohibió que las mujeres cantaran en los templos. Eran impuras sus voces, por aquel asunto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el pecado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año 1783 el rey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cretó que no eran deshonrosos los trabajos manuales, los llamados “oficios viles”, que hasta entonces implicaban la pérdida de la hidalgu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sta el año 1986, fue legal el castigo de los niños en las escuelas de Inglaterra, con correas, varas y cachipor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5080" y="112464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03640" y="649440"/>
            <a:ext cx="338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gener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ises G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encedor en la guerra del norte industrial contra el sur esclavista, fue luego presidente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dos Uni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n 1875, respondiendo a las presiones británicas, contestó:-Dentro de doscientos años, cuando hayamos obtenido del proteccionismo todo lo que nos puede ofrecer, también nosotros adoptaremos la libertad de comer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í pues, en el año 2075, la nación más proteccionista del mundo adoptará la libertad de comerc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239112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30720" y="112464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693720"/>
            <a:ext cx="307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otie (“Botincito”), fue el primer perro pequinés que llegó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ajó a Londres en 1860. Los ingleses lo bautizaron así porque era parte del botín arrancado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l cabo de las dos largas guerras del opio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cto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reina narcotraficante, había impuesto el opio a cañonazos. C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 fue convertida en una nación de drogadictos, en nombre de la libertad, la libertad de comer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2208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0720" y="105156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76720" y="577800"/>
            <a:ext cx="3382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nombre de la libertad, la libertad de comercio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gu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e aniquilado en 1870. Al cabo de una guerra de cinco años, este país, el único de l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ric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no debía un centavo a nadie, inauguró su deuda externa. A sus ruinas humeantes llegó, des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d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l primer préstamo. Fue destinado a pagar una enorme indemnizació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ugu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l país asesinado pagó a los países asesinos por el trabajo que se habían tomado asesinánd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2143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19640" y="1558080"/>
            <a:ext cx="295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tí también pagó una enorme indemnización. Desde que en 1804 conquistó su independencia, la nueva nación arrasada tuvo que paga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a fortuna, durante un siglo y medio, para expiar el pecado de su libert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3124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30720" y="105156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32360" y="1053720"/>
            <a:ext cx="36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ampos de concentración nacieron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Áfr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os ingleses iniciaron el experimento, y los alemanes lo desarrollaron. Despué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mann Görin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plicó,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modelo que su papá había ensayado, en 1904,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mib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os maestro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oseph Menge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abían estudiado, en el campo de concentración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amib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anatomía de las razas inferiores. Los cobayos eran todos neg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33051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30720" y="134064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43280" y="406800"/>
            <a:ext cx="3888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1936 el Comité Olímpico Internacional no toleraba insolencias. En las Olimpíadas de 1936, organizadas po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tl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selección de fútbol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ú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rrotó 4 a 2 a la selección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str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país natal del Führer. El Comité Olímpico anuló 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tl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o le faltaron amigos. La Rockefeller Foundation financió investigaciones raciales y racistas de la medicina nazi.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ca-Co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ventó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n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n plena guerra, para el mercado alemán.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izo posible la identificación y clasificación de los judíos, y ésa fue la primera hazaña en gran escala del sistema de tarjetas perfo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28576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30720" y="105156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003640" y="1413720"/>
            <a:ext cx="352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1964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dos Un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vadió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r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abía atacado dos buque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dos Un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el golfo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nki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Cuando ya la guerra había destripado a una multitud de vietnamitas y norteamericanos, el ministro de Defensa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bert McNama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reconoció que el ataque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nki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o había exist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33130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1715760"/>
            <a:ext cx="363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quí a poco se publicará un libro mío que se llama Espejos y confieso que he sucumbido a la tentación de contar algunos episodios de la aventura humana en el mundo, desde el punto de vista de los que no han salido en la fo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decirlo de alguna manera, se trata de hechos no muy cono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276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a día, leyendo los diarios, asisto a una clase de historia. Los diarios me enseñan por lo que dicen y por lo que ca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47628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historia es una paradoja andante. La contradicción le mueve las piernas. Quizá por eso sus silencios dicen más que sus palabras y con frecuencia sus palabras revelan, mintiendo, la ver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530720" y="105156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Handwriting"/>
              </a:rPr>
              <a:t>Algunas fec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59280" y="1052640"/>
            <a:ext cx="38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renta años después, la historia se repitió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Miles de años antes de que la invasión estadounidense llevara la Civilización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n esa tierra bárbara había nacido el primer poema de amor de la historia universal. En lengua sumeria, escrito en el barro, el poema narró el encuentro de una diosa y un pastor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an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diosa, amó esa noche como si fuera mortal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muz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pastor, fue inmortal mientras duró esa no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03640" y="693720"/>
            <a:ext cx="35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ojas andantes, paradojas estimulantes: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ijadinh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hombre más feo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rasi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reó las más hermosas esculturas de la era colonial americ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bro de viaje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ventura de la libertad, fue escrito en la cárcel de Géno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 Quijote de La Mancha, otra aventura de la libertad, nació en la cárcel de Sev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on nietos de esclavos los negros que generaron el jazz, la más libre de las mú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1944720" cy="20257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3"/>
          <a:stretch/>
        </p:blipFill>
        <p:spPr>
          <a:xfrm>
            <a:off x="2268360" y="1484280"/>
            <a:ext cx="2005200" cy="20052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4"/>
          <a:stretch/>
        </p:blipFill>
        <p:spPr>
          <a:xfrm>
            <a:off x="755640" y="2924280"/>
            <a:ext cx="1495440" cy="205236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5"/>
          <a:stretch/>
        </p:blipFill>
        <p:spPr>
          <a:xfrm>
            <a:off x="2484360" y="3645000"/>
            <a:ext cx="1677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03640" y="1558080"/>
            <a:ext cx="33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o de los mejores guitarristas de jazz, el gitan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jango Reinhard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tenía dos dedos en su mano izquierda inmoviliz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tenía man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imod de la Reyniè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gran maestro de la cocina francesa. Con garfios escribía, cocinaba y c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2928960" cy="261756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1380960" cy="160020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7704000" y="64911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Handwriting"/>
              </a:rPr>
              <a:t>E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457920"/>
            <a:ext cx="3602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ando fueron desalojados del Paraíso, Adán y Eva se mudaron 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fr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no a Parí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gún tiempo después, cuando ya sus hijos se habían lanzado a los caminos del mundo, se inventó la escritura 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mbién el álgebra se inventó en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La fundó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hamed al-Jwarizm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hace 1.200 años, y las palabras algoritmo y guarismo derivan de su nomb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nombres suelen no coincidir con lo que nombran. En el British Museum, pongamos por caso, las esculturas del Partenón se llaman “mármoles de Elgin”, pero son mármoles d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d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gi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llamaba el inglés que las vendió al muse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3024360" cy="201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11858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11394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tres novedades que hicieron posible el Renacimiento europeo, la brújula, la pólvora y la imprenta, habían sido inventadas por los chinos, que también inventaron casi todo lo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invent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hindúes habían sabido antes que nadie que la tierra era redonda y los mayas habían creado el calendario más exacto de todos los tiem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3389400" cy="2325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187280" y="310032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88080" y="858240"/>
            <a:ext cx="328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1493, el Vaticano regaló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obsequió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f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gra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“para que las naciones bárbaras sean reducidas a la fe católica”. Por entonc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nía quince veces más habitantes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ñ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f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gra cien veces más 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 como había mandado el papa, las naciones bárbaras fueron reduc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376280" y="476280"/>
            <a:ext cx="2475000" cy="2736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619280" y="3357720"/>
            <a:ext cx="1930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1183680"/>
            <a:ext cx="33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ochtit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l centro del imperio azteca, era de agua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nán Cort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olió la ciudad, piedra por piedra, y con los escombros tapó los canales por donde navegaban doscientas mil cano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sta fue la primera guerra del agua 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o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ochtit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x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or donde corría el agua, corren los a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54672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32360" y="693720"/>
            <a:ext cx="37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ohn Lock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l filósofo de la libertad, era accionista de la Royal Africa Company, que compraba y vendía esclavos. Mientras nacía el siglo XVIII, el primero de los borbones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lipe V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trenó su trono firmando un contrato con su primo, el rey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a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ara que la Compagnie de Guinée vendiera negros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ér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Cada monarca llevaba un 25 por ciento de las gana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s de algunos navíos negreros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tai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ussea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esú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ran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gual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mist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2181240" cy="2238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476360" y="2781360"/>
            <a:ext cx="2228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1400760"/>
            <a:ext cx="3167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onumento más alt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ent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ha erigido en homenaje al gener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en el siglo XIX exterminó a los indios d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ago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avenida más larga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ugu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leva el nombre del gener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v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e en el siglo XIX exterminó a los últimos indios charrú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692360" y="3141720"/>
            <a:ext cx="192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H="1">
            <a:off x="684360" y="333360"/>
            <a:ext cx="3960720" cy="5329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43280" y="333360"/>
            <a:ext cx="4032360" cy="532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08720" y="4292640"/>
            <a:ext cx="1152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3080" y="3933720"/>
            <a:ext cx="100584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53080" y="3500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53080" y="206064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53080" y="242100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53080" y="278136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3080" y="314172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53080" y="1700280"/>
            <a:ext cx="10058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53080" y="1268280"/>
            <a:ext cx="100584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77336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1341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88000" y="213372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59280" y="4365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59280" y="4005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88000" y="3573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3213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285264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88000" y="249228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56000" y="1268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56000" y="2421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56000" y="2060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170028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356000" y="2781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5600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56000" y="3500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56000" y="3141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429264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32360" y="888840"/>
            <a:ext cx="345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de los padres fundadore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dos Un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desvanecieron en la niebla de la historia oficial. Nadie recuerda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ber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t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i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uverner Morr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amnesia recompensó sus actos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t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ue el único prócer de la independencia que liberó a sus esclavos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rr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redactor de la Constitución, se opuso a la cláusula que estableció que un esclavo equivalía a las tres quintas partes de un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1895400" cy="2401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20671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7:02:54Z</dcterms:created>
  <dc:creator>Eliza Torres</dc:creator>
  <dc:description/>
  <dc:language>en-US</dc:language>
  <cp:lastModifiedBy>miquel</cp:lastModifiedBy>
  <dcterms:modified xsi:type="dcterms:W3CDTF">2013-05-27T14:55:04Z</dcterms:modified>
  <cp:revision>7</cp:revision>
  <dc:subject/>
  <dc:title>Slide 1</dc:title>
</cp:coreProperties>
</file>