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646-D956-4BAC-8D41-71A0B18A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0E8-64A5-4490-8FD3-4C8B1E4A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FBC-F847-4CFA-8964-940471E6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1E8-B4BD-4381-B7CC-D7584AC0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04F-62CD-4813-BC88-61C0D05D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64F-2759-4036-92B9-D8965F7F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733-25FB-41ED-92D8-7C0DF8CF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857-8B04-4278-A049-89021F22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328-AC78-47DF-AB1D-3FFA3951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DCA-F9D2-44E5-B96E-4BFB1681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DE6-F126-4F1F-A0C6-F478DBC2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D4B-77CF-4B6B-827C-4F36578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7F0B-1A54-48A0-ACA6-9EF4669F5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Calibri"/>
              </a:rPr>
              <a:t>INJUSTIC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947960"/>
            <a:ext cx="748800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4 Rectángulo"/>
          <p:cNvSpPr/>
          <p:nvPr/>
        </p:nvSpPr>
        <p:spPr>
          <a:xfrm>
            <a:off x="1548720" y="242100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alibri"/>
              </a:rPr>
              <a:t>Irena Sendl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-747720"/>
            <a:ext cx="914400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Después de la guerra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ntentó localizar a los padr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que pudieran haber sobrevivid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y reunir a la famil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96908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La mayoría habían sido lleva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a la cámara de g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7280" cy="4200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3289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Aquellos niños a los que ayudó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encontraron casas de acogid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o fueron adoptad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76480" y="2133720"/>
            <a:ext cx="6791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24000" y="1341360"/>
            <a:ext cx="4895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El año pasad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re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fue propuesta para recibir 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remio Nóbel de la Paz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80000" y="1125360"/>
            <a:ext cx="2933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-674640"/>
            <a:ext cx="91440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ero no fue seleccion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[]"/>
          <p:cNvPicPr/>
          <p:nvPr/>
        </p:nvPicPr>
        <p:blipFill>
          <a:blip r:embed="rId1"/>
          <a:stretch/>
        </p:blipFill>
        <p:spPr>
          <a:xfrm>
            <a:off x="2484360" y="2060640"/>
            <a:ext cx="3775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Algunos de los que han recibido este premio son, por ejempl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Los </a:t>
            </a:r>
            <a:r>
              <a:rPr b="0" lang="es-ES_tradnl" sz="3600" spc="-1" strike="noStrike">
                <a:solidFill>
                  <a:srgbClr val="3333ff"/>
                </a:solidFill>
                <a:latin typeface="Calibri"/>
              </a:rPr>
              <a:t>cuáqueros norteamericanos y británicos, Henry a. Kissinger , Lech Walesa, Jimmy Carter, Al Gore, Barack Obama, El disidente chino, Liu Xiaobo, entre otros</a:t>
            </a: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ff"/>
                </a:solidFill>
                <a:latin typeface="Calibri"/>
                <a:ea typeface="Times New Roman"/>
              </a:rPr>
              <a:t>Sin coment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-17136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Gran mensaj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especialmente en la viñet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¡No permitamos que se olvide nunca!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572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3 Rectángulo"/>
          <p:cNvSpPr/>
          <p:nvPr/>
        </p:nvSpPr>
        <p:spPr>
          <a:xfrm>
            <a:off x="0" y="54936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Por favor, leed atentamente la viñeta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es impactant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Luego leed los comentarios del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Rectángulo"/>
          <p:cNvSpPr/>
          <p:nvPr/>
        </p:nvSpPr>
        <p:spPr>
          <a:xfrm>
            <a:off x="0" y="3789360"/>
            <a:ext cx="9144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Estoy aportando mi granito reenviand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este mensaj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Espero que consideres hacer lo mismo.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785880" y="0"/>
            <a:ext cx="79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Calibri"/>
              </a:rPr>
              <a:t>EL premio no se lo lleva </a:t>
            </a:r>
            <a:br>
              <a:rPr sz="7200"/>
            </a:br>
            <a:r>
              <a:rPr b="0" lang="en-US" sz="7200" spc="-1" strike="noStrike">
                <a:solidFill>
                  <a:srgbClr val="0066ff"/>
                </a:solidFill>
                <a:latin typeface="Calibri"/>
              </a:rPr>
              <a:t>Siempre el que más se lo merec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57120" y="0"/>
            <a:ext cx="878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360" y="1628280"/>
            <a:ext cx="3672000" cy="32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Han pasado más de 60 años desde que terminó la 2ª Guerra Mundial en Europa.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709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3208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Este e-mail se está reenviando como una cadena conmemorativa, en memoria de los 6 millones de judíos, 20 millones de rusos, 10 millones de cristianos y 1.900sacerdotes católicos que fueron asesinados, masacrados, violados, matados de hambre y humillados con el pueblo de Alemania mirando hacia otro l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7129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Ahora, más que nunca, con algunos proclamando que el Holocausto es un mito,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es imperativo asegurarse de que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el mundo nunca olvid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597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La intención de este e-mail es llegar a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40 millones de personas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en todo el mund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9584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28576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7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Únete a nosotros y sé un eslabón de esta cadena conmemorativa y ayúdanos a distribuirlo por todo 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el mund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 Título"/>
          <p:cNvSpPr/>
          <p:nvPr/>
        </p:nvSpPr>
        <p:spPr>
          <a:xfrm>
            <a:off x="0" y="3500280"/>
            <a:ext cx="91440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Por favor, envía este e-mail a las personas que conoces y pídeles que continúen la caden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Calibri"/>
              </a:rPr>
              <a:t>Por favor, no lo borres.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66ff"/>
                </a:solidFill>
                <a:latin typeface="Calibri"/>
              </a:rPr>
              <a:t>Sólo te llevará un minuto reenviarl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0" y="549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IN  MEMORIAM  - 65 YEARS LATER</a:t>
            </a: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En Memoria - 65 años despu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8736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ff"/>
                </a:solidFill>
                <a:latin typeface="Calibri"/>
              </a:rPr>
              <a:t>Gracias</a:t>
            </a:r>
            <a:r>
              <a:rPr b="0" lang="es-ES" sz="5400" spc="-1" strike="noStrike">
                <a:solidFill>
                  <a:srgbClr val="0066ff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[]"/>
          <p:cNvPicPr/>
          <p:nvPr/>
        </p:nvPicPr>
        <p:blipFill>
          <a:blip r:embed="rId1"/>
          <a:stretch/>
        </p:blipFill>
        <p:spPr>
          <a:xfrm>
            <a:off x="2411280" y="1197000"/>
            <a:ext cx="3775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0"/>
            <a:ext cx="91440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Una señora de 98 años llamad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ff"/>
                </a:solidFill>
                <a:latin typeface="Calibri"/>
                <a:ea typeface="Times New Roman"/>
              </a:rPr>
              <a:t>Irena </a:t>
            </a:r>
            <a:r>
              <a:rPr b="1" lang="es-ES" sz="3600" spc="-1" strike="noStrike">
                <a:solidFill>
                  <a:srgbClr val="0066ff"/>
                </a:solidFill>
                <a:latin typeface="Calibri"/>
              </a:rPr>
              <a:t>Sendl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acaba de fallecer.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3600"/>
            </a:b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Durante la 2ª Guerra Mundial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rena consiguió un permiso para trabajar en el Ghetto de Varsovia como especialista de alcantarillado y tuberí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4149720"/>
            <a:ext cx="6480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ero sus planes iban más allá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200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260280"/>
            <a:ext cx="914400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Sabía cuales eran los planes 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los nazis para los judí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(siendo alemana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731520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rena sacaba niños escondidos en el fondo de su caja de herramientas y llevaba un saco de arpillera en la parte de atrás de su camionet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(para niños de mayor tamaño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También llevaba en la parte de atrás un perro al que entrenó para ladrar a los soldados nazis cuando salía y entraba del Ghetto.</a:t>
            </a: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-531720"/>
            <a:ext cx="9144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or supuesto, los soldados n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querían tener nada que ver con e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perro y los ladridos ocultab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los ruidos de los niñ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4643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-243000"/>
            <a:ext cx="9144000" cy="38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Mientras estuvo haciendo est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consiguió sacar de allí y salvar a 2500 niñ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Cuando los nazis la cogieron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le rompieron ambas piernas, los brazos y la pegaron brutalmen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3573360"/>
            <a:ext cx="4022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141ff"/>
                </a:solidFill>
                <a:latin typeface="Calibri"/>
                <a:ea typeface="Times New Roman"/>
              </a:rPr>
              <a:t>Irena mantenía un registro de los nombres de todos los niños que sacó y lo guardaba en un tarro de cristal enterrado bajo un árbol en su jardín.</a:t>
            </a: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25034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11:54Z</dcterms:created>
  <dc:creator>CLC</dc:creator>
  <dc:description/>
  <dc:language>en-US</dc:language>
  <cp:lastModifiedBy>WinuE</cp:lastModifiedBy>
  <dcterms:modified xsi:type="dcterms:W3CDTF">2010-10-10T20:14:24Z</dcterms:modified>
  <cp:revision>12</cp:revision>
  <dc:subject/>
  <dc:title>INJUSTICIA   EL premio no se lo lleva siempre el que más se lo merece</dc:title>
</cp:coreProperties>
</file>