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721-66C4-4638-9144-A894082F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C1F-B2FE-45B6-BC93-93D0A186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923-CDB8-439B-86F4-FB60D03E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769-BB7C-4A4A-9C4E-2437A9AB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AA3-5B4E-469B-839E-0D7575BE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8E8-4FAA-4874-BAC7-43A9CAD8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FAB-14ED-4F9D-9691-753040E5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C18-0247-44BE-929D-19FF0FCC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1F3-DA76-4270-A143-F17E32D5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30D-5DB0-40F2-BCC9-09EC92B5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574-5FEA-47B5-B695-D30A7EDA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6AD-5DBF-4136-8A4E-36D8E575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2AAA-FD7A-476C-8882-BC2B8589B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Calibri"/>
              </a:rPr>
              <a:t>INJUSTIC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1947960"/>
            <a:ext cx="7488000" cy="4505400"/>
          </a:xfrm>
          <a:prstGeom prst="rect">
            <a:avLst/>
          </a:prstGeom>
          <a:ln w="0">
            <a:noFill/>
          </a:ln>
        </p:spPr>
      </p:pic>
      <p:sp>
        <p:nvSpPr>
          <p:cNvPr id="43" name="4 Rectángulo"/>
          <p:cNvSpPr/>
          <p:nvPr/>
        </p:nvSpPr>
        <p:spPr>
          <a:xfrm>
            <a:off x="1548720" y="242100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alibri"/>
              </a:rPr>
              <a:t>Irena Sendl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0" y="-747720"/>
            <a:ext cx="91440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Después de la guerra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intentó localizar a los padr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que pudieran haber sobrevivid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y reunir a la famili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49690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La mayoría habían sido lleva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a la cámara de g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527280" cy="4200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3289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Aquellos niños a los que ayudó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encontraron casas de acogid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o fueron adoptad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76480" y="2133720"/>
            <a:ext cx="6791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324000" y="1341360"/>
            <a:ext cx="4895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El año pasad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Ire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fue propuesta para recibir 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Premio Nóbel de la Paz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80000" y="1125360"/>
            <a:ext cx="2933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-674640"/>
            <a:ext cx="914400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Pero no fue seleccion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[]"/>
          <p:cNvPicPr/>
          <p:nvPr/>
        </p:nvPicPr>
        <p:blipFill>
          <a:blip r:embed="rId1"/>
          <a:stretch/>
        </p:blipFill>
        <p:spPr>
          <a:xfrm>
            <a:off x="2484360" y="2060640"/>
            <a:ext cx="3775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ff"/>
                </a:solidFill>
                <a:latin typeface="Calibri"/>
                <a:ea typeface="Times New Roman"/>
              </a:rPr>
              <a:t>Algunos de los que han recibido este premio son, por ejempl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ff"/>
                </a:solidFill>
                <a:latin typeface="Calibri"/>
                <a:ea typeface="Times New Roman"/>
              </a:rPr>
              <a:t>Los </a:t>
            </a:r>
            <a:r>
              <a:rPr b="0" lang="es-ES_tradnl" sz="3600" spc="-1" strike="noStrike">
                <a:solidFill>
                  <a:srgbClr val="3333ff"/>
                </a:solidFill>
                <a:latin typeface="Calibri"/>
              </a:rPr>
              <a:t>cuáqueros norteamericanos y británicos, Henry a. Kissinger , Lech Walesa, Jimmy Carter, Al Gore, Barack Obama, El disidente chino, Liu Xiaobo, entre otros</a:t>
            </a:r>
            <a:r>
              <a:rPr b="0" lang="es-ES" sz="3600" spc="-1" strike="noStrike">
                <a:solidFill>
                  <a:srgbClr val="3333ff"/>
                </a:solidFill>
                <a:latin typeface="Calibri"/>
                <a:ea typeface="Times New Roman"/>
              </a:rPr>
              <a:t>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ff"/>
                </a:solidFill>
                <a:latin typeface="Calibri"/>
                <a:ea typeface="Times New Roman"/>
              </a:rPr>
              <a:t>Sin coment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-17136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Gran mensaje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especialmente en la viñet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¡No permitamos que se olvide nunca!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55720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3 Rectángulo"/>
          <p:cNvSpPr/>
          <p:nvPr/>
        </p:nvSpPr>
        <p:spPr>
          <a:xfrm>
            <a:off x="0" y="54936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Por favor, leed atentamente la viñeta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es impactant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Luego leed los comentarios del fin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Rectángulo"/>
          <p:cNvSpPr/>
          <p:nvPr/>
        </p:nvSpPr>
        <p:spPr>
          <a:xfrm>
            <a:off x="0" y="3789360"/>
            <a:ext cx="914400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Estoy aportando mi granito reenviand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este mensaj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Espero que consideres hacer lo mismo.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785880" y="0"/>
            <a:ext cx="792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Calibri"/>
              </a:rPr>
              <a:t>EL premio no se lo lleva </a:t>
            </a:r>
            <a:br>
              <a:rPr sz="7200"/>
            </a:br>
            <a:r>
              <a:rPr b="0" lang="en-US" sz="7200" spc="-1" strike="noStrike">
                <a:solidFill>
                  <a:srgbClr val="0066ff"/>
                </a:solidFill>
                <a:latin typeface="Calibri"/>
              </a:rPr>
              <a:t>Siempre el que más se lo merece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357120" y="0"/>
            <a:ext cx="878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360" y="1628280"/>
            <a:ext cx="3672000" cy="32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Han pasado más de 60 años desde que terminó la 2ª Guerra Mundial en Europa.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709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3208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Este e-mail se está reenviando como una cadena conmemorativa, en memoria de los 6 millones de judíos, 20 millones de rusos, 10 millones de cristianos y 1.900sacerdotes católicos que fueron asesinados, masacrados, violados, matados de hambre y humillados con el pueblo de Alemania mirando hacia otro l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71640" y="3645000"/>
            <a:ext cx="71294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Ahora, más que nunca, con algunos proclamando que el Holocausto es un mito, </a:t>
            </a:r>
            <a:br>
              <a:rPr sz="3600"/>
            </a:b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es imperativo asegurarse de que </a:t>
            </a:r>
            <a:br>
              <a:rPr sz="3600"/>
            </a:b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el mundo nunca olvid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92360" y="3716280"/>
            <a:ext cx="597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La intención de este e-mail es llegar a </a:t>
            </a:r>
            <a:br>
              <a:rPr sz="3600"/>
            </a:b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40 millones de personas</a:t>
            </a:r>
            <a:br>
              <a:rPr sz="3600"/>
            </a:b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en todo el mund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95840" cy="3810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19640" y="2924280"/>
            <a:ext cx="28576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37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Únete a nosotros y sé un eslabón de esta cadena conmemorativa y ayúdanos a distribuirlo por todo </a:t>
            </a:r>
            <a:br>
              <a:rPr sz="3600"/>
            </a:b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el mund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 Título"/>
          <p:cNvSpPr/>
          <p:nvPr/>
        </p:nvSpPr>
        <p:spPr>
          <a:xfrm>
            <a:off x="0" y="3500280"/>
            <a:ext cx="9144000" cy="28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Por favor, envía este e-mail a las personas que conoces y pídeles que continúen la caden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alibri"/>
              </a:rPr>
              <a:t>Por favor, no lo borres. 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66ff"/>
                </a:solidFill>
                <a:latin typeface="Calibri"/>
              </a:rPr>
              <a:t>Sólo te llevará un minuto reenviarl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Rectángulo"/>
          <p:cNvSpPr/>
          <p:nvPr/>
        </p:nvSpPr>
        <p:spPr>
          <a:xfrm>
            <a:off x="0" y="549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Calibri"/>
              </a:rPr>
              <a:t>IN  MEMORIAM  - 65 YEARS LATER</a:t>
            </a: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En Memoria - 65 años despu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8736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66ff"/>
                </a:solidFill>
                <a:latin typeface="Calibri"/>
              </a:rPr>
              <a:t>Gracias</a:t>
            </a:r>
            <a:r>
              <a:rPr b="0" lang="es-ES" sz="5400" spc="-1" strike="noStrike">
                <a:solidFill>
                  <a:srgbClr val="0066ff"/>
                </a:solidFill>
                <a:latin typeface="Calibri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[]"/>
          <p:cNvPicPr/>
          <p:nvPr/>
        </p:nvPicPr>
        <p:blipFill>
          <a:blip r:embed="rId1"/>
          <a:stretch/>
        </p:blipFill>
        <p:spPr>
          <a:xfrm>
            <a:off x="2411280" y="1197000"/>
            <a:ext cx="37753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0"/>
            <a:ext cx="91440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Una señora de 98 años llamad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ff"/>
                </a:solidFill>
                <a:latin typeface="Calibri"/>
                <a:ea typeface="Times New Roman"/>
              </a:rPr>
              <a:t>Irena </a:t>
            </a:r>
            <a:r>
              <a:rPr b="1" lang="es-ES" sz="3600" spc="-1" strike="noStrike">
                <a:solidFill>
                  <a:srgbClr val="0066ff"/>
                </a:solidFill>
                <a:latin typeface="Calibri"/>
              </a:rPr>
              <a:t>Sendl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acaba de fallecer.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3600"/>
            </a:b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Durante la 2ª Guerra Mundia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Irena consiguió un permiso para trabajar en el Ghetto de Varsovia como especialista de alcantarillado y tuberí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4149720"/>
            <a:ext cx="64800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Pero sus planes iban más allá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9200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260280"/>
            <a:ext cx="914400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Sabía cuales eran los planes 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los nazis para los judí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(siendo alemana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731520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95280" y="0"/>
            <a:ext cx="828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Irena sacaba niños escondidos en el fondo de su caja de herramientas y llevaba un saco de arpillera en la parte de atrás de su camionet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(para niños de mayor tamaño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También llevaba en la parte de atrás un perro al que entrenó para ladrar a los soldados nazis cuando salía y entraba del Ghetto.</a:t>
            </a: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-531720"/>
            <a:ext cx="9144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Por supuesto, los soldados n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querían tener nada que ver con e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perro y los ladridos ocultaba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los ruidos de los niñ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4643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-243000"/>
            <a:ext cx="9144000" cy="38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Mientras estuvo haciendo esto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consiguió sacar de allí y salvar a 2500 niñ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Cuando los nazis la cogieron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le rompieron ambas piernas, los brazos y la pegaron brutalmen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84360" y="3573360"/>
            <a:ext cx="40226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Irena mantenía un registro de los nombres de todos los niños que sacó y lo guardaba en un tarro de cristal enterrado bajo un árbol en su jardín.</a:t>
            </a: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250344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1:11:54Z</dcterms:created>
  <dc:creator>CLC</dc:creator>
  <dc:description/>
  <dc:language>en-US</dc:language>
  <cp:lastModifiedBy>WinuE</cp:lastModifiedBy>
  <dcterms:modified xsi:type="dcterms:W3CDTF">2010-10-10T20:14:24Z</dcterms:modified>
  <cp:revision>12</cp:revision>
  <dc:subject/>
  <dc:title>INJUSTICIA   EL premio no se lo lleva siempre el que más se lo merece</dc:title>
</cp:coreProperties>
</file>