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16.jpeg" ContentType="image/jpeg"/>
  <Override PartName="/ppt/media/001_Sabrina%20-%20Boys%20Boys%20Boys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3.jpeg" ContentType="image/jpeg"/>
  <Override PartName="/ppt/media/image52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001_Sabrina%20-%20Boys%20Boys%20Boy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7d"/>
                </a:solidFill>
                <a:latin typeface="Cooper Lt BT"/>
              </a:rPr>
              <a:t>El melona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32403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1764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319640" cy="64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6818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74680"/>
            <a:ext cx="42483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274680"/>
            <a:ext cx="4391280" cy="63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73480" y="274680"/>
            <a:ext cx="4397040" cy="585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80040" cy="626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103640" cy="617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949560" cy="585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274680"/>
            <a:ext cx="41036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1300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2576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824360" cy="64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89080" y="0"/>
            <a:ext cx="4965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55920" y="0"/>
            <a:ext cx="42321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20800" y="274680"/>
            <a:ext cx="3900600" cy="624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374472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68640" y="274680"/>
            <a:ext cx="480528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274680"/>
            <a:ext cx="4319640" cy="632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743280" cy="331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645000"/>
            <a:ext cx="21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D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3645000"/>
            <a:ext cx="24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8116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7:18:12Z</dcterms:created>
  <dc:creator>—</dc:creator>
  <dc:description/>
  <dc:language>en-US</dc:language>
  <cp:lastModifiedBy>User</cp:lastModifiedBy>
  <dcterms:modified xsi:type="dcterms:W3CDTF">2009-04-25T23:14:27Z</dcterms:modified>
  <cp:revision>25</cp:revision>
  <dc:subject>www.laboutiquedelpowerpoint.com</dc:subject>
  <dc:title>El melonar</dc:title>
</cp:coreProperties>
</file>