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581-46F0-4F4F-8D49-62C32655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CA0-3B9C-4A41-A1BF-9479B03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C9D-1EF2-422F-A01E-4359BB7C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E9C-D44E-4462-89CB-A5DCE17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473-CC7A-4E4D-95A0-818B5D5C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193-6C96-4208-95BE-ABDE26E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610-E88E-44B3-9A55-B4ACA103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E74-94E4-42E5-B52B-8F86195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523-9B46-461D-AF74-F87C40F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2A3-27C9-4B99-BF98-EBF0CD5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D18-EF4E-4FC0-9C97-D01DF36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9A5-9494-41F3-BC09-BBD58D1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640-5033-4566-AE68-F020AECA074D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97240"/>
            <a:ext cx="6858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amarra Nike de forro con capuchón y compartimiento especial para pistolas: $65.00 d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stola Automática Pietro Beretta 9 mm Modelo M-1 Conmemorativa "Tormenta del Desierto":  $800 dl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tar el arma durante el asalto y actuar como un PENDEJO: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 TIENE PRECIO 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755640"/>
            <a:ext cx="1248120" cy="760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52640" y="478944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00:11Z</dcterms:created>
  <dc:creator>Lic. Alfredo Guevara Flores</dc:creator>
  <dc:description/>
  <dc:language>en-US</dc:language>
  <cp:lastModifiedBy>Usuario</cp:lastModifiedBy>
  <dcterms:modified xsi:type="dcterms:W3CDTF">2007-03-05T19:26:12Z</dcterms:modified>
  <cp:revision>1</cp:revision>
  <dc:subject/>
  <dc:title>ninguno</dc:title>
</cp:coreProperties>
</file>