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C173-2882-4763-A696-8329F85A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2951-08D3-4A34-889C-2199470A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5798-CEB8-43AA-B064-5A908A10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C56C-8BDA-4FD8-8BF9-F4F61493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FF44-8D27-433A-919A-A990674B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B07F-944D-48F2-B82A-EED06CD8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6E49-3FC0-4743-B359-F2D54755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0E14-A459-4140-99EF-F88B38E9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CB8B-89B4-4B09-BBEC-418BE7CB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C567-3301-4125-A589-3EF920FD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397C-74AE-4068-88B8-D2E3B2A4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FED8-9581-4F7D-A923-2021B4D2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AED5-BC74-49D3-9179-495D9D2D8776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397240"/>
            <a:ext cx="68580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hamarra Nike de forro con capuchón y compartimiento especial para pistolas: $65.00 dl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istola Automática Pietro Beretta 9 mm Modelo M-1 Conmemorativa "Tormenta del Desierto":  $800 dll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oltar el arma durante el asalto y actuar como un PENDEJO: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NO TIENE PRECIO 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04640" y="755640"/>
            <a:ext cx="1248120" cy="760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52640" y="4789440"/>
            <a:ext cx="49687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20:00:11Z</dcterms:created>
  <dc:creator>Lic. Alfredo Guevara Flores</dc:creator>
  <dc:description/>
  <dc:language>en-US</dc:language>
  <cp:lastModifiedBy>Usuario</cp:lastModifiedBy>
  <dcterms:modified xsi:type="dcterms:W3CDTF">2007-03-05T19:26:12Z</dcterms:modified>
  <cp:revision>1</cp:revision>
  <dc:subject/>
  <dc:title>ninguno</dc:title>
</cp:coreProperties>
</file>