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907588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3001680" y="514440"/>
            <a:ext cx="3714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3"/>
          </p:nvPr>
        </p:nvSpPr>
        <p:spPr>
          <a:xfrm>
            <a:off x="5505120" y="651528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355-84FC-4E3F-971E-0DAB1FD9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0020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94920" y="3257640"/>
            <a:ext cx="71247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tes go her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AAA1-ED1C-4D31-B43D-193BD130B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8F53-DBCD-49A0-A1BB-C7566F35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34F3-6342-4B56-AA24-E5C6F0DEC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0248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4936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5524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0248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4936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E479-458C-4033-A1A6-AF0365FE4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5240" y="0"/>
            <a:ext cx="7759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D943-0E43-4C08-ABAF-D01C62356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0248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49360" y="113148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5524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0248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849360" y="3963240"/>
            <a:ext cx="2711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5717-0C1E-4F53-82A8-541E5B5FE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2B5A-1E91-469C-9A18-3EB9387AC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EAA1-B5DE-4242-AEC5-FCA33FE8C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5240" y="0"/>
            <a:ext cx="7759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DC0C-6248-4437-B0D6-F63F262F2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88AE-B6F2-42AD-AB06-BCC75F0D0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69840" y="396324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D21D-07A7-4FF3-81FC-22E0C0797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2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9840" y="1131480"/>
            <a:ext cx="410868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5240" y="3963240"/>
            <a:ext cx="842004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AD27-9223-429C-82E9-4F50E4C2E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02120" y="653364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8080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1B6-95FD-4005-99E6-6DFFE27A6F3B}" type="slidenum">
              <a:rPr b="0" lang="en-US" sz="800" spc="-1" strike="noStrike">
                <a:solidFill>
                  <a:srgbClr val="080808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dd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155240" y="113148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-280800">
              <a:lnSpc>
                <a:spcPct val="120000"/>
              </a:lnSpc>
              <a:spcAft>
                <a:spcPts val="1375"/>
              </a:spcAft>
              <a:buClr>
                <a:srgbClr val="f46d1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20000"/>
              </a:lnSpc>
              <a:spcAft>
                <a:spcPts val="1375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3" marL="1374840" indent="-292320">
              <a:lnSpc>
                <a:spcPct val="120000"/>
              </a:lnSpc>
              <a:spcAft>
                <a:spcPts val="1375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4" marL="1832040" indent="-292320">
              <a:lnSpc>
                <a:spcPct val="120000"/>
              </a:lnSpc>
              <a:spcAft>
                <a:spcPts val="1375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5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6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32840" y="228600"/>
            <a:ext cx="5256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5480" y="1295280"/>
            <a:ext cx="165240" cy="5257800"/>
          </a:xfrm>
          <a:prstGeom prst="rect">
            <a:avLst/>
          </a:prstGeom>
          <a:solidFill>
            <a:srgbClr val="d4c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0240" y="1295280"/>
            <a:ext cx="82800" cy="5257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660240" cy="5257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6534000"/>
            <a:ext cx="313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5440" y="6581880"/>
            <a:ext cx="101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6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4622760" y="6531120"/>
            <a:ext cx="4678200" cy="326880"/>
            <a:chOff x="4622760" y="6531120"/>
            <a:chExt cx="4678200" cy="326880"/>
          </a:xfrm>
        </p:grpSpPr>
        <p:pic>
          <p:nvPicPr>
            <p:cNvPr id="10" name="" descr=""/>
            <p:cNvPicPr/>
            <p:nvPr/>
          </p:nvPicPr>
          <p:blipFill>
            <a:blip r:embed="rId3"/>
            <a:srcRect l="61240" t="37744" r="0" b="2423"/>
            <a:stretch/>
          </p:blipFill>
          <p:spPr>
            <a:xfrm>
              <a:off x="8710920" y="6531120"/>
              <a:ext cx="59004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22760" y="6548400"/>
              <a:ext cx="4045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dd9"/>
                  </a:solidFill>
                  <a:latin typeface="Verdana"/>
                </a:rPr>
                <a:t>Global Security</a:t>
              </a:r>
              <a:endParaRPr b="0" lang="en-US" sz="1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91280" y="1600200"/>
            <a:ext cx="255888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7920" y="1600200"/>
            <a:ext cx="5283360" cy="2057400"/>
          </a:xfrm>
          <a:prstGeom prst="rect">
            <a:avLst/>
          </a:prstGeom>
          <a:solidFill>
            <a:srgbClr val="005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91280" y="1600200"/>
            <a:ext cx="907920" cy="2057400"/>
          </a:xfrm>
          <a:prstGeom prst="rect">
            <a:avLst/>
          </a:prstGeom>
          <a:solidFill>
            <a:srgbClr val="0050a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3040" y="1600200"/>
            <a:ext cx="8244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00200"/>
            <a:ext cx="66024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960" y="355680"/>
            <a:ext cx="922320" cy="93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32960" y="1600200"/>
            <a:ext cx="107316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3160" y="18288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1155600" y="6534000"/>
            <a:ext cx="313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440" y="6581880"/>
            <a:ext cx="101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6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19480" y="561960"/>
            <a:ext cx="6411600" cy="716040"/>
            <a:chOff x="3219480" y="561960"/>
            <a:chExt cx="6411600" cy="716040"/>
          </a:xfrm>
        </p:grpSpPr>
        <p:pic>
          <p:nvPicPr>
            <p:cNvPr id="59" name="" descr=""/>
            <p:cNvPicPr/>
            <p:nvPr/>
          </p:nvPicPr>
          <p:blipFill>
            <a:blip r:embed="rId3"/>
            <a:srcRect l="61240" t="37744" r="0" b="2423"/>
            <a:stretch/>
          </p:blipFill>
          <p:spPr>
            <a:xfrm>
              <a:off x="8774640" y="809640"/>
              <a:ext cx="856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219480" y="561960"/>
              <a:ext cx="6333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dd9"/>
                  </a:solidFill>
                  <a:latin typeface="Verdana"/>
                </a:rPr>
                <a:t>Global Security</a:t>
              </a:r>
              <a:endParaRPr b="0" lang="en-US" sz="16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lvl="1" marL="114480" indent="0" algn="ctr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573120" algn="ctr">
              <a:lnSpc>
                <a:spcPct val="120000"/>
              </a:lnSpc>
              <a:spcAft>
                <a:spcPts val="1250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3" marL="1082520" algn="ctr">
              <a:lnSpc>
                <a:spcPct val="120000"/>
              </a:lnSpc>
              <a:spcAft>
                <a:spcPts val="1250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4" marL="1539720" algn="ctr">
              <a:lnSpc>
                <a:spcPct val="120000"/>
              </a:lnSpc>
              <a:spcAft>
                <a:spcPts val="1250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5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6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GURIDAD PERSONAL EN AREAS DE RIESG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2800" y="3841560"/>
            <a:ext cx="76770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Verdana"/>
              </a:rPr>
              <a:t>MEDIDAS PREVENTIVAS</a:t>
            </a: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 PARA NO TORNARSE EN VICTIMA DE LA VIOLENCIA URBANA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080808"/>
                </a:solidFill>
                <a:latin typeface="Verdana"/>
              </a:rPr>
              <a:t>Preparado por:</a:t>
            </a:r>
            <a:endParaRPr b="1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Security Advisor – America</a:t>
            </a:r>
            <a:endParaRPr b="1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2009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6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3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610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Evite el contacto 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con desconocidos en la calle, más aún si está solo (a)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Cuando sale de algún sitio,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hágalo acompañada de otra persona, y si es en grupo, mejor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80808"/>
                </a:solidFill>
                <a:latin typeface="Verdana"/>
              </a:rPr>
              <a:t>No camine  </a:t>
            </a:r>
            <a:r>
              <a:rPr b="0" lang="es-ES" sz="1600" spc="-1" strike="noStrike">
                <a:solidFill>
                  <a:srgbClr val="080808"/>
                </a:solidFill>
                <a:latin typeface="Verdana"/>
              </a:rPr>
              <a:t>por sitios oscuros ni abandonados, evite caminar en la misma dirección de los carros, es mejor caminar en contra vía para mirar los carros que vienen y no exponerse a un ataque por atrás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Camine observando todo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lo que acontece EN SU ENTORNO (atención 360°);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Al identificar una situación sospechosa, EVITELA alejándose o cambiando de dirección.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El delincuente tiene como enemigo la distancia, o sea; él precisa </a:t>
            </a:r>
            <a:r>
              <a:rPr b="0" lang="es-SV" sz="1800" spc="-1" strike="noStrike">
                <a:solidFill>
                  <a:srgbClr val="ff0000"/>
                </a:solidFill>
                <a:latin typeface="Verdana"/>
              </a:rPr>
              <a:t>“cerrar el espacio”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, precisa aproximarse para realizar el ataque. Siendo así, manténgase siempre a no menos de </a:t>
            </a:r>
            <a:r>
              <a:rPr b="0" lang="es-SV" sz="1800" spc="-1" strike="noStrike">
                <a:solidFill>
                  <a:srgbClr val="ff0000"/>
                </a:solidFill>
                <a:latin typeface="Verdana"/>
              </a:rPr>
              <a:t>20 metros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de un sospechoso.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“</a:t>
            </a: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No existen asaltos a distancia”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8BC-0AB6-4F80-A772-7EA5F37369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68520" y="1131480"/>
            <a:ext cx="8337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uando el sospechoso esté cerrando el espacio entre ustedes (caminando hacia usted), proceda a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ruzar la calle y observe el comportamiento del sospechoso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el sospechoso cruza también, la probabilidad de que lo atacará pasa a ser mayor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permita que el sospechoso </a:t>
            </a:r>
            <a:r>
              <a:rPr b="0" lang="es-SV" sz="2400" spc="-1" strike="noStrike">
                <a:solidFill>
                  <a:srgbClr val="ff0000"/>
                </a:solidFill>
                <a:latin typeface="Verdana"/>
              </a:rPr>
              <a:t>“cierre el espacio” o  lo agarra y control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Si esto ocurre usted no tiene más que hacer, el delincuente habrá “vencido”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8A32-7023-43A2-BCBD-54ACC13F1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87631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ara no permitir el acercamiento del sospechoso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Busque un lugar para resguardarse, un local con muchas personas, guardias de seguridad o policías;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no hubiere donde protegerse, cambie el sentido de dirección (así usted mantiene el espacio entre ustedes dos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Vea explicaciones a continuación: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21E1-0B95-4276-82EE-26877A8F02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</a:t>
            </a:r>
            <a:r>
              <a:rPr b="1" lang="es-SV" sz="2400" spc="-1" strike="noStrike">
                <a:solidFill>
                  <a:srgbClr val="009dd9"/>
                </a:solidFill>
                <a:latin typeface="Verdana"/>
              </a:rPr>
              <a:t> </a:t>
            </a: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20840" y="129492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El sospechoso viene caminando hacia usted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295280"/>
            <a:ext cx="4457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De la vuelta y cambie de dirección, mantenga el espacio entre usted y él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295280"/>
            <a:ext cx="0" cy="525780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0840" y="205740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Él apresuró su paso hacia usted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057400"/>
            <a:ext cx="4457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Busque un lugar seguro al cual entrar, con mucha gente/guardias (tiendas, despensa, etc.)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20840" y="3048120"/>
            <a:ext cx="3137040" cy="54432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No hay locales para protegerse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0840" y="434340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50aa"/>
                </a:solidFill>
                <a:latin typeface="Verdana"/>
              </a:rPr>
              <a:t>Si el sospechoso corre hacia usted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048120"/>
            <a:ext cx="48006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rra y observe la reacción del sospechoso. Corra antes que se cierre el espacio entre ustedes,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UNA VEZ CERRADO ESTE ESPACIO NUNCA CORRA!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343400"/>
            <a:ext cx="47055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Está claro que él pretende cometer un delito, siendo así, GRITE/Llame al 911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eneralmente, el delincuente no correrá detrás de usted ya que no quiere llamar la atención. Prefiere escoger otra víctima menos preparada/atenta/PREVENID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55DE-C089-449E-AC1F-3B9B77B08B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24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0840" y="1294920"/>
            <a:ext cx="3137040" cy="54468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50aa"/>
                </a:solidFill>
                <a:latin typeface="Verdana"/>
              </a:rPr>
              <a:t>¿Qué gritar?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5118120" y="914400"/>
            <a:ext cx="445752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No gritar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auxilio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 porque hace que las personas alrededor huyan, ya que es claro que hay peligr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ritar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fuego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 podría despertar el interés de las personas, haciéndolas salir a la calle para ver adonde esta el incendi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Gritar el nombre de alguien,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¡Jorge!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, </a:t>
            </a:r>
            <a:r>
              <a:rPr b="0" lang="es-SV" sz="1600" spc="-1" strike="noStrike">
                <a:solidFill>
                  <a:srgbClr val="cc0000"/>
                </a:solidFill>
                <a:latin typeface="Verdana"/>
              </a:rPr>
              <a:t>es la mejor opción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. El sospechoso podría presumir que hay más personas en el entorno/local (¿Quién es Jorge?)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La idea es crear la oportunidad de hacerlo desistir y/o que busque a otra víctim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1295280"/>
            <a:ext cx="0" cy="525780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0840" y="5018040"/>
            <a:ext cx="3137040" cy="54468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REGLA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5016600"/>
            <a:ext cx="4953240" cy="13086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tuviere el “presentimiento” de que alguien va a abordarle </a:t>
            </a:r>
            <a:r>
              <a:rPr b="1" lang="es-SV" sz="1600" spc="-1" strike="noStrike">
                <a:solidFill>
                  <a:srgbClr val="080808"/>
                </a:solidFill>
                <a:latin typeface="Verdana"/>
              </a:rPr>
              <a:t>“nunca deseche la posibilidad”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. Muchas personas que fueron asaltadas relatan que presintieron que algo iba a ocurrir y no lo previnieron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2E96-9B92-45E7-A22B-3461E56BF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7759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717120"/>
            <a:ext cx="84200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Confíe en su instint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  a la hora de tomar un taxi y escójalo también por la cara del chofer; descarte los que no le inspiren confianza o si lo observa nervioso  o inquieto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Nunca tome las taxis estacionadas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o los primeros de las filas a las puertas de los bancos, elija los que vienen circulando y grábese inmediatamente el número de la placa del taxi que tom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Detenga los taxis  que pertenecen a empresas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y radio taxis con el número de la placa y el telefónico bien visible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Observe al subirse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que el asiento delantero esté bien corrido hacia adelante, lo que impedirá el acceso a cualquier compinche por esa puerta, inmediatamente después cierre el seguro de las dos puertas traseras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Si llamó o detuvo un radio taxi, observe que realmente tenga una radi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en coche y no es un engañ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F8F8-D38B-4893-998D-D46C278934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7759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42004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Ante el menor desvío de la ruta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de destino, bájese del taxi (hágalo detenerse, páguele y busque otro). 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Trate siempre de bajarse  del taxi una cuadra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antes de llegar a su verdadero destino (siempre y cuando eso sea prudente y no tenga que bajarse en un lugar peligros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Cuando contrate  a un taxi amigo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 exija que lo informen de las características del vehículo (marca, color y número de patente). 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80808"/>
                </a:solidFill>
                <a:latin typeface="Verdana"/>
              </a:rPr>
              <a:t>En el interior del taxi</a:t>
            </a:r>
            <a:r>
              <a:rPr b="0" lang="es-ES" sz="2000" spc="-1" strike="noStrike">
                <a:solidFill>
                  <a:srgbClr val="080808"/>
                </a:solidFill>
                <a:latin typeface="Verdana"/>
              </a:rPr>
              <a:t>  realice un llamado telefónico desde su celular a su familia, amigo o bien a una persona imaginaria, pero haga saber al conductor  que a usted ha reportado el numero del taxi que la lleva y que la están esperando en un lapso de tiemp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2177-6381-448F-A713-AD355F7D7C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68520" y="1219320"/>
            <a:ext cx="800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Prefiera los estacionamientos pagados; dejar el auto en la calle es siempre más peligros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Planee el horario de llegada y salida, después decida adonde va a estacionar su auto. Muchas veces usted estaciona en la calle cuando aún es claro y hay bastante movimiento, y para cuando debe salir, es tarde y la calle esta desierta y posiblemente oscur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desconfía de algo, siga de largo y no se detenga frente a su vehículo. Evalúe la situación. Bajo dudas, llame a alguien o a la policí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je llaves de casa dentro del vehículo. Ellas podrían ser usadas para asaltar su casa posteriormente, principalmente si en el auto se encuentran recibos o cualquier cosa que identifique su dirección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112C-9659-4A8C-801C-FE5BC74038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68520" y="1219320"/>
            <a:ext cx="800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unca permanezca mucho tiempo dentro del auto estacionado, usted se transforma en una víctima perfect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je ningún objeto de valor a la vista dentro del auto; coloque todo en el baúl o guanter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ntes de estacionar (o cuando retorna) observe su entorno, identifique si existe alguien o alguna situación sospechos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al retornar al auto observa algún “desperfecto” que le impide conducirlo, llame inmediatamente a alguien de su confianza y diríjase a un lugar seguro. Alguien pudo haber “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CREAD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”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el defecto para “</a:t>
            </a:r>
            <a:r>
              <a:rPr b="0" lang="es-SV" sz="2000" spc="-1" strike="noStrike">
                <a:solidFill>
                  <a:srgbClr val="ff0000"/>
                </a:solidFill>
                <a:latin typeface="Verdana"/>
              </a:rPr>
              <a:t>ATACARL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8F2E-8EC8-404F-A95F-72924CA0D7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algn="just">
              <a:lnSpc>
                <a:spcPct val="120000"/>
              </a:lnSpc>
              <a:spcAft>
                <a:spcPts val="225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3600" spc="-1" strike="noStrike">
                <a:solidFill>
                  <a:srgbClr val="080808"/>
                </a:solidFill>
                <a:latin typeface="Verdana"/>
              </a:rPr>
              <a:t>Si sorprende a alguien dentro de su vehículo, NUNCA se aproxime, busque ayuda y llame a la policía (911) sin ser notado. Recuerde:</a:t>
            </a:r>
            <a:endParaRPr b="0" lang="en-US" sz="36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s-SV" sz="3200" spc="-1" strike="noStrike">
                <a:solidFill>
                  <a:srgbClr val="cc0000"/>
                </a:solidFill>
                <a:latin typeface="Verdana"/>
              </a:rPr>
              <a:t>NUNCA SE ACERQUE,                           NO CIERRE EL ESPACIO                          ENTRE USTED Y EL DELINCUENTE”</a:t>
            </a:r>
            <a:endParaRPr b="0" lang="en-US" sz="3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D961-CAC9-4E87-9C01-F56541DB3F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INTRODUCCION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50600" y="1295280"/>
            <a:ext cx="8007480" cy="54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80808"/>
                </a:solidFill>
                <a:latin typeface="Verdana"/>
              </a:rPr>
              <a:t>El propósito de esta presentación es para crear conciencia de seguridad personal a los que viven y desarrollan sus actividades en América.</a:t>
            </a:r>
            <a:endParaRPr b="0" lang="en-US" sz="2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80808"/>
                </a:solidFill>
                <a:latin typeface="Verdana"/>
              </a:rPr>
              <a:t>Dados los altos índices de criminalidad en algunos países del área, las posibilidades de ser víctimas son altas. Nuestra mejor defensa es tomar medidas preventivas que minimicen ese riesgo.</a:t>
            </a:r>
            <a:endParaRPr b="0" lang="en-US" sz="28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AF0B-7966-4544-8503-64042889E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5240" y="-30492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799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coloque en su vehículo calcomanías que puedan identificar donde usted vive, donde trabaja, colegio o universidad que frecuenta, etc. Esto puede ser usado en su cont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Mantenga los vidrios siempre cerrados, o mínimamente abiertos para permitir la entrada de aire y </a:t>
            </a:r>
            <a:r>
              <a:rPr b="0" lang="es-SV" sz="2400" spc="-1" strike="noStrike">
                <a:solidFill>
                  <a:srgbClr val="ff0000"/>
                </a:solidFill>
                <a:latin typeface="Verdana"/>
              </a:rPr>
              <a:t>no una mano extrañ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Las puertas siempre con seguro (Llave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estuviere en un taxi, pida al conductor asegurar las puerta y de ser posible, cerrar los vidrio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le dan un pequeño toque atrás, observe por su retrovisor a las personas que están en el vehículo de atrá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FC84-8644-4D93-A8A0-2663279C10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ff0000"/>
                </a:solidFill>
                <a:latin typeface="Verdana"/>
              </a:rPr>
              <a:t>NO PARE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y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NO SALGA DE SU VEHICULO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. Señale a la persona que lo siga y diríjase a un lugar seguro, de preferencia donde haya policías o guardias de seguridad. ESPECIALMENTE DE NOCHE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la intención era asaltarle, la persona no le seguirá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os asaltos a vehículos sólo son posibles si el vehículo esta detenido, un delincuente no abordará un vehículo en movimiento. Evite detenerse al máxim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PARE a ayudar a extraños en la noche o en lugares poco iluminados. Llame a la policía (911) e informe sobre el lugar/calle donde está la persona que necesite auxili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A7B9-D438-4EAB-BE83-E013D57A0C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estacionó su auto en un lugar desconocido o con poca iluminación, al ingresar: arránquelo, asegure las puertas y salga inmediatamente. Después colóquese el cinturón de seguridad y sólo después prenda la radio, ajuste objetos, etc.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CUANTO MAS TIEMPO ESTACIONADO, MAYOR EL RIESGO DE ABORDAJE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sospecha que un auto lo sigue, no lo haga notar y diríjase hasta un puesto policial o un lugar concurrido donde existan personal de seguridad o policía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l llegar a casa, observe el entorno, lugares donde personas pueden estar escondidas. Si nota algo sospechoso, NO PARE. Siga de largo y llame a alguien de confianza o a la policí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F76E-B378-42C7-99D9-0855CB8255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Evite rutinas, procure variar sus rutas y si es posible también sus horarios de salida y llegad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descuide el mantenimiento de su vehículo para evitar desperfectos que le obliguen a detener su vehículo. Estos desperfectos pueden ocurrir de noche y en lugares remoto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Tenga siempre a mano teléfonos de grúas. El teléfono celular es una herramienta extremadamente útil. Procure mantenerlo siempre con sald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JAMAS pare si su vehículo ha sido alcanzado por piedras o cualquier otro objeto en calles desconocidas o poco iluminada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6722-70C5-40FB-A1B3-2D123BFA90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524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50960" y="137160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50960" y="274320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50960" y="380988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50960" y="5410080"/>
            <a:ext cx="378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665440"/>
            <a:ext cx="6438960" cy="9147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Obedezca rápidam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Obedezca las órdenes del asaltante – repita lo que le ordenan – y hágalas con calma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06560" y="3733920"/>
            <a:ext cx="6438960" cy="14634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Informe de lo que va a hac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Mantenga sus manos donde el asaltante pueda verlas. Informe al asaltante si va a sacar un objeto, abrir la puerta, etc. Y hágalo con movimientos suaves. Recuerde, el asaltante está nervioso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06560" y="5410080"/>
            <a:ext cx="6438960" cy="9147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80808"/>
                </a:solidFill>
                <a:latin typeface="Verdana"/>
              </a:rPr>
              <a:t>Si tuviere que salir del vehícul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Hágalo de manera correcta. Ver las explicaciones a continuación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06560" y="1219320"/>
            <a:ext cx="6438960" cy="131148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80808"/>
                </a:solidFill>
                <a:latin typeface="Verdana"/>
              </a:rPr>
              <a:t>Tenga calma y pida calma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Hágale sentir que él “controla la situación”. Delincuentes asustados o nerviosos utilizan la violencia por impulso o innecesariamente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38400" y="838080"/>
            <a:ext cx="726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Si alguien lo aborda, proceda de la siguiente manera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8B18-AC9F-4A09-8FC8-13F1701B87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2920" y="6248160"/>
            <a:ext cx="80074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16200" y="1295280"/>
            <a:ext cx="2684520" cy="307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695920" y="1295280"/>
            <a:ext cx="2513160" cy="316260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3219480" y="42670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392" h="21600">
                <a:moveTo>
                  <a:pt x="116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392" h="21600">
                <a:moveTo>
                  <a:pt x="9119" y="8224"/>
                </a:moveTo>
                <a:lnTo>
                  <a:pt x="12984" y="8224"/>
                </a:lnTo>
                <a:lnTo>
                  <a:pt x="12984" y="15221"/>
                </a:lnTo>
                <a:lnTo>
                  <a:pt x="14272" y="15221"/>
                </a:lnTo>
                <a:lnTo>
                  <a:pt x="14272" y="16144"/>
                </a:lnTo>
                <a:lnTo>
                  <a:pt x="9119" y="16144"/>
                </a:lnTo>
                <a:lnTo>
                  <a:pt x="9119" y="15221"/>
                </a:lnTo>
                <a:lnTo>
                  <a:pt x="10408" y="15221"/>
                </a:lnTo>
                <a:lnTo>
                  <a:pt x="10408" y="9129"/>
                </a:lnTo>
                <a:lnTo>
                  <a:pt x="9119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7016760" y="4267080"/>
            <a:ext cx="577800" cy="533520"/>
          </a:xfrm>
          <a:custGeom>
            <a:avLst/>
            <a:gdLst>
              <a:gd name="textAreaLeft" fmla="*/ 34560 w 577800"/>
              <a:gd name="textAreaRight" fmla="*/ 543240 w 577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3392" h="21600">
                <a:moveTo>
                  <a:pt x="0" y="0"/>
                </a:moveTo>
                <a:lnTo>
                  <a:pt x="23392" y="0"/>
                </a:lnTo>
                <a:lnTo>
                  <a:pt x="23392" y="21600"/>
                </a:lnTo>
                <a:lnTo>
                  <a:pt x="0" y="21600"/>
                </a:lnTo>
                <a:close/>
              </a:path>
              <a:path fill="lightenLess" w="23392" h="21600">
                <a:moveTo>
                  <a:pt x="0" y="0"/>
                </a:moveTo>
                <a:lnTo>
                  <a:pt x="23392" y="0"/>
                </a:lnTo>
                <a:lnTo>
                  <a:pt x="21992" y="1400"/>
                </a:lnTo>
                <a:lnTo>
                  <a:pt x="1400" y="1400"/>
                </a:lnTo>
                <a:close/>
              </a:path>
              <a:path fill="darken" w="23392" h="21600">
                <a:moveTo>
                  <a:pt x="23392" y="0"/>
                </a:moveTo>
                <a:lnTo>
                  <a:pt x="23392" y="21600"/>
                </a:lnTo>
                <a:lnTo>
                  <a:pt x="21992" y="20200"/>
                </a:lnTo>
                <a:lnTo>
                  <a:pt x="21992" y="1400"/>
                </a:lnTo>
                <a:close/>
              </a:path>
              <a:path fill="darkenLess" w="23392" h="21600">
                <a:moveTo>
                  <a:pt x="23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2" y="20200"/>
                </a:lnTo>
                <a:close/>
              </a:path>
              <a:path fill="lighten" w="23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2" h="21600">
                <a:moveTo>
                  <a:pt x="116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392" h="21600">
                <a:moveTo>
                  <a:pt x="116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392" h="21600">
                <a:moveTo>
                  <a:pt x="9119" y="8224"/>
                </a:moveTo>
                <a:lnTo>
                  <a:pt x="12984" y="8224"/>
                </a:lnTo>
                <a:lnTo>
                  <a:pt x="12984" y="15221"/>
                </a:lnTo>
                <a:lnTo>
                  <a:pt x="14272" y="15221"/>
                </a:lnTo>
                <a:lnTo>
                  <a:pt x="14272" y="16144"/>
                </a:lnTo>
                <a:lnTo>
                  <a:pt x="9119" y="16144"/>
                </a:lnTo>
                <a:lnTo>
                  <a:pt x="9119" y="15221"/>
                </a:lnTo>
                <a:lnTo>
                  <a:pt x="10408" y="15221"/>
                </a:lnTo>
                <a:lnTo>
                  <a:pt x="10408" y="9129"/>
                </a:lnTo>
                <a:lnTo>
                  <a:pt x="9119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8997840" y="586728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3794"/>
                </a:moveTo>
                <a:lnTo>
                  <a:pt x="18707" y="10800"/>
                </a:lnTo>
                <a:lnTo>
                  <a:pt x="4694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16760" y="594360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Sigui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876920"/>
            <a:ext cx="2811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4876920"/>
            <a:ext cx="2811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2BDA-9EF7-4413-93A2-11C9006AADF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02920" y="2437920"/>
            <a:ext cx="8007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a persona baja del vehículo quedando entre la puerta y el delincuente. Como éste está nervioso y apurado por huir, puede empujar a la víctima hacia adentro del vehículo y acabar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llevándosela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(convirtiéndose en posible víctima de un secuestro)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86080" y="1295280"/>
            <a:ext cx="2145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RADO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89F0-5B33-4B52-9B15-465DDB7C86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02920" y="205704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La persona deja el vehículo, alejándose del mismo, dejando la entrada libre para el delincuente, y como él está apurado; disminuye la posibilidad de que la victima sea empujada para adentro y sea llevada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cc0000"/>
                </a:solidFill>
                <a:latin typeface="Verdana"/>
              </a:rPr>
              <a:t>¡¡ NUNCA DE LA ESPALDA AL DELINCUENTE !!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86080" y="1295280"/>
            <a:ext cx="2145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RECTO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C11B-68CF-4F69-B173-FD8966496C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uando el semáforo esté en rojo, observe su entorno. Generalmente los delincuentes atacan por el lado izquierdo, el del conductor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Reduzca su velocidad gradualmente, intentando llegar al cruce cuando la señal este por cambiar a verd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RECUERDE: Vehículo parado es blanco fácil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38B1-0B1D-49E3-8648-6B00DACDBD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las compras en los semáforos. Aunque el vendedor no parezca sospechoso, usted se distrae, al abrir el o los vidrios, se está exponiend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Algunos delincuentes usan niños para preparar el asalto. La criatura se aproxima para pedir dinero o vender algo, y otra persona simultáneamente observa el interior de su auto (celulares, carteras, computadoras, y demás objetos de valor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1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Al mismo tiempo, esta persona puede aprovechar que usted está distraído(a) y meter la mano en su vehículo y darse a la fug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2545-7023-4B2E-8385-97231FC283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cc0000"/>
                </a:solidFill>
                <a:latin typeface="Verdana"/>
              </a:rPr>
              <a:t>CONTENIDO</a:t>
            </a:r>
            <a:endParaRPr b="1" lang="en-US" sz="32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12189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PRINCIPALES AMENAZAS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PREVENCION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ACCIONES DE PREVENCION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CAMINANDO POR LA CALLE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AL TOMAR UN TAXI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EN EL ESTACIONAMIENT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CONDUCIENDO EL AUT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ABORDADO EN EL VEHICUL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EN EL CAJERO AUTOMATICO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00000"/>
              </a:lnSpc>
              <a:spcAft>
                <a:spcPts val="1001"/>
              </a:spcAft>
              <a:buClr>
                <a:srgbClr val="0050a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SI ES ATACADO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1800" spc="-1" strike="noStrike">
                <a:solidFill>
                  <a:srgbClr val="080808"/>
                </a:solidFill>
                <a:latin typeface="Verdana"/>
              </a:rPr>
              <a:t>VALORICE SU VIDA</a:t>
            </a:r>
            <a:endParaRPr b="0" lang="en-US" sz="18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BD39-0FAD-4C0B-8AF8-A58601599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5240" y="-30492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02920" y="6854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oloque maletines, bolsos o carteras en el baúl y el celular en la guante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tiene que detenerse, mantenga siempre el cambio en primera, no en neutr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sospecha de alguna cosa, procure quedar cerca (pegado) al auto a su izquierda, no dejando espacio para el abordaj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Manténgase atento a su entorno. No se distraig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“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La sorpresa es la mejor arma del delincuente”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D101-FD62-429C-B59A-79C8549D9E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20840" y="1295280"/>
            <a:ext cx="8337600" cy="4724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9dd9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38600" y="4190760"/>
            <a:ext cx="28112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80808"/>
                </a:solidFill>
                <a:latin typeface="Verdana"/>
              </a:rPr>
              <a:t>Hacer click para explicación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512120" y="3276720"/>
            <a:ext cx="679320" cy="662040"/>
          </a:xfrm>
          <a:custGeom>
            <a:avLst/>
            <a:gdLst>
              <a:gd name="textAreaLeft" fmla="*/ 42840 w 679320"/>
              <a:gd name="textAreaRight" fmla="*/ 636480 w 679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163" h="21600">
                <a:moveTo>
                  <a:pt x="0" y="0"/>
                </a:moveTo>
                <a:lnTo>
                  <a:pt x="22163" y="0"/>
                </a:lnTo>
                <a:lnTo>
                  <a:pt x="22163" y="21600"/>
                </a:lnTo>
                <a:lnTo>
                  <a:pt x="0" y="21600"/>
                </a:lnTo>
                <a:close/>
              </a:path>
              <a:path fill="lightenLess" w="22163" h="21600">
                <a:moveTo>
                  <a:pt x="0" y="0"/>
                </a:moveTo>
                <a:lnTo>
                  <a:pt x="22163" y="0"/>
                </a:lnTo>
                <a:lnTo>
                  <a:pt x="20763" y="1400"/>
                </a:lnTo>
                <a:lnTo>
                  <a:pt x="1400" y="1400"/>
                </a:lnTo>
                <a:close/>
              </a:path>
              <a:path fill="darken" w="22163" h="21600">
                <a:moveTo>
                  <a:pt x="22163" y="0"/>
                </a:moveTo>
                <a:lnTo>
                  <a:pt x="22163" y="21600"/>
                </a:lnTo>
                <a:lnTo>
                  <a:pt x="20763" y="20200"/>
                </a:lnTo>
                <a:lnTo>
                  <a:pt x="20763" y="1400"/>
                </a:lnTo>
                <a:close/>
              </a:path>
              <a:path fill="darkenLess" w="22163" h="21600">
                <a:moveTo>
                  <a:pt x="22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63" y="20200"/>
                </a:lnTo>
                <a:close/>
              </a:path>
              <a:path fill="lighten" w="22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63" h="21600">
                <a:moveTo>
                  <a:pt x="110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163" h="21600">
                <a:moveTo>
                  <a:pt x="110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163" h="21600">
                <a:moveTo>
                  <a:pt x="8505" y="8224"/>
                </a:moveTo>
                <a:lnTo>
                  <a:pt x="12370" y="8224"/>
                </a:lnTo>
                <a:lnTo>
                  <a:pt x="12370" y="15221"/>
                </a:lnTo>
                <a:lnTo>
                  <a:pt x="13658" y="15221"/>
                </a:lnTo>
                <a:lnTo>
                  <a:pt x="13658" y="16144"/>
                </a:lnTo>
                <a:lnTo>
                  <a:pt x="8505" y="16144"/>
                </a:lnTo>
                <a:lnTo>
                  <a:pt x="8505" y="15221"/>
                </a:lnTo>
                <a:lnTo>
                  <a:pt x="9794" y="15221"/>
                </a:lnTo>
                <a:lnTo>
                  <a:pt x="9794" y="9129"/>
                </a:lnTo>
                <a:lnTo>
                  <a:pt x="8505" y="9129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8997840" y="586728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3794"/>
                </a:moveTo>
                <a:lnTo>
                  <a:pt x="18707" y="10800"/>
                </a:lnTo>
                <a:lnTo>
                  <a:pt x="4694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16760" y="594360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Sigui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341F-0211-4A82-A22E-9A2543B0BD2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PARADA EN SEMAFOR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02920" y="12952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En general, el centro de la calle o avenida es lo más segura, pues el delincuente irá a asaltar después de observar desde la acera o del parterre central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rocure mantener distancia del auto de enfrente, </a:t>
            </a:r>
            <a:r>
              <a:rPr b="0" lang="es-SV" sz="1600" spc="-1" strike="noStrike">
                <a:solidFill>
                  <a:srgbClr val="0050aa"/>
                </a:solidFill>
                <a:latin typeface="Verdana"/>
              </a:rPr>
              <a:t>lo suficiente para visualizar las llantas traseras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, así usted podrá evadir rápidamente sin hacer mayores maniobras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la intención fuera robar su auto, las primeras posiciones son más peligrosas, pues el asaltante tendrá su frente libre para dejar el lugar rápidamente.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i la intención fuera robar objetos, las ultimas posiciones también se tornan peligrosas ya que el delincuente no se expondrá demasiado y tendrá mayor facilidad de escape por atrás del auto, sin tener que transitar entre otros vehículos parados. 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1650960" y="5943600"/>
            <a:ext cx="495360" cy="457200"/>
          </a:xfrm>
          <a:custGeom>
            <a:avLst/>
            <a:gdLst>
              <a:gd name="textAreaLeft" fmla="*/ 29520 w 495360"/>
              <a:gd name="textAreaRight" fmla="*/ 465840 w 49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401" h="21600">
                <a:moveTo>
                  <a:pt x="0" y="0"/>
                </a:moveTo>
                <a:lnTo>
                  <a:pt x="23401" y="0"/>
                </a:lnTo>
                <a:lnTo>
                  <a:pt x="23401" y="21600"/>
                </a:lnTo>
                <a:lnTo>
                  <a:pt x="0" y="21600"/>
                </a:lnTo>
                <a:close/>
              </a:path>
              <a:path fill="lightenLess" w="23401" h="21600">
                <a:moveTo>
                  <a:pt x="0" y="0"/>
                </a:moveTo>
                <a:lnTo>
                  <a:pt x="23401" y="0"/>
                </a:lnTo>
                <a:lnTo>
                  <a:pt x="22001" y="1400"/>
                </a:lnTo>
                <a:lnTo>
                  <a:pt x="1400" y="1400"/>
                </a:lnTo>
                <a:close/>
              </a:path>
              <a:path fill="darken" w="23401" h="21600">
                <a:moveTo>
                  <a:pt x="23401" y="0"/>
                </a:moveTo>
                <a:lnTo>
                  <a:pt x="23401" y="21600"/>
                </a:lnTo>
                <a:lnTo>
                  <a:pt x="22001" y="20200"/>
                </a:lnTo>
                <a:lnTo>
                  <a:pt x="22001" y="1400"/>
                </a:lnTo>
                <a:close/>
              </a:path>
              <a:path fill="darkenLess" w="23401" h="21600">
                <a:moveTo>
                  <a:pt x="23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1" y="20200"/>
                </a:lnTo>
                <a:close/>
              </a:path>
              <a:path fill="lighten" w="23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" h="21600">
                <a:moveTo>
                  <a:pt x="4694" y="10800"/>
                </a:moveTo>
                <a:lnTo>
                  <a:pt x="18707" y="3794"/>
                </a:lnTo>
                <a:lnTo>
                  <a:pt x="18707" y="17806"/>
                </a:lnTo>
                <a:close/>
              </a:path>
            </a:pathLst>
          </a:cu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28760" y="6019920"/>
            <a:ext cx="165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50aa"/>
                </a:solidFill>
                <a:latin typeface="Verdana"/>
              </a:rPr>
              <a:t>Vol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E647-47A9-4C84-AFE9-D853B0A32DA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EN EL CAJERO AUTOMATICO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03280" y="1142640"/>
            <a:ext cx="819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ida al banco que su tarjeta de débito tenga un límite bajo para retiros de cajeros automático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Utilice los cajeros de bancos, supermercados, centros comerciales, estaciones de servicio u otros locales donde hay personal de seguridad y/o muchas persona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confíe solamente en las cámaras de seguridad, </a:t>
            </a: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ellas no impiden que alguien le asalte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acepte ayuda de extraños cuando estuviere en un cajero automátic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indent="0" algn="just">
              <a:lnSpc>
                <a:spcPct val="12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7B3D-8B93-4F38-A1C1-81EAA2DB6A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2800" y="-49536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920" y="609480"/>
            <a:ext cx="800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Observe contactos con personas si ocurren más de una vez en los alrededores o dentro de tiendas. En un centro comercial circula mucha gente; siendo así, no es común cruzarse con la misma persona y sentirse observado(a) más de una o dos veces. Esa persona puede estar observándolo(a) para seleccionarlo(a)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50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Si nota algo extraño, procure entrar a una tienda poco común (hombres en tiendas de lencería y mujeres en tiendas de herramientas por ejemplo). Si la persona entra o queda del lado de afuera observando, es muy probable que usted está en el proceso </a:t>
            </a:r>
            <a:r>
              <a:rPr b="0" lang="es-SV" sz="2400" spc="-1" strike="noStrike">
                <a:solidFill>
                  <a:srgbClr val="0050aa"/>
                </a:solidFill>
                <a:latin typeface="Verdana"/>
              </a:rPr>
              <a:t>“selección de víctimas”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69DD-D838-455A-A93A-B433BDA170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5240" y="-381240"/>
            <a:ext cx="7759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cc0000"/>
                </a:solidFill>
                <a:latin typeface="Verdana"/>
              </a:rPr>
              <a:t>DURANTE LAS COMPRA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6094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Si eso ocurre, busque a seguridad del centro comercial y explique la situación. A la hora de partir, pida que alguien de seguridad le acompañe hasta el aut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Al percibir el delincuente que usted no es un blanco fácil, podría desistir de la acción contra usted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lleve muchas tarjetas de crédito, mucho dinero o talonarios de cheque. Programe su compra, escoja como irá a pagar y salga de su casa sólo con lo necesari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No abra la cartera frente al cajero(a), dejando que él(ella) vea sus tarjetas o efectivo. Se ha reportado de cajeros que pasan información vía celular a delincuentes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algn="just">
              <a:lnSpc>
                <a:spcPct val="120000"/>
              </a:lnSpc>
              <a:spcAft>
                <a:spcPts val="1250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SV" sz="2000" spc="-1" strike="noStrike">
                <a:solidFill>
                  <a:srgbClr val="0050aa"/>
                </a:solidFill>
                <a:latin typeface="Verdana"/>
              </a:rPr>
              <a:t>Los delincuentes observan durante las compras, siguen hasta el estacionamiento, identifican el auto y aguardan la mejor oportunidad para el asalto.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3806-9322-4CC0-9AF0-5995991304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SI ES ATACADO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55600" y="1218960"/>
            <a:ext cx="8585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CONSERVE   LA  CALM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ida calma al delincuent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Haga que él se sienta con el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control de la situación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 u="sng">
                <a:solidFill>
                  <a:srgbClr val="cc0000"/>
                </a:solidFill>
                <a:uFillTx/>
                <a:latin typeface="Verdana"/>
              </a:rPr>
              <a:t>Nunca se resist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, entregue los objetos que le sean pedidos. </a:t>
            </a:r>
            <a:r>
              <a:rPr b="0" lang="es-SV" sz="2400" spc="-1" strike="noStrike">
                <a:solidFill>
                  <a:srgbClr val="003c7e"/>
                </a:solidFill>
                <a:latin typeface="Verdana"/>
              </a:rPr>
              <a:t>Evite llevar grandes valores, documentos importantes u objetos de gran estima, así usted no crea la tendencia psicológica de resistir al asalto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o transmita ENOJO o sentimiento de venganz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14720" indent="-41472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Contra un arma de fuego, no existe fuerza física suficiente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C647-42B7-4059-B6D7-44A784A9E4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240" y="-152640"/>
            <a:ext cx="7759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cc0000"/>
                </a:solidFill>
                <a:latin typeface="Verdana"/>
              </a:rPr>
              <a:t>SI ES ATACADO</a:t>
            </a:r>
            <a:endParaRPr b="1" lang="en-US" sz="28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028520"/>
            <a:ext cx="889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unca cree situaciones que hagan al delincuente sentir que está perdiendo el control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Nunca responda a las agresiones físicas contra usted o sus acompañante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Recuerde: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el objetivo principal es sobrevivir al asalto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Personas que son asaltadas y salen vivas no son noticia, las muertas sí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397800" indent="-397800" algn="just">
              <a:lnSpc>
                <a:spcPct val="120000"/>
              </a:lnSpc>
              <a:spcAft>
                <a:spcPts val="1500"/>
              </a:spcAft>
              <a:buClr>
                <a:srgbClr val="080808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l delincuente drogado o bebido tiene reflejos alterados; siendo así, haga TODO con mucha calma y con movimientos suaves INFORMANDO sus acciones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D2AA-FE73-4222-945B-9D3806925A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VALORICE SU VIDA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55600" y="990360"/>
            <a:ext cx="858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Preocúpese siempre en evitar ser víctima de asaltos,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actúe en la prevención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, adquiera una postura segura y pro-activ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provocaciones en el tránsito, en bares o discotecas. Eso es señal de </a:t>
            </a:r>
            <a:r>
              <a:rPr b="0" lang="es-SV" sz="2400" spc="-1" strike="noStrike">
                <a:solidFill>
                  <a:srgbClr val="003c7e"/>
                </a:solidFill>
                <a:latin typeface="Verdana"/>
              </a:rPr>
              <a:t>inteligencia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 y no de cobardí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Durante un asalto, entregue todos los objetos que le sean pedidos. No hay nada más valioso que la vid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marL="406440" indent="-406440" algn="just">
              <a:lnSpc>
                <a:spcPct val="120000"/>
              </a:lnSpc>
              <a:spcAft>
                <a:spcPts val="1500"/>
              </a:spcAft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Evite toda o cualquier situación que le pueda exponer a </a:t>
            </a:r>
            <a:r>
              <a:rPr b="0" lang="es-SV" sz="2400" spc="-1" strike="noStrike">
                <a:solidFill>
                  <a:srgbClr val="cc0000"/>
                </a:solidFill>
                <a:latin typeface="Verdana"/>
              </a:rPr>
              <a:t>Riesgos Innecesarios</a:t>
            </a:r>
            <a:r>
              <a:rPr b="0" lang="es-SV" sz="2400" spc="-1" strike="noStrike">
                <a:solidFill>
                  <a:srgbClr val="08080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C059-A839-475F-9C0F-06E9871C87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240" y="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4000" spc="-1" strike="noStrike">
                <a:solidFill>
                  <a:srgbClr val="cc0000"/>
                </a:solidFill>
                <a:latin typeface="Verdana"/>
              </a:rPr>
              <a:t>VALORICE SU VIDA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812880" y="1193760"/>
            <a:ext cx="97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e0000"/>
                </a:solidFill>
                <a:latin typeface="Arial"/>
              </a:rPr>
              <a:t>POR FAVOR REENVIEN ESTO A SUS FAMILIARES Y  AMIGO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3199680"/>
            <a:ext cx="728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80808"/>
                </a:solidFill>
                <a:latin typeface="Arial"/>
              </a:rPr>
              <a:t>HÁGANLO COMO CCO:  PARA QUE A </a:t>
            </a:r>
            <a:r>
              <a:rPr b="1" lang="es-ES" sz="3600" spc="-1" strike="noStrike">
                <a:solidFill>
                  <a:srgbClr val="080808"/>
                </a:solidFill>
                <a:latin typeface="Arial"/>
              </a:rPr>
              <a:t>TODOS</a:t>
            </a:r>
            <a:r>
              <a:rPr b="1" lang="es-ES" sz="3200" spc="-1" strike="noStrike">
                <a:solidFill>
                  <a:srgbClr val="080808"/>
                </a:solidFill>
                <a:latin typeface="Arial"/>
              </a:rPr>
              <a:t> LES LLEGUE, Y NO SE FORME UNA LISTA INTERMINABLE DE DIRECCIONES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E0ED-B5C7-488D-9419-A23E2D25E4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2800" y="-22860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PRINCIPALES AMENAZAS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99072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95280" y="205740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3105000"/>
            <a:ext cx="495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4038480"/>
            <a:ext cx="495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191120"/>
            <a:ext cx="7696080" cy="65520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extorsivo</a:t>
            </a:r>
            <a:r>
              <a:rPr b="0" lang="es-SV" sz="2100" spc="-1" strike="noStrike">
                <a:solidFill>
                  <a:srgbClr val="080808"/>
                </a:solidFill>
                <a:latin typeface="Verdana"/>
              </a:rPr>
              <a:t> – </a:t>
            </a: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n pedido de rescat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Seleccionado por estatus, nivel económico, etc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048120"/>
            <a:ext cx="769608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con vehículo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ara robar el vehículo. Cualquier vehículo está sujeto al secuestro.          Es hecho por encargo de año, color, marca y/o modelo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773424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Asalto a mano armada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Para robar prendas de valor, teléfonos celulares, etc. Las consecuencias están relacionadas a la reacción de la víctim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981080"/>
            <a:ext cx="7696080" cy="898560"/>
          </a:xfrm>
          <a:prstGeom prst="rect">
            <a:avLst/>
          </a:prstGeom>
          <a:gradFill rotWithShape="0">
            <a:gsLst>
              <a:gs pos="0">
                <a:srgbClr val="bfe9f5"/>
              </a:gs>
              <a:gs pos="100000">
                <a:srgbClr val="009d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100" spc="-1" strike="noStrike">
                <a:solidFill>
                  <a:srgbClr val="080808"/>
                </a:solidFill>
                <a:latin typeface="Verdana"/>
              </a:rPr>
              <a:t>Secuestro EXPRESS o relámpago</a:t>
            </a:r>
            <a:endParaRPr b="0" lang="en-US" sz="21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80808"/>
                </a:solidFill>
                <a:latin typeface="Verdana"/>
              </a:rPr>
              <a:t>Con duración de 1 a 24 horas generalmente, para realizar extracciones y transacciones bancarias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105520"/>
            <a:ext cx="7696080" cy="885600"/>
          </a:xfrm>
          <a:prstGeom prst="rect">
            <a:avLst/>
          </a:prstGeom>
          <a:gradFill rotWithShape="0">
            <a:gsLst>
              <a:gs pos="0">
                <a:srgbClr val="009dd9"/>
              </a:gs>
              <a:gs pos="100000">
                <a:srgbClr val="bfe9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Asesinat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En Bogotá (Colombia): hay aproximadamente 98 muertos por di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En São Paulo (Brasil): hay aproximadamente 12 muertos por dia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71600" y="5105520"/>
            <a:ext cx="49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50a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</a:t>
            </a:r>
            <a:endParaRPr b="0" lang="en-US" sz="2400" spc="1" strike="noStrike">
              <a:ln w="19080">
                <a:solidFill>
                  <a:srgbClr val="0050a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35A3-97FF-40B3-9CDB-16940BFC2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71640" y="1269360"/>
            <a:ext cx="870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50aa"/>
                </a:solidFill>
                <a:latin typeface="Arial"/>
              </a:rPr>
              <a:t>LO IMPORTANTE ES DIFUNDIRLO,  RECUERDEN:                     REENVIARLO  NO CUESTA NADA, CON ELLO ESTAMOS TRABAJANDO EN LA </a:t>
            </a:r>
            <a:r>
              <a:rPr b="1" lang="es-ES" sz="3600" spc="-1" strike="noStrike">
                <a:solidFill>
                  <a:srgbClr val="cc0000"/>
                </a:solidFill>
                <a:latin typeface="Arial"/>
              </a:rPr>
              <a:t>PREVENCION,</a:t>
            </a:r>
            <a:r>
              <a:rPr b="1" lang="es-ES" sz="3600" spc="-1" strike="noStrike">
                <a:solidFill>
                  <a:srgbClr val="0050aa"/>
                </a:solidFill>
                <a:latin typeface="Arial"/>
              </a:rPr>
              <a:t> PARA QUE             NO LE PASE ALGO DE ESTO,                    A UN FAMILIAR O A UN AMIGO(A) . </a:t>
            </a:r>
            <a:endParaRPr b="0" lang="en-US" sz="3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7C35-5497-4F69-B084-42DBEA014D7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19320" y="3970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ee0000"/>
                </a:solidFill>
                <a:latin typeface="Arial"/>
              </a:rPr>
              <a:t>REENVÍALO,  COLABOREMOS EN SU DIFUSIÓN .......... POR EL BIEN DE TODOS….</a:t>
            </a:r>
            <a:endParaRPr b="0" lang="en-US" sz="4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23880" y="4038480"/>
            <a:ext cx="8137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CHAS GRACIAS!. </a:t>
            </a:r>
            <a:endParaRPr b="0" lang="en-US" sz="2400" spc="1" strike="noStrike">
              <a:ln w="381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BBBD-B69A-4B38-854B-3C33C2B08A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71800" y="457200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58128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2286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0000"/>
                </a:solidFill>
                <a:latin typeface="Arial Narrow"/>
              </a:rPr>
              <a:t>PREVENCION</a:t>
            </a:r>
            <a:endParaRPr b="0" lang="en-US" sz="4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21932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80808"/>
                </a:solidFill>
                <a:latin typeface="Arial"/>
              </a:rPr>
              <a:t>Nada está garantizado en un 100% cuando se trata de Seguridad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262908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0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00200" y="361944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00200" y="4610160"/>
            <a:ext cx="106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590920"/>
            <a:ext cx="5715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708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PREVENC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672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REACCION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665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Arial"/>
              </a:rPr>
              <a:t>SUERT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57913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La prevención representa el 90% de la seguridad.             Por eso las acciones se deben concentrar en esta etapa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429000"/>
            <a:ext cx="5715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419720"/>
            <a:ext cx="5715000" cy="0"/>
          </a:xfrm>
          <a:prstGeom prst="line">
            <a:avLst/>
          </a:prstGeom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037-825F-4AED-A32B-A9197B19A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81760" y="2971800"/>
            <a:ext cx="46717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6840" y="30492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Arial Narrow"/>
              </a:rPr>
              <a:t>PREPARACION  DE  UN ASALTO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2960" y="990720"/>
            <a:ext cx="789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80808"/>
                </a:solidFill>
                <a:latin typeface="Arial"/>
              </a:rPr>
              <a:t>En general todo asalto tiene una cierta preparación que consiste en: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22924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871640" y="21780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4320" y="23065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Elección del blanc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209680"/>
            <a:ext cx="441936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2133720"/>
            <a:ext cx="44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sta fase puede llevar meses, dias o apenas unos segundos. Es la fase en que el delincuente elige a quién atacar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95280" y="313056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871640" y="301608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2971800"/>
            <a:ext cx="30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Identificación del blanc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895480"/>
            <a:ext cx="46479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sto ocurre luego de elegir el blanco. Generalmente es el más débil, el más distraído o el que tiene lo que el delincuente busca</a:t>
            </a: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(dinero, modelo de auto, etc.),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1760" y="3778200"/>
            <a:ext cx="43671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38926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871640" y="37782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4320" y="39067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Vigilancia (*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81760" y="3809880"/>
            <a:ext cx="44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Período en que el delincuente evalúa la situación antes de atac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1760" y="4584600"/>
            <a:ext cx="46717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46990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871640" y="45846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4320" y="47131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Planeamiento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4495680"/>
            <a:ext cx="4595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80808"/>
                </a:solidFill>
                <a:latin typeface="Arial"/>
              </a:rPr>
              <a:t>El delincuente tiene todo lo que necesita; ahora planea cómo será el ataque (dia, hora, lugar, forma de abordarlo, arma, etc).</a:t>
            </a:r>
            <a:endParaRPr b="0" lang="en-US" sz="13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98960" y="5410080"/>
            <a:ext cx="46785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e9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5492880"/>
            <a:ext cx="390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.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871640" y="5378400"/>
            <a:ext cx="3044880" cy="685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4320" y="5506920"/>
            <a:ext cx="30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80808"/>
                </a:solidFill>
                <a:latin typeface="Arial"/>
              </a:rPr>
              <a:t>Ataque (**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5332320"/>
            <a:ext cx="459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El delincuente ataca. En esta fase ya no hay cómo hacer prevención, y menos del 5% de las acciones de interrupción tienen éxito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23960" y="6032520"/>
            <a:ext cx="76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(*)   Es el mejor momento para interrumpir la acción del delincuente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80808"/>
                </a:solidFill>
                <a:latin typeface="Arial"/>
              </a:rPr>
              <a:t>(**) Es el peor momento para interrumpir la acción del delincuente.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71640" y="293688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71640" y="37339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45133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1640" y="5334120"/>
            <a:ext cx="71596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4920" y="2168640"/>
            <a:ext cx="0" cy="38862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7ADD-A28A-410D-B66B-514A60007F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295280" y="228600"/>
            <a:ext cx="7620120" cy="5562720"/>
            <a:chOff x="1295280" y="228600"/>
            <a:chExt cx="7620120" cy="5562720"/>
          </a:xfrm>
        </p:grpSpPr>
        <p:sp>
          <p:nvSpPr>
            <p:cNvPr id="169" name=""/>
            <p:cNvSpPr/>
            <p:nvPr/>
          </p:nvSpPr>
          <p:spPr>
            <a:xfrm>
              <a:off x="1295280" y="1905120"/>
              <a:ext cx="76201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e9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90920" y="228600"/>
              <a:ext cx="63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cc0000"/>
                  </a:solidFill>
                  <a:latin typeface="Arial Narrow"/>
                </a:rPr>
                <a:t>REGLAS 1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7920" y="1108080"/>
              <a:ext cx="7391160" cy="43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80808"/>
                  </a:solidFill>
                  <a:latin typeface="Arial"/>
                </a:rPr>
                <a:t>El delincuente:</a:t>
              </a: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No quiere exponerse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Siempre elige sus víctimas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Siempre elige lo más fácil, es decir el más desprevenido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Durante un asalto el delincuente está nervioso, receloso y desconfiado;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buClr>
                  <a:srgbClr val="080808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pt-BR" sz="2200" spc="-1" strike="noStrike">
                  <a:solidFill>
                    <a:srgbClr val="080808"/>
                  </a:solidFill>
                  <a:latin typeface="Arial"/>
                </a:rPr>
                <a:t>Reaccionar es una actitud de altísimo riesgo. </a:t>
              </a:r>
              <a:endParaRPr b="0" lang="en-US" sz="2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C348-BB12-4AC1-955E-93157C70F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90920" y="2286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 Narrow"/>
              </a:rPr>
              <a:t>REGLAS 2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108080"/>
            <a:ext cx="8153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El delincuente no tiene un aspecto determinado. El modelo de delincuente mal vestido quedó atras: Hoy, muchas personas narran que fueron abordadas en semáforos por delincuentes elegantes de traje y corbata, y al abrir el vidrio fueron asaltadas. 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También aumentó mucho la participación de mujeres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732120"/>
            <a:ext cx="792504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6600"/>
                </a:solidFill>
                <a:latin typeface="Arial"/>
              </a:rPr>
              <a:t>Observe siempre: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El comportamiento, un poco nervioso, inquieto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Las manos (generalmente escondidas en los  bolsos);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80808"/>
                </a:solidFill>
                <a:latin typeface="Arial"/>
              </a:rPr>
              <a:t>Los ojos (dicen que los ojos son el reflejo del alma, y esto es verdad: observe los ojos y sabrá si tiene mala intención o no).</a:t>
            </a:r>
            <a:endParaRPr b="0" lang="en-US" sz="2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0435-F31E-4549-B0FE-E7ED4F634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ACCIONES DE PREVENCION</a:t>
            </a:r>
            <a:endParaRPr b="1" lang="en-US" sz="40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5240" y="2209680"/>
            <a:ext cx="842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528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Creer que no le va a ocurrir a usted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0">
              <a:lnSpc>
                <a:spcPct val="11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0">
              <a:lnSpc>
                <a:spcPct val="11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Permitir que ocurra.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3280" y="14479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RADO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71600" y="3886200"/>
            <a:ext cx="233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RRECTO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1320840" y="4724280"/>
            <a:ext cx="842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395280" indent="-280800" algn="ctr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80808"/>
                </a:solidFill>
                <a:latin typeface="Verdana"/>
              </a:rPr>
              <a:t>Actuar preventivamente, evitando que ocurra el “ACERCAMIENTO”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576E-A905-4D9C-A6EC-C8C89822B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3:13:00Z</dcterms:created>
  <dc:creator>Avila Bauman, Ricardo - rajw on 789G4TD</dc:creator>
  <dc:description/>
  <cp:keywords/>
  <dc:language>en-US</dc:language>
  <cp:lastModifiedBy>MUNICIPIO-GYE</cp:lastModifiedBy>
  <cp:lastPrinted>2005-05-02T21:07:18Z</cp:lastPrinted>
  <dcterms:modified xsi:type="dcterms:W3CDTF">2009-06-26T16:53:47Z</dcterms:modified>
  <cp:revision>31</cp:revision>
  <dc:subject/>
  <dc:title>SEGURIDAD PERSONAL EN AREAS DE ALTO RIESGO</dc:title>
</cp:coreProperties>
</file>