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907588" cy="6858000"/>
  <p:notesSz cx="9717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716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102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3001680" y="514440"/>
            <a:ext cx="371484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2"/>
          </p:nvPr>
        </p:nvSpPr>
        <p:spPr>
          <a:xfrm>
            <a:off x="-360" y="6515280"/>
            <a:ext cx="42102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3"/>
          </p:nvPr>
        </p:nvSpPr>
        <p:spPr>
          <a:xfrm>
            <a:off x="5505120" y="6515280"/>
            <a:ext cx="42102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ED32-1728-4F6E-B259-0834267BF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300204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tes go her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FA03-8C71-4F58-88F8-81A29E3E8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842004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55240" y="3963240"/>
            <a:ext cx="842004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76AD-B046-45DB-9D8A-A9DCE5BAD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698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55240" y="396324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69840" y="396324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14F3-F8CA-4949-BFCC-FFAA8DB86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02480" y="113148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49360" y="113148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55240" y="396324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02480" y="396324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849360" y="396324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A0A5-DCB3-4669-80BC-AA5107E11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55240" y="1131480"/>
            <a:ext cx="8420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84200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4108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840" y="1131480"/>
            <a:ext cx="4108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5240" y="0"/>
            <a:ext cx="7759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9840" y="1131480"/>
            <a:ext cx="4108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55240" y="396324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55240" y="1131480"/>
            <a:ext cx="8420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9D6B-C370-4DE2-A322-BE2D83307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4108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698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69840" y="396324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4698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55240" y="3963240"/>
            <a:ext cx="842004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842004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55240" y="3963240"/>
            <a:ext cx="842004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4698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55240" y="396324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469840" y="396324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02480" y="113148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49360" y="113148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55240" y="396324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002480" y="396324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849360" y="396324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84200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31C6-7948-41BE-A537-C39412CE5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4108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69840" y="1131480"/>
            <a:ext cx="4108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DFA2E-9F51-45CD-AB95-40653C9C7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7524-F8A7-4E36-9799-3CC27B8D9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5240" y="0"/>
            <a:ext cx="7759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2F70-7223-4BC8-A8E9-3A5EBF0F7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9840" y="1131480"/>
            <a:ext cx="4108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55240" y="396324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FE45-F822-492D-B08F-90A202DE5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4108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98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69840" y="396324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078D-E7DF-47DB-945E-F09E95E9D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98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55240" y="3963240"/>
            <a:ext cx="842004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A4AE-35BE-4027-9A61-FA0EC5DF2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502120" y="6533640"/>
            <a:ext cx="132084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8080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FF9D-359B-4A89-8FDD-EB8546AED7A4}" type="slidenum">
              <a:rPr b="0" lang="en-US" sz="800" spc="-1" strike="noStrike">
                <a:solidFill>
                  <a:srgbClr val="080808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dd9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155240" y="1131480"/>
            <a:ext cx="84200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1" marL="395280" indent="-280800">
              <a:lnSpc>
                <a:spcPct val="120000"/>
              </a:lnSpc>
              <a:spcAft>
                <a:spcPts val="1375"/>
              </a:spcAft>
              <a:buClr>
                <a:srgbClr val="f46d1f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-280800">
              <a:lnSpc>
                <a:spcPct val="120000"/>
              </a:lnSpc>
              <a:spcAft>
                <a:spcPts val="1375"/>
              </a:spcAft>
              <a:buClr>
                <a:srgbClr val="0050aa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3" marL="1374840" indent="-292320">
              <a:lnSpc>
                <a:spcPct val="120000"/>
              </a:lnSpc>
              <a:spcAft>
                <a:spcPts val="1375"/>
              </a:spcAft>
              <a:buClr>
                <a:srgbClr val="6ea20a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4" marL="1832040" indent="-292320">
              <a:lnSpc>
                <a:spcPct val="120000"/>
              </a:lnSpc>
              <a:spcAft>
                <a:spcPts val="1375"/>
              </a:spcAft>
              <a:buClr>
                <a:srgbClr val="8e7e75"/>
              </a:buClr>
              <a:buFont typeface="Wingdings" charset="2"/>
              <a:buChar char="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5" marL="1832040" indent="-292320">
              <a:lnSpc>
                <a:spcPct val="120000"/>
              </a:lnSpc>
              <a:spcAft>
                <a:spcPts val="1375"/>
              </a:spcAft>
              <a:buClr>
                <a:srgbClr val="080808"/>
              </a:buClr>
              <a:buFont typeface="Wingdings" charset="2"/>
              <a:buChar char="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6" marL="1832040" indent="-292320">
              <a:lnSpc>
                <a:spcPct val="120000"/>
              </a:lnSpc>
              <a:spcAft>
                <a:spcPts val="1375"/>
              </a:spcAft>
              <a:buClr>
                <a:srgbClr val="080808"/>
              </a:buClr>
              <a:buFont typeface="Wingdings" charset="2"/>
              <a:buChar char="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9132840" y="228600"/>
            <a:ext cx="52560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5480" y="1295280"/>
            <a:ext cx="165240" cy="5257800"/>
          </a:xfrm>
          <a:prstGeom prst="rect">
            <a:avLst/>
          </a:prstGeom>
          <a:solidFill>
            <a:srgbClr val="d4c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0240" y="1295280"/>
            <a:ext cx="82800" cy="5257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295280"/>
            <a:ext cx="660240" cy="52578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6534000"/>
            <a:ext cx="313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767"/>
                </a:solidFill>
                <a:latin typeface="Verdana"/>
              </a:rPr>
              <a:t>DOC ID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5440" y="6581880"/>
            <a:ext cx="101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767"/>
                </a:solidFill>
                <a:latin typeface="Verdana"/>
              </a:rPr>
              <a:t>© Chevron 2006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4622760" y="6531120"/>
            <a:ext cx="4678200" cy="326880"/>
            <a:chOff x="4622760" y="6531120"/>
            <a:chExt cx="4678200" cy="326880"/>
          </a:xfrm>
        </p:grpSpPr>
        <p:pic>
          <p:nvPicPr>
            <p:cNvPr id="10" name="" descr=""/>
            <p:cNvPicPr/>
            <p:nvPr/>
          </p:nvPicPr>
          <p:blipFill>
            <a:blip r:embed="rId3"/>
            <a:srcRect l="61240" t="37744" r="0" b="2423"/>
            <a:stretch/>
          </p:blipFill>
          <p:spPr>
            <a:xfrm>
              <a:off x="8710920" y="6531120"/>
              <a:ext cx="59004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22760" y="6548400"/>
              <a:ext cx="4045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dd9"/>
                  </a:solidFill>
                  <a:latin typeface="Verdana"/>
                </a:rPr>
                <a:t>Global Security</a:t>
              </a:r>
              <a:endParaRPr b="0" lang="en-US" sz="1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91280" y="1600200"/>
            <a:ext cx="2558880" cy="20574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7920" y="1600200"/>
            <a:ext cx="5283360" cy="2057400"/>
          </a:xfrm>
          <a:prstGeom prst="rect">
            <a:avLst/>
          </a:prstGeom>
          <a:solidFill>
            <a:srgbClr val="005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91280" y="1600200"/>
            <a:ext cx="907920" cy="2057400"/>
          </a:xfrm>
          <a:prstGeom prst="rect">
            <a:avLst/>
          </a:prstGeom>
          <a:solidFill>
            <a:srgbClr val="0050a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3040" y="1600200"/>
            <a:ext cx="82440" cy="2057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600200"/>
            <a:ext cx="660240" cy="20574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0960" y="355680"/>
            <a:ext cx="922320" cy="939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832960" y="1600200"/>
            <a:ext cx="1073160" cy="2057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3160" y="1828800"/>
            <a:ext cx="4952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1155600" y="6534000"/>
            <a:ext cx="313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767"/>
                </a:solidFill>
                <a:latin typeface="Verdana"/>
              </a:rPr>
              <a:t>DOC ID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440" y="6581880"/>
            <a:ext cx="101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767"/>
                </a:solidFill>
                <a:latin typeface="Verdana"/>
              </a:rPr>
              <a:t>© Chevron 2006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219480" y="561960"/>
            <a:ext cx="6411600" cy="716040"/>
            <a:chOff x="3219480" y="561960"/>
            <a:chExt cx="6411600" cy="716040"/>
          </a:xfrm>
        </p:grpSpPr>
        <p:pic>
          <p:nvPicPr>
            <p:cNvPr id="59" name="" descr=""/>
            <p:cNvPicPr/>
            <p:nvPr/>
          </p:nvPicPr>
          <p:blipFill>
            <a:blip r:embed="rId3"/>
            <a:srcRect l="61240" t="37744" r="0" b="2423"/>
            <a:stretch/>
          </p:blipFill>
          <p:spPr>
            <a:xfrm>
              <a:off x="8774640" y="809640"/>
              <a:ext cx="85644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219480" y="561960"/>
              <a:ext cx="6333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dd9"/>
                  </a:solidFill>
                  <a:latin typeface="Verdana"/>
                </a:rPr>
                <a:t>Global Security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80808"/>
                </a:solidFill>
                <a:latin typeface="Verdana"/>
              </a:rPr>
              <a:t>Click to edit the outline text format</a:t>
            </a: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  <a:p>
            <a:pPr lvl="1" marL="114480" indent="0" algn="ctr">
              <a:lnSpc>
                <a:spcPct val="12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2" marL="573120" algn="ctr">
              <a:lnSpc>
                <a:spcPct val="120000"/>
              </a:lnSpc>
              <a:spcAft>
                <a:spcPts val="1250"/>
              </a:spcAft>
              <a:buClr>
                <a:srgbClr val="0050aa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lvl="3" marL="1082520" algn="ctr">
              <a:lnSpc>
                <a:spcPct val="120000"/>
              </a:lnSpc>
              <a:spcAft>
                <a:spcPts val="1250"/>
              </a:spcAft>
              <a:buClr>
                <a:srgbClr val="6ea20a"/>
              </a:buClr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lvl="4" marL="1539720" algn="ctr">
              <a:lnSpc>
                <a:spcPct val="120000"/>
              </a:lnSpc>
              <a:spcAft>
                <a:spcPts val="1250"/>
              </a:spcAft>
              <a:buClr>
                <a:srgbClr val="8e7e75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lvl="5" marL="1539720">
              <a:spcBef>
                <a:spcPts val="499"/>
              </a:spcBef>
              <a:buClr>
                <a:srgbClr val="080808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lvl="6" marL="1539720">
              <a:spcBef>
                <a:spcPts val="499"/>
              </a:spcBef>
              <a:buClr>
                <a:srgbClr val="080808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6000"/>
            <a:ext cx="4952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GURIDAD PERSONAL EN AREAS DE RIESGO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72800" y="3841560"/>
            <a:ext cx="76770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Verdana"/>
              </a:rPr>
              <a:t>MEDIDAS PREVENTIVAS</a:t>
            </a:r>
            <a:r>
              <a:rPr b="1" lang="en-US" sz="1900" spc="-1" strike="noStrike">
                <a:solidFill>
                  <a:srgbClr val="080808"/>
                </a:solidFill>
                <a:latin typeface="Verdana"/>
              </a:rPr>
              <a:t> PARA NO TORNARSE EN VICTIMA DE LA VIOLENCIA URBANA</a:t>
            </a: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200" spc="-1" strike="noStrike">
                <a:solidFill>
                  <a:srgbClr val="080808"/>
                </a:solidFill>
                <a:latin typeface="Verdana"/>
              </a:rPr>
              <a:t>Preparado por:</a:t>
            </a:r>
            <a:endParaRPr b="1" lang="en-US" sz="12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80808"/>
                </a:solidFill>
                <a:latin typeface="Verdana"/>
              </a:rPr>
              <a:t>Security Advisor – America</a:t>
            </a:r>
            <a:endParaRPr b="1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80808"/>
                </a:solidFill>
                <a:latin typeface="Verdana"/>
              </a:rPr>
              <a:t>2009</a:t>
            </a: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600" spc="-1" strike="noStrike">
                <a:solidFill>
                  <a:srgbClr val="cc0000"/>
                </a:solidFill>
                <a:latin typeface="Verdana"/>
              </a:rPr>
              <a:t>CAMINANDO POR LA CALLE</a:t>
            </a:r>
            <a:endParaRPr b="1" lang="en-US" sz="36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86108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80808"/>
                </a:solidFill>
                <a:latin typeface="Verdana"/>
              </a:rPr>
              <a:t>Evite el contacto  </a:t>
            </a:r>
            <a:r>
              <a:rPr b="0" lang="es-ES" sz="1600" spc="-1" strike="noStrike">
                <a:solidFill>
                  <a:srgbClr val="080808"/>
                </a:solidFill>
                <a:latin typeface="Verdana"/>
              </a:rPr>
              <a:t>con desconocidos en la calle, más aún si está solo (a).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80808"/>
                </a:solidFill>
                <a:latin typeface="Verdana"/>
              </a:rPr>
              <a:t>Cuando sale de algún sitio, </a:t>
            </a:r>
            <a:r>
              <a:rPr b="0" lang="es-ES" sz="1600" spc="-1" strike="noStrike">
                <a:solidFill>
                  <a:srgbClr val="080808"/>
                </a:solidFill>
                <a:latin typeface="Verdana"/>
              </a:rPr>
              <a:t>hágalo acompañada de otra persona, y si es en grupo, mejor.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80808"/>
                </a:solidFill>
                <a:latin typeface="Verdana"/>
              </a:rPr>
              <a:t>No camine  </a:t>
            </a:r>
            <a:r>
              <a:rPr b="0" lang="es-ES" sz="1600" spc="-1" strike="noStrike">
                <a:solidFill>
                  <a:srgbClr val="080808"/>
                </a:solidFill>
                <a:latin typeface="Verdana"/>
              </a:rPr>
              <a:t>por sitios oscuros ni abandonados, evite caminar en la misma dirección de los carros, es mejor caminar en contra vía para mirar los carros que vienen y no exponerse a un ataque por atrás.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2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80808"/>
                </a:solidFill>
                <a:latin typeface="Verdana"/>
              </a:rPr>
              <a:t>Camine observando todo</a:t>
            </a: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 lo que acontece EN SU ENTORNO (atención 360°);</a:t>
            </a:r>
            <a:endParaRPr b="0" lang="en-US" sz="18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Al identificar una situación sospechosa, EVITELA alejándose o cambiando de dirección.</a:t>
            </a:r>
            <a:endParaRPr b="0" lang="en-US" sz="18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El delincuente tiene como enemigo la distancia, o sea; él precisa </a:t>
            </a:r>
            <a:r>
              <a:rPr b="0" lang="es-SV" sz="1800" spc="-1" strike="noStrike">
                <a:solidFill>
                  <a:srgbClr val="ff0000"/>
                </a:solidFill>
                <a:latin typeface="Verdana"/>
              </a:rPr>
              <a:t>“cerrar el espacio”</a:t>
            </a: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, precisa aproximarse para realizar el ataque. Siendo así, manténgase siempre a no menos de </a:t>
            </a:r>
            <a:r>
              <a:rPr b="0" lang="es-SV" sz="1800" spc="-1" strike="noStrike">
                <a:solidFill>
                  <a:srgbClr val="ff0000"/>
                </a:solidFill>
                <a:latin typeface="Verdana"/>
              </a:rPr>
              <a:t>20 metros</a:t>
            </a: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 de un sospechoso.</a:t>
            </a:r>
            <a:endParaRPr b="0" lang="en-US" sz="1800" spc="-1" strike="noStrike">
              <a:solidFill>
                <a:srgbClr val="080808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50aa"/>
                </a:solidFill>
                <a:latin typeface="Verdana"/>
              </a:rPr>
              <a:t>“</a:t>
            </a:r>
            <a:r>
              <a:rPr b="0" lang="es-SV" sz="1800" spc="-1" strike="noStrike">
                <a:solidFill>
                  <a:srgbClr val="0050aa"/>
                </a:solidFill>
                <a:latin typeface="Verdana"/>
              </a:rPr>
              <a:t>No existen asaltos a distancia”</a:t>
            </a:r>
            <a:endParaRPr b="0" lang="en-US" sz="18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A6B7-A5DB-42B9-8587-753699B59B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CAMINANDO POR LA CALLE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68520" y="1131480"/>
            <a:ext cx="833760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Cuando el sospechoso esté cerrando el espacio entre ustedes (caminando hacia usted), proceda a: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1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Cruzar la calle y observe el comportamiento del sospechoso;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1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Si el sospechoso cruza también, la probabilidad de que lo atacará pasa a ser mayor;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1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No permita que el sospechoso </a:t>
            </a:r>
            <a:r>
              <a:rPr b="0" lang="es-SV" sz="2400" spc="-1" strike="noStrike">
                <a:solidFill>
                  <a:srgbClr val="ff0000"/>
                </a:solidFill>
                <a:latin typeface="Verdana"/>
              </a:rPr>
              <a:t>“cierre el espacio” o  lo agarra y controla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. Si esto ocurre usted no tiene más que hacer, el delincuente habrá “vencido”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BA5E-4421-41D8-BD4C-CE2AEE2CD2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CAMINANDO POR LA CALLE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87631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Para no permitir el acercamiento del sospechoso: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Busque un lugar para resguardarse, un local con muchas personas, guardias de seguridad o policías;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Si no hubiere donde protegerse, cambie el sentido de dirección (así usted mantiene el espacio entre ustedes dos)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2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2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50aa"/>
                </a:solidFill>
                <a:latin typeface="Verdana"/>
              </a:rPr>
              <a:t>Vea explicaciones a continuación: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88397-DECC-4A14-B566-74264BDFA8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CAMINANDO</a:t>
            </a:r>
            <a:r>
              <a:rPr b="1" lang="es-SV" sz="2400" spc="-1" strike="noStrike">
                <a:solidFill>
                  <a:srgbClr val="009dd9"/>
                </a:solidFill>
                <a:latin typeface="Verdana"/>
              </a:rPr>
              <a:t> </a:t>
            </a: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POR LA CALLE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20840" y="1294920"/>
            <a:ext cx="3137040" cy="54468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50aa"/>
                </a:solidFill>
                <a:latin typeface="Verdana"/>
              </a:rPr>
              <a:t>El sospechoso viene caminando hacia usted</a:t>
            </a:r>
            <a:endParaRPr b="0" lang="en-US" sz="1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295280"/>
            <a:ext cx="44578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De la vuelta y cambie de dirección, mantenga el espacio entre usted y él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295280"/>
            <a:ext cx="0" cy="525780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20840" y="2057400"/>
            <a:ext cx="3137040" cy="54468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2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50aa"/>
                </a:solidFill>
                <a:latin typeface="Verdana"/>
              </a:rPr>
              <a:t>Él apresuró su paso hacia usted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057400"/>
            <a:ext cx="44578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Busque un lugar seguro al cual entrar, con mucha gente/guardias (tiendas, despensa, etc.)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20840" y="3048120"/>
            <a:ext cx="3137040" cy="54432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2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50aa"/>
                </a:solidFill>
                <a:latin typeface="Verdana"/>
              </a:rPr>
              <a:t>No hay locales para protegerse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20840" y="4343400"/>
            <a:ext cx="3137040" cy="54468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2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50aa"/>
                </a:solidFill>
                <a:latin typeface="Verdana"/>
              </a:rPr>
              <a:t>Si el sospechoso corre hacia usted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3048120"/>
            <a:ext cx="48006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Corra y observe la reacción del sospechoso. Corra antes que se cierre el espacio entre ustedes, </a:t>
            </a:r>
            <a:r>
              <a:rPr b="1" lang="es-SV" sz="1600" spc="-1" strike="noStrike">
                <a:solidFill>
                  <a:srgbClr val="080808"/>
                </a:solidFill>
                <a:latin typeface="Verdana"/>
              </a:rPr>
              <a:t>UNA VEZ CERRADO ESTE ESPACIO NUNCA CORRA!!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4343400"/>
            <a:ext cx="470556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Está claro que él pretende cometer un delito, siendo así, GRITE/Llame al 911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Generalmente, el delincuente no correrá detrás de usted ya que no quiere llamar la atención. Prefiere escoger otra víctima menos preparada/atenta/PREVENIDA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CB6F-F148-4984-AB44-13FC146EAB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5240" y="-22860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CAMINANDO POR LA CALLE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0840" y="1294920"/>
            <a:ext cx="3137040" cy="54468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400" spc="-1" strike="noStrike">
                <a:solidFill>
                  <a:srgbClr val="0050aa"/>
                </a:solidFill>
                <a:latin typeface="Verdana"/>
              </a:rPr>
              <a:t>¿Qué gritar?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5118120" y="914400"/>
            <a:ext cx="4457520" cy="33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No gritar </a:t>
            </a:r>
            <a:r>
              <a:rPr b="1" lang="es-SV" sz="1600" spc="-1" strike="noStrike">
                <a:solidFill>
                  <a:srgbClr val="080808"/>
                </a:solidFill>
                <a:latin typeface="Verdana"/>
              </a:rPr>
              <a:t>“auxilio”</a:t>
            </a: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 porque hace que las personas alrededor huyan, ya que es claro que hay peligro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Gritar </a:t>
            </a:r>
            <a:r>
              <a:rPr b="1" lang="es-SV" sz="1600" spc="-1" strike="noStrike">
                <a:solidFill>
                  <a:srgbClr val="080808"/>
                </a:solidFill>
                <a:latin typeface="Verdana"/>
              </a:rPr>
              <a:t>“fuego”</a:t>
            </a: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 podría despertar el interés de las personas, haciéndolas salir a la calle para ver adonde esta el incendio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Gritar el nombre de alguien, </a:t>
            </a:r>
            <a:r>
              <a:rPr b="1" lang="es-SV" sz="1600" spc="-1" strike="noStrike">
                <a:solidFill>
                  <a:srgbClr val="080808"/>
                </a:solidFill>
                <a:latin typeface="Verdana"/>
              </a:rPr>
              <a:t>“¡Jorge!”</a:t>
            </a: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, </a:t>
            </a:r>
            <a:r>
              <a:rPr b="0" lang="es-SV" sz="1600" spc="-1" strike="noStrike">
                <a:solidFill>
                  <a:srgbClr val="cc0000"/>
                </a:solidFill>
                <a:latin typeface="Verdana"/>
              </a:rPr>
              <a:t>es la mejor opción</a:t>
            </a: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. El sospechoso podría presumir que hay más personas en el entorno/local (¿Quién es Jorge?)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La idea es crear la oportunidad de hacerlo desistir y/o que busque a otra víctima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88000" y="1295280"/>
            <a:ext cx="0" cy="525780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0840" y="5018040"/>
            <a:ext cx="3137040" cy="544680"/>
          </a:xfrm>
          <a:prstGeom prst="rect">
            <a:avLst/>
          </a:prstGeom>
          <a:gradFill rotWithShape="0">
            <a:gsLst>
              <a:gs pos="0">
                <a:srgbClr val="bfe9f5"/>
              </a:gs>
              <a:gs pos="100000">
                <a:srgbClr val="009d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80808"/>
                </a:solidFill>
                <a:latin typeface="Verdana"/>
              </a:rPr>
              <a:t>REGLA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5016600"/>
            <a:ext cx="4953240" cy="1308600"/>
          </a:xfrm>
          <a:prstGeom prst="rect">
            <a:avLst/>
          </a:prstGeom>
          <a:gradFill rotWithShape="0">
            <a:gsLst>
              <a:gs pos="0">
                <a:srgbClr val="bfe9f5"/>
              </a:gs>
              <a:gs pos="100000">
                <a:srgbClr val="009d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Si tuviere el “presentimiento” de que alguien va a abordarle </a:t>
            </a:r>
            <a:r>
              <a:rPr b="1" lang="es-SV" sz="1600" spc="-1" strike="noStrike">
                <a:solidFill>
                  <a:srgbClr val="080808"/>
                </a:solidFill>
                <a:latin typeface="Verdana"/>
              </a:rPr>
              <a:t>“nunca deseche la posibilidad”</a:t>
            </a: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. Muchas personas que fueron asaltadas relatan que presintieron que algo iba a ocurrir y no lo previnieron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4C56-19E6-4536-9DEA-26FABE9171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240" y="-360"/>
            <a:ext cx="7759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Verdana"/>
              </a:rPr>
              <a:t>AL TOMAR UN TAXI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2640" y="717120"/>
            <a:ext cx="84200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0808"/>
                </a:solidFill>
                <a:latin typeface="Verdana"/>
              </a:rPr>
              <a:t>Confíe en su instinto</a:t>
            </a:r>
            <a:r>
              <a:rPr b="0" lang="es-ES" sz="2000" spc="-1" strike="noStrike">
                <a:solidFill>
                  <a:srgbClr val="080808"/>
                </a:solidFill>
                <a:latin typeface="Verdana"/>
              </a:rPr>
              <a:t>  a la hora de tomar un taxi y escójalo también por la cara del chofer; descarte los que no le inspiren confianza o si lo observa nervioso  o inquieto. 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0808"/>
                </a:solidFill>
                <a:latin typeface="Verdana"/>
              </a:rPr>
              <a:t>Nunca tome las taxis estacionadas</a:t>
            </a:r>
            <a:r>
              <a:rPr b="0" lang="es-ES" sz="2000" spc="-1" strike="noStrike">
                <a:solidFill>
                  <a:srgbClr val="080808"/>
                </a:solidFill>
                <a:latin typeface="Verdana"/>
              </a:rPr>
              <a:t> o los primeros de las filas a las puertas de los bancos, elija los que vienen circulando y grábese inmediatamente el número de la placa del taxi que toma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0808"/>
                </a:solidFill>
                <a:latin typeface="Verdana"/>
              </a:rPr>
              <a:t>Detenga los taxis  que pertenecen a empresas</a:t>
            </a:r>
            <a:r>
              <a:rPr b="0" lang="es-ES" sz="2000" spc="-1" strike="noStrike">
                <a:solidFill>
                  <a:srgbClr val="080808"/>
                </a:solidFill>
                <a:latin typeface="Verdana"/>
              </a:rPr>
              <a:t> y radio taxis con el número de la placa y el telefónico bien visible. 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0808"/>
                </a:solidFill>
                <a:latin typeface="Verdana"/>
              </a:rPr>
              <a:t>Observe al subirse</a:t>
            </a:r>
            <a:r>
              <a:rPr b="0" lang="es-ES" sz="2000" spc="-1" strike="noStrike">
                <a:solidFill>
                  <a:srgbClr val="080808"/>
                </a:solidFill>
                <a:latin typeface="Verdana"/>
              </a:rPr>
              <a:t> que el asiento delantero esté bien corrido hacia adelante, lo que impedirá el acceso a cualquier compinche por esa puerta, inmediatamente después cierre el seguro de las dos puertas traseras. 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0808"/>
                </a:solidFill>
                <a:latin typeface="Verdana"/>
              </a:rPr>
              <a:t>Si llamó o detuvo un radio taxi, observe que realmente tenga una radio</a:t>
            </a:r>
            <a:r>
              <a:rPr b="0" lang="es-ES" sz="2000" spc="-1" strike="noStrike">
                <a:solidFill>
                  <a:srgbClr val="080808"/>
                </a:solidFill>
                <a:latin typeface="Verdana"/>
              </a:rPr>
              <a:t> en coche y no es un engaño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1DE0-30C3-48E8-BBB8-1AC6A66208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7759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Verdana"/>
              </a:rPr>
              <a:t>AL TOMAR UN TAXI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8420040" cy="542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0808"/>
                </a:solidFill>
                <a:latin typeface="Verdana"/>
              </a:rPr>
              <a:t>Ante el menor desvío de la ruta</a:t>
            </a:r>
            <a:r>
              <a:rPr b="0" lang="es-ES" sz="2000" spc="-1" strike="noStrike">
                <a:solidFill>
                  <a:srgbClr val="080808"/>
                </a:solidFill>
                <a:latin typeface="Verdana"/>
              </a:rPr>
              <a:t> de destino, bájese del taxi (hágalo detenerse, páguele y busque otro).  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0808"/>
                </a:solidFill>
                <a:latin typeface="Verdana"/>
              </a:rPr>
              <a:t>Trate siempre de bajarse  del taxi una cuadra</a:t>
            </a:r>
            <a:r>
              <a:rPr b="0" lang="es-ES" sz="2000" spc="-1" strike="noStrike">
                <a:solidFill>
                  <a:srgbClr val="080808"/>
                </a:solidFill>
                <a:latin typeface="Verdana"/>
              </a:rPr>
              <a:t> antes de llegar a su verdadero destino (siempre y cuando eso sea prudente y no tenga que bajarse en un lugar peligroso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0808"/>
                </a:solidFill>
                <a:latin typeface="Verdana"/>
              </a:rPr>
              <a:t>Cuando contrate  a un taxi amigo</a:t>
            </a:r>
            <a:r>
              <a:rPr b="0" lang="es-ES" sz="2000" spc="-1" strike="noStrike">
                <a:solidFill>
                  <a:srgbClr val="080808"/>
                </a:solidFill>
                <a:latin typeface="Verdana"/>
              </a:rPr>
              <a:t> exija que lo informen de las características del vehículo (marca, color y número de patente). 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0808"/>
                </a:solidFill>
                <a:latin typeface="Verdana"/>
              </a:rPr>
              <a:t>En el interior del taxi</a:t>
            </a:r>
            <a:r>
              <a:rPr b="0" lang="es-ES" sz="2000" spc="-1" strike="noStrike">
                <a:solidFill>
                  <a:srgbClr val="080808"/>
                </a:solidFill>
                <a:latin typeface="Verdana"/>
              </a:rPr>
              <a:t>  realice un llamado telefónico desde su celular a su familia, amigo o bien a una persona imaginaria, pero haga saber al conductor  que a usted ha reportado el numero del taxi que la lleva y que la están esperando en un lapso de tiempo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5987-3A86-4811-AA59-A94203E0EE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EN EL ESTACIONAMIENT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68520" y="1219320"/>
            <a:ext cx="8007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Prefiera los estacionamientos pagados; dejar el auto en la calle es siempre más peligroso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Planee el horario de llegada y salida, después decida adonde va a estacionar su auto. Muchas veces usted estaciona en la calle cuando aún es claro y hay bastante movimiento, y para cuando debe salir, es tarde y la calle esta desierta y posiblemente oscura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Si desconfía de algo, siga de largo y no se detenga frente a su vehículo. Evalúe la situación. Bajo dudas, llame a alguien o a la policía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No deje llaves de casa dentro del vehículo. Ellas podrían ser usadas para asaltar su casa posteriormente, principalmente si en el auto se encuentran recibos o cualquier cosa que identifique su dirección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42A7-B87A-4D08-9AA8-59CD750BF7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EN EL ESTACIONAMIENT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68520" y="1219320"/>
            <a:ext cx="8007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Nunca permanezca mucho tiempo dentro del auto estacionado, usted se transforma en una víctima perfecta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No deje ningún objeto de valor a la vista dentro del auto; coloque todo en el baúl o guantera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Antes de estacionar (o cuando retorna) observe su entorno, identifique si existe alguien o alguna situación sospechosa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Si al retornar al auto observa algún “desperfecto” que le impide conducirlo, llame inmediatamente a alguien de su confianza y diríjase a un lugar seguro. Alguien pudo haber “</a:t>
            </a:r>
            <a:r>
              <a:rPr b="0" lang="es-SV" sz="2000" spc="-1" strike="noStrike">
                <a:solidFill>
                  <a:srgbClr val="0050aa"/>
                </a:solidFill>
                <a:latin typeface="Verdana"/>
              </a:rPr>
              <a:t>CREADO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”</a:t>
            </a:r>
            <a:r>
              <a:rPr b="0" lang="es-SV" sz="2000" spc="-1" strike="noStrike">
                <a:solidFill>
                  <a:srgbClr val="0050aa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el defecto para “</a:t>
            </a:r>
            <a:r>
              <a:rPr b="0" lang="es-SV" sz="2000" spc="-1" strike="noStrike">
                <a:solidFill>
                  <a:srgbClr val="ff0000"/>
                </a:solidFill>
                <a:latin typeface="Verdana"/>
              </a:rPr>
              <a:t>ATACARLO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”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A17B-BA91-423B-B9BC-030659AEBA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EN EL ESTACIONAMIENT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algn="just">
              <a:lnSpc>
                <a:spcPct val="120000"/>
              </a:lnSpc>
              <a:spcAft>
                <a:spcPts val="22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3600" spc="-1" strike="noStrike">
                <a:solidFill>
                  <a:srgbClr val="080808"/>
                </a:solidFill>
                <a:latin typeface="Verdana"/>
              </a:rPr>
              <a:t>Si sorprende a alguien dentro de su vehículo, NUNCA se aproxime, busque ayuda y llame a la policía (911) sin ser notado. Recuerde:</a:t>
            </a:r>
            <a:endParaRPr b="0" lang="en-US" sz="3600" spc="-1" strike="noStrike">
              <a:solidFill>
                <a:srgbClr val="080808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cc0000"/>
                </a:solidFill>
                <a:latin typeface="Verdana"/>
              </a:rPr>
              <a:t>“</a:t>
            </a:r>
            <a:r>
              <a:rPr b="0" lang="es-SV" sz="3200" spc="-1" strike="noStrike">
                <a:solidFill>
                  <a:srgbClr val="cc0000"/>
                </a:solidFill>
                <a:latin typeface="Verdana"/>
              </a:rPr>
              <a:t>NUNCA SE ACERQUE,                           NO CIERRE EL ESPACIO                          ENTRE USTED Y EL DELINCUENTE”</a:t>
            </a:r>
            <a:endParaRPr b="0" lang="en-US" sz="3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57BD-036C-45C0-A85A-ACC43C5EDE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INTRODUCCION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50600" y="1295280"/>
            <a:ext cx="8007480" cy="542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80808"/>
                </a:solidFill>
                <a:latin typeface="Verdana"/>
              </a:rPr>
              <a:t>El propósito de esta presentación es para crear conciencia de seguridad personal a los que viven y desarrollan sus actividades en América.</a:t>
            </a:r>
            <a:endParaRPr b="0" lang="en-US" sz="28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2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80808"/>
                </a:solidFill>
                <a:latin typeface="Verdana"/>
              </a:rPr>
              <a:t>Dados los altos índices de criminalidad en algunos países del área, las posibilidades de ser víctimas son altas. Nuestra mejor defensa es tomar medidas preventivas que minimicen ese riesgo.</a:t>
            </a:r>
            <a:endParaRPr b="0" lang="en-US" sz="28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F87A-200D-412C-ABD7-85AEB6A264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5240" y="-30492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CONDUCIENDO EL AUT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5280" y="7999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1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No coloque en su vehículo calcomanías que puedan identificar donde usted vive, donde trabaja, colegio o universidad que frecuenta, etc. Esto puede ser usado en su contra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Mantenga los vidrios siempre cerrados, o mínimamente abiertos para permitir la entrada de aire y </a:t>
            </a:r>
            <a:r>
              <a:rPr b="0" lang="es-SV" sz="2400" spc="-1" strike="noStrike">
                <a:solidFill>
                  <a:srgbClr val="ff0000"/>
                </a:solidFill>
                <a:latin typeface="Verdana"/>
              </a:rPr>
              <a:t>no una mano extraña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. Las puertas siempre con seguro (Llave)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Si estuviere en un taxi, pida al conductor asegurar las puerta y de ser posible, cerrar los vidrios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Si le dan un pequeño toque atrás, observe por su retrovisor a las personas que están en el vehículo de atrás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4C38-FFB4-4F67-AB67-2B7332D27B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CONDUCIENDO EL AUT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02920" y="12189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ff0000"/>
                </a:solidFill>
                <a:latin typeface="Verdana"/>
              </a:rPr>
              <a:t>NO PARE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y </a:t>
            </a:r>
            <a:r>
              <a:rPr b="0" lang="es-SV" sz="2000" spc="-1" strike="noStrike">
                <a:solidFill>
                  <a:srgbClr val="0050aa"/>
                </a:solidFill>
                <a:latin typeface="Verdana"/>
              </a:rPr>
              <a:t>NO SALGA DE SU VEHICULO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. Señale a la persona que lo siga y diríjase a un lugar seguro, de preferencia donde haya policías o guardias de seguridad. ESPECIALMENTE DE NOCHE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Si la intención era asaltarle, la persona no le seguirá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Los asaltos a vehículos sólo son posibles si el vehículo esta detenido, un delincuente no abordará un vehículo en movimiento. Evite detenerse al máximo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NO PARE a ayudar a extraños en la noche o en lugares poco iluminados. Llame a la policía (911) e informe sobre el lugar/calle donde está la persona que necesite auxilio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2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9A73-A123-46EB-9E4E-A144BA65A9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CONDUCIENDO EL AUT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02920" y="12189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Si estacionó su auto en un lugar desconocido o con poca iluminación, al ingresar: arránquelo, asegure las puertas y salga inmediatamente. Después colóquese el cinturón de seguridad y sólo después prenda la radio, ajuste objetos, etc. </a:t>
            </a:r>
            <a:r>
              <a:rPr b="0" lang="es-SV" sz="2000" spc="-1" strike="noStrike">
                <a:solidFill>
                  <a:srgbClr val="0050aa"/>
                </a:solidFill>
                <a:latin typeface="Verdana"/>
              </a:rPr>
              <a:t>CUANTO MAS TIEMPO ESTACIONADO, MAYOR EL RIESGO DE ABORDAJE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Si sospecha que un auto lo sigue, no lo haga notar y diríjase hasta un puesto policial o un lugar concurrido donde existan personal de seguridad o policías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Al llegar a casa, observe el entorno, lugares donde personas pueden estar escondidas. Si nota algo sospechoso, NO PARE. Siga de largo y llame a alguien de confianza o a la policía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31F8-3FD9-465F-ACF7-9D01665815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CONDUCIENDO EL AUT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02920" y="12189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Evite rutinas, procure variar sus rutas y si es posible también sus horarios de salida y llegada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No descuide el mantenimiento de su vehículo para evitar desperfectos que le obliguen a detener su vehículo. Estos desperfectos pueden ocurrir de noche y en lugares remotos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Tenga siempre a mano teléfonos de grúas. El teléfono celular es una herramienta extremadamente útil. Procure mantenerlo siempre con saldo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JAMAS pare si su vehículo ha sido alcanzado por piedras o cualquier otro objeto en calles desconocidas o poco iluminadas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BEED-F64E-4209-89F7-B9AA3E8C69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5240" y="-22860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ABORDADO EN EL VEHICUL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650960" y="1371600"/>
            <a:ext cx="3780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50a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.</a:t>
            </a:r>
            <a:endParaRPr b="0" lang="en-US" sz="2400" spc="1" strike="noStrike">
              <a:ln w="19080">
                <a:solidFill>
                  <a:srgbClr val="0050a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650960" y="2743200"/>
            <a:ext cx="3780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50a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.</a:t>
            </a:r>
            <a:endParaRPr b="0" lang="en-US" sz="2400" spc="1" strike="noStrike">
              <a:ln w="19080">
                <a:solidFill>
                  <a:srgbClr val="0050a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50960" y="3809880"/>
            <a:ext cx="3780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50a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.</a:t>
            </a:r>
            <a:endParaRPr b="0" lang="en-US" sz="2400" spc="1" strike="noStrike">
              <a:ln w="19080">
                <a:solidFill>
                  <a:srgbClr val="0050a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650960" y="5410080"/>
            <a:ext cx="3780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50a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.</a:t>
            </a:r>
            <a:endParaRPr b="0" lang="en-US" sz="2400" spc="1" strike="noStrike">
              <a:ln w="19080">
                <a:solidFill>
                  <a:srgbClr val="0050a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2819520" y="2665440"/>
            <a:ext cx="6438960" cy="914760"/>
          </a:xfrm>
          <a:prstGeom prst="rect">
            <a:avLst/>
          </a:prstGeom>
          <a:gradFill rotWithShape="0">
            <a:gsLst>
              <a:gs pos="0">
                <a:srgbClr val="bfe9f5"/>
              </a:gs>
              <a:gs pos="100000">
                <a:srgbClr val="009d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80808"/>
                </a:solidFill>
                <a:latin typeface="Verdana"/>
              </a:rPr>
              <a:t>Obedezca rápidament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Obedezca las órdenes del asaltante – repita lo que le ordenan – y hágalas con calma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06560" y="3733920"/>
            <a:ext cx="6438960" cy="1463400"/>
          </a:xfrm>
          <a:prstGeom prst="rect">
            <a:avLst/>
          </a:prstGeom>
          <a:gradFill rotWithShape="0">
            <a:gsLst>
              <a:gs pos="0">
                <a:srgbClr val="bfe9f5"/>
              </a:gs>
              <a:gs pos="100000">
                <a:srgbClr val="009d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80808"/>
                </a:solidFill>
                <a:latin typeface="Verdana"/>
              </a:rPr>
              <a:t>Informe de lo que va a hac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Mantenga sus manos donde el asaltante pueda verlas. Informe al asaltante si va a sacar un objeto, abrir la puerta, etc. Y hágalo con movimientos suaves. Recuerde, el asaltante está nervioso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06560" y="5410080"/>
            <a:ext cx="6438960" cy="914760"/>
          </a:xfrm>
          <a:prstGeom prst="rect">
            <a:avLst/>
          </a:prstGeom>
          <a:gradFill rotWithShape="0">
            <a:gsLst>
              <a:gs pos="0">
                <a:srgbClr val="bfe9f5"/>
              </a:gs>
              <a:gs pos="100000">
                <a:srgbClr val="009d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80808"/>
                </a:solidFill>
                <a:latin typeface="Verdana"/>
              </a:rPr>
              <a:t>Si tuviere que salir del vehícul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Hágalo de manera correcta. Ver las explicaciones a continuación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06560" y="1219320"/>
            <a:ext cx="6438960" cy="1311480"/>
          </a:xfrm>
          <a:prstGeom prst="rect">
            <a:avLst/>
          </a:prstGeom>
          <a:gradFill rotWithShape="0">
            <a:gsLst>
              <a:gs pos="0">
                <a:srgbClr val="bfe9f5"/>
              </a:gs>
              <a:gs pos="100000">
                <a:srgbClr val="009d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80808"/>
                </a:solidFill>
                <a:latin typeface="Verdana"/>
              </a:rPr>
              <a:t>Tenga calma y pida calma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Hágale sentir que él “controla la situación”. Delincuentes asustados o nerviosos utilizan la violencia por impulso o innecesariamente.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38400" y="838080"/>
            <a:ext cx="726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Si alguien lo aborda, proceda de la siguiente manera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850B-BC75-420E-813E-608339A77F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ABORDADO EN EL VEHICUL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02920" y="6248160"/>
            <a:ext cx="8007480" cy="1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80808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816200" y="1295280"/>
            <a:ext cx="2684520" cy="3076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695920" y="1295280"/>
            <a:ext cx="2513160" cy="3162600"/>
          </a:xfrm>
          <a:prstGeom prst="rect">
            <a:avLst/>
          </a:prstGeom>
          <a:ln w="0">
            <a:noFill/>
          </a:ln>
        </p:spPr>
      </p:pic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3219480" y="4267080"/>
            <a:ext cx="577800" cy="533520"/>
          </a:xfrm>
          <a:custGeom>
            <a:avLst/>
            <a:gdLst>
              <a:gd name="textAreaLeft" fmla="*/ 34560 w 577800"/>
              <a:gd name="textAreaRight" fmla="*/ 543240 w 577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392" h="21600">
                <a:moveTo>
                  <a:pt x="0" y="0"/>
                </a:moveTo>
                <a:lnTo>
                  <a:pt x="23392" y="0"/>
                </a:lnTo>
                <a:lnTo>
                  <a:pt x="23392" y="21600"/>
                </a:lnTo>
                <a:lnTo>
                  <a:pt x="0" y="21600"/>
                </a:lnTo>
                <a:close/>
              </a:path>
              <a:path fill="lightenLess" w="23392" h="21600">
                <a:moveTo>
                  <a:pt x="0" y="0"/>
                </a:moveTo>
                <a:lnTo>
                  <a:pt x="23392" y="0"/>
                </a:lnTo>
                <a:lnTo>
                  <a:pt x="21992" y="1400"/>
                </a:lnTo>
                <a:lnTo>
                  <a:pt x="1400" y="1400"/>
                </a:lnTo>
                <a:close/>
              </a:path>
              <a:path fill="darken" w="23392" h="21600">
                <a:moveTo>
                  <a:pt x="23392" y="0"/>
                </a:moveTo>
                <a:lnTo>
                  <a:pt x="23392" y="21600"/>
                </a:lnTo>
                <a:lnTo>
                  <a:pt x="21992" y="20200"/>
                </a:lnTo>
                <a:lnTo>
                  <a:pt x="21992" y="1400"/>
                </a:lnTo>
                <a:close/>
              </a:path>
              <a:path fill="darkenLess" w="23392" h="21600">
                <a:moveTo>
                  <a:pt x="23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2" y="20200"/>
                </a:lnTo>
                <a:close/>
              </a:path>
              <a:path fill="lighten" w="23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2" h="21600">
                <a:moveTo>
                  <a:pt x="1169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392" h="21600">
                <a:moveTo>
                  <a:pt x="1169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392" h="21600">
                <a:moveTo>
                  <a:pt x="9119" y="8224"/>
                </a:moveTo>
                <a:lnTo>
                  <a:pt x="12984" y="8224"/>
                </a:lnTo>
                <a:lnTo>
                  <a:pt x="12984" y="15221"/>
                </a:lnTo>
                <a:lnTo>
                  <a:pt x="14272" y="15221"/>
                </a:lnTo>
                <a:lnTo>
                  <a:pt x="14272" y="16144"/>
                </a:lnTo>
                <a:lnTo>
                  <a:pt x="9119" y="16144"/>
                </a:lnTo>
                <a:lnTo>
                  <a:pt x="9119" y="15221"/>
                </a:lnTo>
                <a:lnTo>
                  <a:pt x="10408" y="15221"/>
                </a:lnTo>
                <a:lnTo>
                  <a:pt x="10408" y="9129"/>
                </a:lnTo>
                <a:lnTo>
                  <a:pt x="9119" y="9129"/>
                </a:lnTo>
                <a:close/>
              </a:path>
            </a:pathLst>
          </a:cu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7016760" y="4267080"/>
            <a:ext cx="577800" cy="533520"/>
          </a:xfrm>
          <a:custGeom>
            <a:avLst/>
            <a:gdLst>
              <a:gd name="textAreaLeft" fmla="*/ 34560 w 577800"/>
              <a:gd name="textAreaRight" fmla="*/ 543240 w 577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392" h="21600">
                <a:moveTo>
                  <a:pt x="0" y="0"/>
                </a:moveTo>
                <a:lnTo>
                  <a:pt x="23392" y="0"/>
                </a:lnTo>
                <a:lnTo>
                  <a:pt x="23392" y="21600"/>
                </a:lnTo>
                <a:lnTo>
                  <a:pt x="0" y="21600"/>
                </a:lnTo>
                <a:close/>
              </a:path>
              <a:path fill="lightenLess" w="23392" h="21600">
                <a:moveTo>
                  <a:pt x="0" y="0"/>
                </a:moveTo>
                <a:lnTo>
                  <a:pt x="23392" y="0"/>
                </a:lnTo>
                <a:lnTo>
                  <a:pt x="21992" y="1400"/>
                </a:lnTo>
                <a:lnTo>
                  <a:pt x="1400" y="1400"/>
                </a:lnTo>
                <a:close/>
              </a:path>
              <a:path fill="darken" w="23392" h="21600">
                <a:moveTo>
                  <a:pt x="23392" y="0"/>
                </a:moveTo>
                <a:lnTo>
                  <a:pt x="23392" y="21600"/>
                </a:lnTo>
                <a:lnTo>
                  <a:pt x="21992" y="20200"/>
                </a:lnTo>
                <a:lnTo>
                  <a:pt x="21992" y="1400"/>
                </a:lnTo>
                <a:close/>
              </a:path>
              <a:path fill="darkenLess" w="23392" h="21600">
                <a:moveTo>
                  <a:pt x="23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2" y="20200"/>
                </a:lnTo>
                <a:close/>
              </a:path>
              <a:path fill="lighten" w="23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2" h="21600">
                <a:moveTo>
                  <a:pt x="1169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392" h="21600">
                <a:moveTo>
                  <a:pt x="1169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392" h="21600">
                <a:moveTo>
                  <a:pt x="9119" y="8224"/>
                </a:moveTo>
                <a:lnTo>
                  <a:pt x="12984" y="8224"/>
                </a:lnTo>
                <a:lnTo>
                  <a:pt x="12984" y="15221"/>
                </a:lnTo>
                <a:lnTo>
                  <a:pt x="14272" y="15221"/>
                </a:lnTo>
                <a:lnTo>
                  <a:pt x="14272" y="16144"/>
                </a:lnTo>
                <a:lnTo>
                  <a:pt x="9119" y="16144"/>
                </a:lnTo>
                <a:lnTo>
                  <a:pt x="9119" y="15221"/>
                </a:lnTo>
                <a:lnTo>
                  <a:pt x="10408" y="15221"/>
                </a:lnTo>
                <a:lnTo>
                  <a:pt x="10408" y="9129"/>
                </a:lnTo>
                <a:lnTo>
                  <a:pt x="9119" y="9129"/>
                </a:lnTo>
                <a:close/>
              </a:path>
            </a:pathLst>
          </a:cu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6" name="">
            <a:hlinkClick r:id="rId4" action="ppaction://hlinksldjump"/>
          </p:cNvPr>
          <p:cNvSpPr/>
          <p:nvPr/>
        </p:nvSpPr>
        <p:spPr>
          <a:xfrm>
            <a:off x="8997840" y="5867280"/>
            <a:ext cx="495360" cy="457200"/>
          </a:xfrm>
          <a:custGeom>
            <a:avLst/>
            <a:gdLst>
              <a:gd name="textAreaLeft" fmla="*/ 29520 w 495360"/>
              <a:gd name="textAreaRight" fmla="*/ 465840 w 495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401" h="21600">
                <a:moveTo>
                  <a:pt x="0" y="0"/>
                </a:moveTo>
                <a:lnTo>
                  <a:pt x="23401" y="0"/>
                </a:lnTo>
                <a:lnTo>
                  <a:pt x="23401" y="21600"/>
                </a:lnTo>
                <a:lnTo>
                  <a:pt x="0" y="21600"/>
                </a:lnTo>
                <a:close/>
              </a:path>
              <a:path fill="lightenLess" w="23401" h="21600">
                <a:moveTo>
                  <a:pt x="0" y="0"/>
                </a:moveTo>
                <a:lnTo>
                  <a:pt x="23401" y="0"/>
                </a:lnTo>
                <a:lnTo>
                  <a:pt x="22001" y="1400"/>
                </a:lnTo>
                <a:lnTo>
                  <a:pt x="1400" y="1400"/>
                </a:lnTo>
                <a:close/>
              </a:path>
              <a:path fill="darken" w="23401" h="21600">
                <a:moveTo>
                  <a:pt x="23401" y="0"/>
                </a:moveTo>
                <a:lnTo>
                  <a:pt x="23401" y="21600"/>
                </a:lnTo>
                <a:lnTo>
                  <a:pt x="22001" y="20200"/>
                </a:lnTo>
                <a:lnTo>
                  <a:pt x="22001" y="1400"/>
                </a:lnTo>
                <a:close/>
              </a:path>
              <a:path fill="darkenLess" w="23401" h="21600">
                <a:moveTo>
                  <a:pt x="23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1" y="20200"/>
                </a:lnTo>
                <a:close/>
              </a:path>
              <a:path fill="lighten" w="23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1" h="21600">
                <a:moveTo>
                  <a:pt x="4694" y="3794"/>
                </a:moveTo>
                <a:lnTo>
                  <a:pt x="18707" y="10800"/>
                </a:lnTo>
                <a:lnTo>
                  <a:pt x="4694" y="17806"/>
                </a:lnTo>
                <a:close/>
              </a:path>
            </a:pathLst>
          </a:cu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16760" y="5943600"/>
            <a:ext cx="165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50aa"/>
                </a:solidFill>
                <a:latin typeface="Verdana"/>
              </a:rPr>
              <a:t>Siguient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4876920"/>
            <a:ext cx="28116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80808"/>
                </a:solidFill>
                <a:latin typeface="Verdana"/>
              </a:rPr>
              <a:t>Hacer click para explicación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28760" y="4876920"/>
            <a:ext cx="28116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80808"/>
                </a:solidFill>
                <a:latin typeface="Verdana"/>
              </a:rPr>
              <a:t>Hacer click para explicación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DAA8-9FCE-449C-BF2F-87492EDA2D6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ABORDADO EN EL VEHICUL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02920" y="2437920"/>
            <a:ext cx="8007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La persona baja del vehículo quedando entre la puerta y el delincuente. Como éste está nervioso y apurado por huir, puede empujar a la víctima hacia adentro del vehículo y acabar </a:t>
            </a:r>
            <a:r>
              <a:rPr b="0" lang="es-SV" sz="2000" spc="-1" strike="noStrike">
                <a:solidFill>
                  <a:srgbClr val="0050aa"/>
                </a:solidFill>
                <a:latin typeface="Verdana"/>
              </a:rPr>
              <a:t>llevándosela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(convirtiéndose en posible víctima de un secuestro)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2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1650960" y="5943600"/>
            <a:ext cx="495360" cy="457200"/>
          </a:xfrm>
          <a:custGeom>
            <a:avLst/>
            <a:gdLst>
              <a:gd name="textAreaLeft" fmla="*/ 29520 w 495360"/>
              <a:gd name="textAreaRight" fmla="*/ 465840 w 495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401" h="21600">
                <a:moveTo>
                  <a:pt x="0" y="0"/>
                </a:moveTo>
                <a:lnTo>
                  <a:pt x="23401" y="0"/>
                </a:lnTo>
                <a:lnTo>
                  <a:pt x="23401" y="21600"/>
                </a:lnTo>
                <a:lnTo>
                  <a:pt x="0" y="21600"/>
                </a:lnTo>
                <a:close/>
              </a:path>
              <a:path fill="lightenLess" w="23401" h="21600">
                <a:moveTo>
                  <a:pt x="0" y="0"/>
                </a:moveTo>
                <a:lnTo>
                  <a:pt x="23401" y="0"/>
                </a:lnTo>
                <a:lnTo>
                  <a:pt x="22001" y="1400"/>
                </a:lnTo>
                <a:lnTo>
                  <a:pt x="1400" y="1400"/>
                </a:lnTo>
                <a:close/>
              </a:path>
              <a:path fill="darken" w="23401" h="21600">
                <a:moveTo>
                  <a:pt x="23401" y="0"/>
                </a:moveTo>
                <a:lnTo>
                  <a:pt x="23401" y="21600"/>
                </a:lnTo>
                <a:lnTo>
                  <a:pt x="22001" y="20200"/>
                </a:lnTo>
                <a:lnTo>
                  <a:pt x="22001" y="1400"/>
                </a:lnTo>
                <a:close/>
              </a:path>
              <a:path fill="darkenLess" w="23401" h="21600">
                <a:moveTo>
                  <a:pt x="23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1" y="20200"/>
                </a:lnTo>
                <a:close/>
              </a:path>
              <a:path fill="lighten" w="23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1" h="21600">
                <a:moveTo>
                  <a:pt x="4694" y="10800"/>
                </a:moveTo>
                <a:lnTo>
                  <a:pt x="18707" y="3794"/>
                </a:lnTo>
                <a:lnTo>
                  <a:pt x="18707" y="17806"/>
                </a:lnTo>
                <a:close/>
              </a:path>
            </a:pathLst>
          </a:cu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28760" y="6019920"/>
            <a:ext cx="165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50aa"/>
                </a:solidFill>
                <a:latin typeface="Verdana"/>
              </a:rPr>
              <a:t>Vol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486080" y="1295280"/>
            <a:ext cx="2145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RRADO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AE9B-A53D-45E3-9970-F5A8F768DD9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ABORDADO EN EL VEHICUL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02920" y="2057040"/>
            <a:ext cx="800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La persona deja el vehículo, alejándose del mismo, dejando la entrada libre para el delincuente, y como él está apurado; disminuye la posibilidad de que la victima sea empujada para adentro y sea llevada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2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cc0000"/>
                </a:solidFill>
                <a:latin typeface="Verdana"/>
              </a:rPr>
              <a:t>¡¡ NUNCA DE LA ESPALDA AL DELINCUENTE !!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2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1650960" y="5943600"/>
            <a:ext cx="495360" cy="457200"/>
          </a:xfrm>
          <a:custGeom>
            <a:avLst/>
            <a:gdLst>
              <a:gd name="textAreaLeft" fmla="*/ 29520 w 495360"/>
              <a:gd name="textAreaRight" fmla="*/ 465840 w 495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401" h="21600">
                <a:moveTo>
                  <a:pt x="0" y="0"/>
                </a:moveTo>
                <a:lnTo>
                  <a:pt x="23401" y="0"/>
                </a:lnTo>
                <a:lnTo>
                  <a:pt x="23401" y="21600"/>
                </a:lnTo>
                <a:lnTo>
                  <a:pt x="0" y="21600"/>
                </a:lnTo>
                <a:close/>
              </a:path>
              <a:path fill="lightenLess" w="23401" h="21600">
                <a:moveTo>
                  <a:pt x="0" y="0"/>
                </a:moveTo>
                <a:lnTo>
                  <a:pt x="23401" y="0"/>
                </a:lnTo>
                <a:lnTo>
                  <a:pt x="22001" y="1400"/>
                </a:lnTo>
                <a:lnTo>
                  <a:pt x="1400" y="1400"/>
                </a:lnTo>
                <a:close/>
              </a:path>
              <a:path fill="darken" w="23401" h="21600">
                <a:moveTo>
                  <a:pt x="23401" y="0"/>
                </a:moveTo>
                <a:lnTo>
                  <a:pt x="23401" y="21600"/>
                </a:lnTo>
                <a:lnTo>
                  <a:pt x="22001" y="20200"/>
                </a:lnTo>
                <a:lnTo>
                  <a:pt x="22001" y="1400"/>
                </a:lnTo>
                <a:close/>
              </a:path>
              <a:path fill="darkenLess" w="23401" h="21600">
                <a:moveTo>
                  <a:pt x="23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1" y="20200"/>
                </a:lnTo>
                <a:close/>
              </a:path>
              <a:path fill="lighten" w="23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1" h="21600">
                <a:moveTo>
                  <a:pt x="4694" y="10800"/>
                </a:moveTo>
                <a:lnTo>
                  <a:pt x="18707" y="3794"/>
                </a:lnTo>
                <a:lnTo>
                  <a:pt x="18707" y="17806"/>
                </a:lnTo>
                <a:close/>
              </a:path>
            </a:pathLst>
          </a:cu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28760" y="6019920"/>
            <a:ext cx="165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50aa"/>
                </a:solidFill>
                <a:latin typeface="Verdana"/>
              </a:rPr>
              <a:t>Vol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486080" y="1295280"/>
            <a:ext cx="2145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RRECTO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BC77-B438-487A-A46C-38AFCDD2129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PARADA EN SEMAFOR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02920" y="1752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Cuando el semáforo esté en rojo, observe su entorno. Generalmente los delincuentes atacan por el lado izquierdo, el del conductor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2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Reduzca su velocidad gradualmente, intentando llegar al cruce cuando la señal este por cambiar a verde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cc0000"/>
                </a:solidFill>
                <a:latin typeface="Verdana"/>
              </a:rPr>
              <a:t>RECUERDE: Vehículo parado es blanco fácil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6FE9-F854-4C14-BAD0-9DDE3E2779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PARADA EN SEMAFOR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Evite las compras en los semáforos. Aunque el vendedor no parezca sospechoso, usted se distrae, al abrir el o los vidrios, se está exponiendo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Algunos delincuentes usan niños para preparar el asalto. La criatura se aproxima para pedir dinero o vender algo, y otra persona simultáneamente observa el interior de su auto (celulares, carteras, computadoras, y demás objetos de valor)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Al mismo tiempo, esta persona puede aprovechar que usted está distraído(a) y meter la mano en su vehículo y darse a la fuga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262F-1FE5-43BC-B500-04F06F8C12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cc0000"/>
                </a:solidFill>
                <a:latin typeface="Verdana"/>
              </a:rPr>
              <a:t>CONTENIDO</a:t>
            </a:r>
            <a:endParaRPr b="1" lang="en-US" sz="32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2920" y="12189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1125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PRINCIPALES AMENAZAS</a:t>
            </a:r>
            <a:endParaRPr b="0" lang="en-US" sz="18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PREVENCION</a:t>
            </a:r>
            <a:endParaRPr b="0" lang="en-US" sz="18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ACCIONES DE PREVENCION</a:t>
            </a: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-280800">
              <a:lnSpc>
                <a:spcPct val="100000"/>
              </a:lnSpc>
              <a:spcAft>
                <a:spcPts val="1001"/>
              </a:spcAft>
              <a:buClr>
                <a:srgbClr val="0050a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cc0000"/>
                </a:solidFill>
                <a:latin typeface="Verdana"/>
              </a:rPr>
              <a:t>CAMINANDO POR LA CALLE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-280800">
              <a:lnSpc>
                <a:spcPct val="100000"/>
              </a:lnSpc>
              <a:spcAft>
                <a:spcPts val="1001"/>
              </a:spcAft>
              <a:buClr>
                <a:srgbClr val="0050a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cc0000"/>
                </a:solidFill>
                <a:latin typeface="Verdana"/>
              </a:rPr>
              <a:t>AL TOMAR UN TAXI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-280800">
              <a:lnSpc>
                <a:spcPct val="100000"/>
              </a:lnSpc>
              <a:spcAft>
                <a:spcPts val="1001"/>
              </a:spcAft>
              <a:buClr>
                <a:srgbClr val="0050a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cc0000"/>
                </a:solidFill>
                <a:latin typeface="Verdana"/>
              </a:rPr>
              <a:t>EN EL ESTACIONAMIENTO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-280800">
              <a:lnSpc>
                <a:spcPct val="100000"/>
              </a:lnSpc>
              <a:spcAft>
                <a:spcPts val="1001"/>
              </a:spcAft>
              <a:buClr>
                <a:srgbClr val="0050a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cc0000"/>
                </a:solidFill>
                <a:latin typeface="Verdana"/>
              </a:rPr>
              <a:t>CONDUCIENDO EL AUTO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-280800">
              <a:lnSpc>
                <a:spcPct val="100000"/>
              </a:lnSpc>
              <a:spcAft>
                <a:spcPts val="1001"/>
              </a:spcAft>
              <a:buClr>
                <a:srgbClr val="0050a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cc0000"/>
                </a:solidFill>
                <a:latin typeface="Verdana"/>
              </a:rPr>
              <a:t>ABORDADO EN EL VEHICULO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-280800">
              <a:lnSpc>
                <a:spcPct val="100000"/>
              </a:lnSpc>
              <a:spcAft>
                <a:spcPts val="1001"/>
              </a:spcAft>
              <a:buClr>
                <a:srgbClr val="0050a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cc0000"/>
                </a:solidFill>
                <a:latin typeface="Verdana"/>
              </a:rPr>
              <a:t>PARADA EN SEMAFORO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-280800">
              <a:lnSpc>
                <a:spcPct val="100000"/>
              </a:lnSpc>
              <a:spcAft>
                <a:spcPts val="1001"/>
              </a:spcAft>
              <a:buClr>
                <a:srgbClr val="0050a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cc0000"/>
                </a:solidFill>
                <a:latin typeface="Verdana"/>
              </a:rPr>
              <a:t>EN EL CAJERO AUTOMATICO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-280800">
              <a:lnSpc>
                <a:spcPct val="100000"/>
              </a:lnSpc>
              <a:spcAft>
                <a:spcPts val="1001"/>
              </a:spcAft>
              <a:buClr>
                <a:srgbClr val="0050a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cc0000"/>
                </a:solidFill>
                <a:latin typeface="Verdana"/>
              </a:rPr>
              <a:t>DURANTE LAS COMPRAS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SI ES ATACADO</a:t>
            </a:r>
            <a:endParaRPr b="0" lang="en-US" sz="18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VALORICE SU VIDA</a:t>
            </a:r>
            <a:endParaRPr b="0" lang="en-US" sz="18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FCD8-AECF-4236-BDDC-40211DE54E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5240" y="-30492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PARADA EN SEMAFOR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02920" y="68544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Coloque maletines, bolsos o carteras en el baúl y el celular en la guantera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Si tiene que detenerse, mantenga siempre el cambio en primera, no en neutro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Si sospecha de alguna cosa, procure quedar cerca (pegado) al auto a su izquierda, no dejando espacio para el abordaje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Manténgase atento a su entorno. No se distraiga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cc0000"/>
                </a:solidFill>
                <a:latin typeface="Verdana"/>
              </a:rPr>
              <a:t>“</a:t>
            </a:r>
            <a:r>
              <a:rPr b="0" lang="es-SV" sz="2400" spc="-1" strike="noStrike">
                <a:solidFill>
                  <a:srgbClr val="cc0000"/>
                </a:solidFill>
                <a:latin typeface="Verdana"/>
              </a:rPr>
              <a:t>La sorpresa es la mejor arma del delincuente”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B849-1937-4D28-93EE-1870710CD5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20840" y="1295280"/>
            <a:ext cx="8337600" cy="47246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09dd9"/>
                </a:solidFill>
                <a:latin typeface="Verdana"/>
              </a:rPr>
              <a:t>PARADA EN SEMAFOR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438600" y="4190760"/>
            <a:ext cx="281124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80808"/>
                </a:solidFill>
                <a:latin typeface="Verdana"/>
              </a:rPr>
              <a:t>Hacer click para explicación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7512120" y="3276720"/>
            <a:ext cx="679320" cy="662040"/>
          </a:xfrm>
          <a:custGeom>
            <a:avLst/>
            <a:gdLst>
              <a:gd name="textAreaLeft" fmla="*/ 42840 w 679320"/>
              <a:gd name="textAreaRight" fmla="*/ 636480 w 6793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163" h="21600">
                <a:moveTo>
                  <a:pt x="0" y="0"/>
                </a:moveTo>
                <a:lnTo>
                  <a:pt x="22163" y="0"/>
                </a:lnTo>
                <a:lnTo>
                  <a:pt x="22163" y="21600"/>
                </a:lnTo>
                <a:lnTo>
                  <a:pt x="0" y="21600"/>
                </a:lnTo>
                <a:close/>
              </a:path>
              <a:path fill="lightenLess" w="22163" h="21600">
                <a:moveTo>
                  <a:pt x="0" y="0"/>
                </a:moveTo>
                <a:lnTo>
                  <a:pt x="22163" y="0"/>
                </a:lnTo>
                <a:lnTo>
                  <a:pt x="20763" y="1400"/>
                </a:lnTo>
                <a:lnTo>
                  <a:pt x="1400" y="1400"/>
                </a:lnTo>
                <a:close/>
              </a:path>
              <a:path fill="darken" w="22163" h="21600">
                <a:moveTo>
                  <a:pt x="22163" y="0"/>
                </a:moveTo>
                <a:lnTo>
                  <a:pt x="22163" y="21600"/>
                </a:lnTo>
                <a:lnTo>
                  <a:pt x="20763" y="20200"/>
                </a:lnTo>
                <a:lnTo>
                  <a:pt x="20763" y="1400"/>
                </a:lnTo>
                <a:close/>
              </a:path>
              <a:path fill="darkenLess" w="22163" h="21600">
                <a:moveTo>
                  <a:pt x="22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63" y="20200"/>
                </a:lnTo>
                <a:close/>
              </a:path>
              <a:path fill="lighten" w="22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63" h="21600">
                <a:moveTo>
                  <a:pt x="1108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163" h="21600">
                <a:moveTo>
                  <a:pt x="1108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163" h="21600">
                <a:moveTo>
                  <a:pt x="8505" y="8224"/>
                </a:moveTo>
                <a:lnTo>
                  <a:pt x="12370" y="8224"/>
                </a:lnTo>
                <a:lnTo>
                  <a:pt x="12370" y="15221"/>
                </a:lnTo>
                <a:lnTo>
                  <a:pt x="13658" y="15221"/>
                </a:lnTo>
                <a:lnTo>
                  <a:pt x="13658" y="16144"/>
                </a:lnTo>
                <a:lnTo>
                  <a:pt x="8505" y="16144"/>
                </a:lnTo>
                <a:lnTo>
                  <a:pt x="8505" y="15221"/>
                </a:lnTo>
                <a:lnTo>
                  <a:pt x="9794" y="15221"/>
                </a:lnTo>
                <a:lnTo>
                  <a:pt x="9794" y="9129"/>
                </a:lnTo>
                <a:lnTo>
                  <a:pt x="8505" y="9129"/>
                </a:lnTo>
                <a:close/>
              </a:path>
            </a:pathLst>
          </a:cu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0" name="">
            <a:hlinkClick r:id="rId2" action="ppaction://hlinksldjump"/>
          </p:cNvPr>
          <p:cNvSpPr/>
          <p:nvPr/>
        </p:nvSpPr>
        <p:spPr>
          <a:xfrm>
            <a:off x="8997840" y="5867280"/>
            <a:ext cx="495360" cy="457200"/>
          </a:xfrm>
          <a:custGeom>
            <a:avLst/>
            <a:gdLst>
              <a:gd name="textAreaLeft" fmla="*/ 29520 w 495360"/>
              <a:gd name="textAreaRight" fmla="*/ 465840 w 495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401" h="21600">
                <a:moveTo>
                  <a:pt x="0" y="0"/>
                </a:moveTo>
                <a:lnTo>
                  <a:pt x="23401" y="0"/>
                </a:lnTo>
                <a:lnTo>
                  <a:pt x="23401" y="21600"/>
                </a:lnTo>
                <a:lnTo>
                  <a:pt x="0" y="21600"/>
                </a:lnTo>
                <a:close/>
              </a:path>
              <a:path fill="lightenLess" w="23401" h="21600">
                <a:moveTo>
                  <a:pt x="0" y="0"/>
                </a:moveTo>
                <a:lnTo>
                  <a:pt x="23401" y="0"/>
                </a:lnTo>
                <a:lnTo>
                  <a:pt x="22001" y="1400"/>
                </a:lnTo>
                <a:lnTo>
                  <a:pt x="1400" y="1400"/>
                </a:lnTo>
                <a:close/>
              </a:path>
              <a:path fill="darken" w="23401" h="21600">
                <a:moveTo>
                  <a:pt x="23401" y="0"/>
                </a:moveTo>
                <a:lnTo>
                  <a:pt x="23401" y="21600"/>
                </a:lnTo>
                <a:lnTo>
                  <a:pt x="22001" y="20200"/>
                </a:lnTo>
                <a:lnTo>
                  <a:pt x="22001" y="1400"/>
                </a:lnTo>
                <a:close/>
              </a:path>
              <a:path fill="darkenLess" w="23401" h="21600">
                <a:moveTo>
                  <a:pt x="23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1" y="20200"/>
                </a:lnTo>
                <a:close/>
              </a:path>
              <a:path fill="lighten" w="23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1" h="21600">
                <a:moveTo>
                  <a:pt x="4694" y="3794"/>
                </a:moveTo>
                <a:lnTo>
                  <a:pt x="18707" y="10800"/>
                </a:lnTo>
                <a:lnTo>
                  <a:pt x="4694" y="17806"/>
                </a:lnTo>
                <a:close/>
              </a:path>
            </a:pathLst>
          </a:cu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16760" y="5943600"/>
            <a:ext cx="165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50aa"/>
                </a:solidFill>
                <a:latin typeface="Verdana"/>
              </a:rPr>
              <a:t>Siguient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EFF3-2236-4441-AB5D-24E13D5925B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PARADA EN SEMAFOR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02920" y="129528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En general, el centro de la calle o avenida es lo más segura, pues el delincuente irá a asaltar después de observar desde la acera o del parterre central.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Procure mantener distancia del auto de enfrente, </a:t>
            </a:r>
            <a:r>
              <a:rPr b="0" lang="es-SV" sz="1600" spc="-1" strike="noStrike">
                <a:solidFill>
                  <a:srgbClr val="0050aa"/>
                </a:solidFill>
                <a:latin typeface="Verdana"/>
              </a:rPr>
              <a:t>lo suficiente para visualizar las llantas traseras</a:t>
            </a: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, así usted podrá evadir rápidamente sin hacer mayores maniobras.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Si la intención fuera robar su auto, las primeras posiciones son más peligrosas, pues el asaltante tendrá su frente libre para dejar el lugar rápidamente.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Si la intención fuera robar objetos, las ultimas posiciones también se tornan peligrosas ya que el delincuente no se expondrá demasiado y tendrá mayor facilidad de escape por atrás del auto, sin tener que transitar entre otros vehículos parados. 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64" name="">
            <a:hlinkClick r:id="" action="ppaction://hlinkshowjump?jump=previousslide"/>
          </p:cNvPr>
          <p:cNvSpPr/>
          <p:nvPr/>
        </p:nvSpPr>
        <p:spPr>
          <a:xfrm>
            <a:off x="1650960" y="5943600"/>
            <a:ext cx="495360" cy="457200"/>
          </a:xfrm>
          <a:custGeom>
            <a:avLst/>
            <a:gdLst>
              <a:gd name="textAreaLeft" fmla="*/ 29520 w 495360"/>
              <a:gd name="textAreaRight" fmla="*/ 465840 w 495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401" h="21600">
                <a:moveTo>
                  <a:pt x="0" y="0"/>
                </a:moveTo>
                <a:lnTo>
                  <a:pt x="23401" y="0"/>
                </a:lnTo>
                <a:lnTo>
                  <a:pt x="23401" y="21600"/>
                </a:lnTo>
                <a:lnTo>
                  <a:pt x="0" y="21600"/>
                </a:lnTo>
                <a:close/>
              </a:path>
              <a:path fill="lightenLess" w="23401" h="21600">
                <a:moveTo>
                  <a:pt x="0" y="0"/>
                </a:moveTo>
                <a:lnTo>
                  <a:pt x="23401" y="0"/>
                </a:lnTo>
                <a:lnTo>
                  <a:pt x="22001" y="1400"/>
                </a:lnTo>
                <a:lnTo>
                  <a:pt x="1400" y="1400"/>
                </a:lnTo>
                <a:close/>
              </a:path>
              <a:path fill="darken" w="23401" h="21600">
                <a:moveTo>
                  <a:pt x="23401" y="0"/>
                </a:moveTo>
                <a:lnTo>
                  <a:pt x="23401" y="21600"/>
                </a:lnTo>
                <a:lnTo>
                  <a:pt x="22001" y="20200"/>
                </a:lnTo>
                <a:lnTo>
                  <a:pt x="22001" y="1400"/>
                </a:lnTo>
                <a:close/>
              </a:path>
              <a:path fill="darkenLess" w="23401" h="21600">
                <a:moveTo>
                  <a:pt x="23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1" y="20200"/>
                </a:lnTo>
                <a:close/>
              </a:path>
              <a:path fill="lighten" w="23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1" h="21600">
                <a:moveTo>
                  <a:pt x="4694" y="10800"/>
                </a:moveTo>
                <a:lnTo>
                  <a:pt x="18707" y="3794"/>
                </a:lnTo>
                <a:lnTo>
                  <a:pt x="18707" y="17806"/>
                </a:lnTo>
                <a:close/>
              </a:path>
            </a:pathLst>
          </a:cu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28760" y="6019920"/>
            <a:ext cx="165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50aa"/>
                </a:solidFill>
                <a:latin typeface="Verdana"/>
              </a:rPr>
              <a:t>Vol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95AF-2320-425C-B830-81D7EC6C7DD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EN EL CAJERO AUTOMATIC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03280" y="1142640"/>
            <a:ext cx="819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Pida al banco que su tarjeta de débito tenga un límite bajo para retiros de cajeros automáticos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Utilice los cajeros de bancos, supermercados, centros comerciales, estaciones de servicio u otros locales donde hay personal de seguridad y/o muchas personas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No confíe solamente en las cámaras de seguridad, </a:t>
            </a:r>
            <a:r>
              <a:rPr b="0" lang="es-SV" sz="2400" spc="-1" strike="noStrike">
                <a:solidFill>
                  <a:srgbClr val="0050aa"/>
                </a:solidFill>
                <a:latin typeface="Verdana"/>
              </a:rPr>
              <a:t>ellas no impiden que alguien le asalte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No acepte ayuda de extraños cuando estuviere en un cajero automático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1375-C6A8-4A4E-B38C-B8C36463E1D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2800" y="-49536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DURANTE LAS COMPRAS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47920" y="609480"/>
            <a:ext cx="8007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Observe contactos con personas si ocurren más de una vez en los alrededores o dentro de tiendas. En un centro comercial circula mucha gente; siendo así, no es común cruzarse con la misma persona y sentirse observado(a) más de una o dos veces. Esa persona puede estar observándolo(a) para seleccionarlo(a)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Si nota algo extraño, procure entrar a una tienda poco común (hombres en tiendas de lencería y mujeres en tiendas de herramientas por ejemplo). Si la persona entra o queda del lado de afuera observando, es muy probable que usted está en el proceso </a:t>
            </a:r>
            <a:r>
              <a:rPr b="0" lang="es-SV" sz="2400" spc="-1" strike="noStrike">
                <a:solidFill>
                  <a:srgbClr val="0050aa"/>
                </a:solidFill>
                <a:latin typeface="Verdana"/>
              </a:rPr>
              <a:t>“selección de víctimas”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8A173-CCFB-4286-B8CD-0950ECEB4D3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5240" y="-381240"/>
            <a:ext cx="7759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DURANTE LAS COMPRAS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720" y="6094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Si eso ocurre, busque a seguridad del centro comercial y explique la situación. A la hora de partir, pida que alguien de seguridad le acompañe hasta el auto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Al percibir el delincuente que usted no es un blanco fácil, podría desistir de la acción contra usted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No lleve muchas tarjetas de crédito, mucho dinero o talonarios de cheque. Programe su compra, escoja como irá a pagar y salga de su casa sólo con lo necesario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No abra la cartera frente al cajero(a), dejando que él(ella) vea sus tarjetas o efectivo. Se ha reportado de cajeros que pasan información vía celular a delincuentes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050aa"/>
                </a:solidFill>
                <a:latin typeface="Verdana"/>
              </a:rPr>
              <a:t>Los delincuentes observan durante las compras, siguen hasta el estacionamiento, identifican el auto y aguardan la mejor oportunidad para el asalto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3F0C-B4A5-4E53-8FC9-196F09B79C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4000" spc="-1" strike="noStrike">
                <a:solidFill>
                  <a:srgbClr val="cc0000"/>
                </a:solidFill>
                <a:latin typeface="Verdana"/>
              </a:rPr>
              <a:t>SI ES ATACADO</a:t>
            </a:r>
            <a:endParaRPr b="1" lang="en-US" sz="40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55600" y="1218960"/>
            <a:ext cx="85852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414720" algn="just">
              <a:lnSpc>
                <a:spcPct val="120000"/>
              </a:lnSpc>
              <a:spcAft>
                <a:spcPts val="1500"/>
              </a:spcAft>
              <a:buClr>
                <a:srgbClr val="08080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CONSERVE   LA  CALMA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414720" indent="-414720" algn="just">
              <a:lnSpc>
                <a:spcPct val="120000"/>
              </a:lnSpc>
              <a:spcAft>
                <a:spcPts val="1500"/>
              </a:spcAft>
              <a:buClr>
                <a:srgbClr val="08080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Pida calma al delincuente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414720" indent="-414720" algn="just">
              <a:lnSpc>
                <a:spcPct val="120000"/>
              </a:lnSpc>
              <a:spcAft>
                <a:spcPts val="1500"/>
              </a:spcAft>
              <a:buClr>
                <a:srgbClr val="08080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Haga que él se sienta con el </a:t>
            </a:r>
            <a:r>
              <a:rPr b="0" lang="es-SV" sz="2400" spc="-1" strike="noStrike">
                <a:solidFill>
                  <a:srgbClr val="cc0000"/>
                </a:solidFill>
                <a:latin typeface="Verdana"/>
              </a:rPr>
              <a:t>control de la situación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414720" indent="-414720" algn="just">
              <a:lnSpc>
                <a:spcPct val="120000"/>
              </a:lnSpc>
              <a:spcAft>
                <a:spcPts val="1500"/>
              </a:spcAft>
              <a:buClr>
                <a:srgbClr val="08080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 u="sng">
                <a:solidFill>
                  <a:srgbClr val="cc0000"/>
                </a:solidFill>
                <a:uFillTx/>
                <a:latin typeface="Verdana"/>
              </a:rPr>
              <a:t>Nunca se resista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, entregue los objetos que le sean pedidos. </a:t>
            </a:r>
            <a:r>
              <a:rPr b="0" lang="es-SV" sz="2400" spc="-1" strike="noStrike">
                <a:solidFill>
                  <a:srgbClr val="003c7e"/>
                </a:solidFill>
                <a:latin typeface="Verdana"/>
              </a:rPr>
              <a:t>Evite llevar grandes valores, documentos importantes u objetos de gran estima, así usted no crea la tendencia psicológica de resistir al asalto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414720" indent="-414720" algn="just">
              <a:lnSpc>
                <a:spcPct val="120000"/>
              </a:lnSpc>
              <a:spcAft>
                <a:spcPts val="1500"/>
              </a:spcAft>
              <a:buClr>
                <a:srgbClr val="08080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No transmita ENOJO o sentimiento de venganza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414720" indent="-414720" algn="just">
              <a:lnSpc>
                <a:spcPct val="120000"/>
              </a:lnSpc>
              <a:spcAft>
                <a:spcPts val="1500"/>
              </a:spcAft>
              <a:buClr>
                <a:srgbClr val="08080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cc0000"/>
                </a:solidFill>
                <a:latin typeface="Verdana"/>
              </a:rPr>
              <a:t>Contra un arma de fuego, no existe fuerza física suficiente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9EDD-ECE5-4D40-BB4D-95945D66D4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5240" y="-152640"/>
            <a:ext cx="7759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cc0000"/>
                </a:solidFill>
                <a:latin typeface="Verdana"/>
              </a:rPr>
              <a:t>SI ES ATACADO</a:t>
            </a:r>
            <a:endParaRPr b="1" lang="en-US" sz="28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028520"/>
            <a:ext cx="8890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97800" algn="just">
              <a:lnSpc>
                <a:spcPct val="120000"/>
              </a:lnSpc>
              <a:spcAft>
                <a:spcPts val="1500"/>
              </a:spcAft>
              <a:buClr>
                <a:srgbClr val="080808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Nunca cree situaciones que hagan al delincuente sentir que está perdiendo el control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397800" indent="-397800" algn="just">
              <a:lnSpc>
                <a:spcPct val="120000"/>
              </a:lnSpc>
              <a:spcAft>
                <a:spcPts val="1500"/>
              </a:spcAft>
              <a:buClr>
                <a:srgbClr val="080808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Nunca responda a las agresiones físicas contra usted o sus acompañantes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397800" indent="-397800" algn="just">
              <a:lnSpc>
                <a:spcPct val="120000"/>
              </a:lnSpc>
              <a:spcAft>
                <a:spcPts val="1500"/>
              </a:spcAft>
              <a:buClr>
                <a:srgbClr val="080808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Recuerde: </a:t>
            </a:r>
            <a:r>
              <a:rPr b="0" lang="es-SV" sz="2400" spc="-1" strike="noStrike">
                <a:solidFill>
                  <a:srgbClr val="cc0000"/>
                </a:solidFill>
                <a:latin typeface="Verdana"/>
              </a:rPr>
              <a:t>el objetivo principal es sobrevivir al asalto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. Personas que son asaltadas y salen vivas no son noticia, las muertas sí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397800" indent="-397800" algn="just">
              <a:lnSpc>
                <a:spcPct val="120000"/>
              </a:lnSpc>
              <a:spcAft>
                <a:spcPts val="1500"/>
              </a:spcAft>
              <a:buClr>
                <a:srgbClr val="080808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El delincuente drogado o bebido tiene reflejos alterados; siendo así, haga TODO con mucha calma y con movimientos suaves INFORMANDO sus acciones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CA41-8299-4F36-935C-4BB8F98C042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4000" spc="-1" strike="noStrike">
                <a:solidFill>
                  <a:srgbClr val="cc0000"/>
                </a:solidFill>
                <a:latin typeface="Verdana"/>
              </a:rPr>
              <a:t>VALORICE SU VIDA</a:t>
            </a:r>
            <a:endParaRPr b="1" lang="en-US" sz="40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55600" y="990360"/>
            <a:ext cx="858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406440" algn="just">
              <a:lnSpc>
                <a:spcPct val="120000"/>
              </a:lnSpc>
              <a:spcAft>
                <a:spcPts val="1500"/>
              </a:spcAft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Preocúpese siempre en evitar ser víctima de asaltos, </a:t>
            </a:r>
            <a:r>
              <a:rPr b="0" lang="es-SV" sz="2400" spc="-1" strike="noStrike">
                <a:solidFill>
                  <a:srgbClr val="cc0000"/>
                </a:solidFill>
                <a:latin typeface="Verdana"/>
              </a:rPr>
              <a:t>actúe en la prevención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, adquiera una postura segura y pro-activa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406440" indent="-406440" algn="just">
              <a:lnSpc>
                <a:spcPct val="120000"/>
              </a:lnSpc>
              <a:spcAft>
                <a:spcPts val="1500"/>
              </a:spcAft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Evite provocaciones en el tránsito, en bares o discotecas. Eso es señal de </a:t>
            </a:r>
            <a:r>
              <a:rPr b="0" lang="es-SV" sz="2400" spc="-1" strike="noStrike">
                <a:solidFill>
                  <a:srgbClr val="003c7e"/>
                </a:solidFill>
                <a:latin typeface="Verdana"/>
              </a:rPr>
              <a:t>inteligencia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y no de cobardía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406440" indent="-406440" algn="just">
              <a:lnSpc>
                <a:spcPct val="120000"/>
              </a:lnSpc>
              <a:spcAft>
                <a:spcPts val="1500"/>
              </a:spcAft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Durante un asalto, entregue todos los objetos que le sean pedidos. No hay nada más valioso que la vida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406440" indent="-406440" algn="just">
              <a:lnSpc>
                <a:spcPct val="120000"/>
              </a:lnSpc>
              <a:spcAft>
                <a:spcPts val="1500"/>
              </a:spcAft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Evite toda o cualquier situación que le pueda exponer a </a:t>
            </a:r>
            <a:r>
              <a:rPr b="0" lang="es-SV" sz="2400" spc="-1" strike="noStrike">
                <a:solidFill>
                  <a:srgbClr val="cc0000"/>
                </a:solidFill>
                <a:latin typeface="Verdana"/>
              </a:rPr>
              <a:t>Riesgos Innecesarios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6910-8716-4DA6-80D7-57291D3C5B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4000" spc="-1" strike="noStrike">
                <a:solidFill>
                  <a:srgbClr val="cc0000"/>
                </a:solidFill>
                <a:latin typeface="Verdana"/>
              </a:rPr>
              <a:t>VALORICE SU VIDA</a:t>
            </a:r>
            <a:endParaRPr b="1" lang="en-US" sz="40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812880" y="1193760"/>
            <a:ext cx="97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e0000"/>
                </a:solidFill>
                <a:latin typeface="Arial"/>
              </a:rPr>
              <a:t>POR FAVOR REENVIEN ESTO A SUS FAMILIARES Y  AMIGO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76520" y="3199680"/>
            <a:ext cx="728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80808"/>
                </a:solidFill>
                <a:latin typeface="Arial"/>
              </a:rPr>
              <a:t>HÁGANLO COMO CCO:  PARA QUE A </a:t>
            </a:r>
            <a:r>
              <a:rPr b="1" lang="es-ES" sz="3600" spc="-1" strike="noStrike">
                <a:solidFill>
                  <a:srgbClr val="080808"/>
                </a:solidFill>
                <a:latin typeface="Arial"/>
              </a:rPr>
              <a:t>TODOS</a:t>
            </a:r>
            <a:r>
              <a:rPr b="1" lang="es-ES" sz="3200" spc="-1" strike="noStrike">
                <a:solidFill>
                  <a:srgbClr val="080808"/>
                </a:solidFill>
                <a:latin typeface="Arial"/>
              </a:rPr>
              <a:t> LES LLEGUE, Y NO SE FORME UNA LISTA INTERMINABLE DE DIRECCIONES.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1F80-9F70-47FB-A5DB-3B1C9B14E29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2800" y="-22860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PRINCIPALES AMENAZAS</a:t>
            </a:r>
            <a:endParaRPr b="1" lang="en-US" sz="40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9320" y="990720"/>
            <a:ext cx="495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50a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.</a:t>
            </a:r>
            <a:endParaRPr b="0" lang="en-US" sz="2400" spc="1" strike="noStrike">
              <a:ln w="19080">
                <a:solidFill>
                  <a:srgbClr val="0050a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95280" y="2057400"/>
            <a:ext cx="495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50a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.</a:t>
            </a:r>
            <a:endParaRPr b="0" lang="en-US" sz="2400" spc="1" strike="noStrike">
              <a:ln w="19080">
                <a:solidFill>
                  <a:srgbClr val="0050a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71600" y="3105000"/>
            <a:ext cx="495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50a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.</a:t>
            </a:r>
            <a:endParaRPr b="0" lang="en-US" sz="2400" spc="1" strike="noStrike">
              <a:ln w="19080">
                <a:solidFill>
                  <a:srgbClr val="0050a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95280" y="4038480"/>
            <a:ext cx="495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50a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.</a:t>
            </a:r>
            <a:endParaRPr b="0" lang="en-US" sz="2400" spc="1" strike="noStrike">
              <a:ln w="19080">
                <a:solidFill>
                  <a:srgbClr val="0050a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4191120"/>
            <a:ext cx="7696080" cy="655200"/>
          </a:xfrm>
          <a:prstGeom prst="rect">
            <a:avLst/>
          </a:prstGeom>
          <a:gradFill rotWithShape="0">
            <a:gsLst>
              <a:gs pos="0">
                <a:srgbClr val="bfe9f5"/>
              </a:gs>
              <a:gs pos="100000">
                <a:srgbClr val="009d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100" spc="-1" strike="noStrike">
                <a:solidFill>
                  <a:srgbClr val="080808"/>
                </a:solidFill>
                <a:latin typeface="Verdana"/>
              </a:rPr>
              <a:t>Secuestro extorsivo</a:t>
            </a:r>
            <a:r>
              <a:rPr b="0" lang="es-SV" sz="2100" spc="-1" strike="noStrike">
                <a:solidFill>
                  <a:srgbClr val="080808"/>
                </a:solidFill>
                <a:latin typeface="Verdana"/>
              </a:rPr>
              <a:t> – </a:t>
            </a: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con pedido de rescat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Seleccionado por estatus, nivel económico, etc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3048120"/>
            <a:ext cx="7696080" cy="898560"/>
          </a:xfrm>
          <a:prstGeom prst="rect">
            <a:avLst/>
          </a:prstGeom>
          <a:gradFill rotWithShape="0">
            <a:gsLst>
              <a:gs pos="0">
                <a:srgbClr val="bfe9f5"/>
              </a:gs>
              <a:gs pos="100000">
                <a:srgbClr val="009d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100" spc="-1" strike="noStrike">
                <a:solidFill>
                  <a:srgbClr val="080808"/>
                </a:solidFill>
                <a:latin typeface="Verdana"/>
              </a:rPr>
              <a:t>Secuestro con vehículo</a:t>
            </a:r>
            <a:endParaRPr b="0" lang="en-US" sz="21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Para robar el vehículo. Cualquier vehículo está sujeto al secuestro.          Es hecho por encargo de año, color, marca y/o modelo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838080"/>
            <a:ext cx="7734240" cy="898560"/>
          </a:xfrm>
          <a:prstGeom prst="rect">
            <a:avLst/>
          </a:prstGeom>
          <a:gradFill rotWithShape="0">
            <a:gsLst>
              <a:gs pos="0">
                <a:srgbClr val="bfe9f5"/>
              </a:gs>
              <a:gs pos="100000">
                <a:srgbClr val="009d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100" spc="-1" strike="noStrike">
                <a:solidFill>
                  <a:srgbClr val="080808"/>
                </a:solidFill>
                <a:latin typeface="Verdana"/>
              </a:rPr>
              <a:t>Asalto a mano armada</a:t>
            </a:r>
            <a:endParaRPr b="0" lang="en-US" sz="21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Para robar prendas de valor, teléfonos celulares, etc. Las consecuencias están relacionadas a la reacción de la víctima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1981080"/>
            <a:ext cx="7696080" cy="898560"/>
          </a:xfrm>
          <a:prstGeom prst="rect">
            <a:avLst/>
          </a:prstGeom>
          <a:gradFill rotWithShape="0">
            <a:gsLst>
              <a:gs pos="0">
                <a:srgbClr val="bfe9f5"/>
              </a:gs>
              <a:gs pos="100000">
                <a:srgbClr val="009d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100" spc="-1" strike="noStrike">
                <a:solidFill>
                  <a:srgbClr val="080808"/>
                </a:solidFill>
                <a:latin typeface="Verdana"/>
              </a:rPr>
              <a:t>Secuestro EXPRESS o relámpago</a:t>
            </a:r>
            <a:endParaRPr b="0" lang="en-US" sz="21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Con duración de 1 a 24 horas generalmente, para realizar extracciones y transacciones bancarias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5105520"/>
            <a:ext cx="7696080" cy="885600"/>
          </a:xfrm>
          <a:prstGeom prst="rect">
            <a:avLst/>
          </a:prstGeom>
          <a:gradFill rotWithShape="0">
            <a:gsLst>
              <a:gs pos="0">
                <a:srgbClr val="009dd9"/>
              </a:gs>
              <a:gs pos="100000">
                <a:srgbClr val="bfe9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80808"/>
                </a:solidFill>
                <a:latin typeface="Arial"/>
              </a:rPr>
              <a:t>Asesinato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80808"/>
                </a:solidFill>
                <a:latin typeface="Arial"/>
              </a:rPr>
              <a:t>En Bogotá (Colombia): hay aproximadamente 98 muertos por dia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80808"/>
                </a:solidFill>
                <a:latin typeface="Arial"/>
              </a:rPr>
              <a:t>En São Paulo (Brasil): hay aproximadamente 12 muertos por dia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371600" y="5105520"/>
            <a:ext cx="495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50a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.</a:t>
            </a:r>
            <a:endParaRPr b="0" lang="en-US" sz="2400" spc="1" strike="noStrike">
              <a:ln w="19080">
                <a:solidFill>
                  <a:srgbClr val="0050a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7E872-D711-459E-BD99-F10116F4C2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71640" y="1269360"/>
            <a:ext cx="870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50aa"/>
                </a:solidFill>
                <a:latin typeface="Arial"/>
              </a:rPr>
              <a:t>LO IMPORTANTE ES DIFUNDIRLO,  RECUERDEN:                     REENVIARLO  NO CUESTA NADA, CON ELLO ESTAMOS TRABAJANDO EN LA </a:t>
            </a:r>
            <a:r>
              <a:rPr b="1" lang="es-ES" sz="3600" spc="-1" strike="noStrike">
                <a:solidFill>
                  <a:srgbClr val="cc0000"/>
                </a:solidFill>
                <a:latin typeface="Arial"/>
              </a:rPr>
              <a:t>PREVENCION,</a:t>
            </a:r>
            <a:r>
              <a:rPr b="1" lang="es-ES" sz="3600" spc="-1" strike="noStrike">
                <a:solidFill>
                  <a:srgbClr val="0050aa"/>
                </a:solidFill>
                <a:latin typeface="Arial"/>
              </a:rPr>
              <a:t> PARA QUE             NO LE PASE ALGO DE ESTO,                    A UN FAMILIAR O A UN AMIGO(A) . 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80FA-3312-47A0-8762-B844DC3CA98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219320" y="3970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ee0000"/>
                </a:solidFill>
                <a:latin typeface="Arial"/>
              </a:rPr>
              <a:t>REENVÍALO,  COLABOREMOS EN SU DIFUSIÓN .......... POR EL BIEN DE TODOS….</a:t>
            </a:r>
            <a:endParaRPr b="0" lang="en-US" sz="4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523880" y="4038480"/>
            <a:ext cx="81378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CHAS GRACIAS!. </a:t>
            </a:r>
            <a:endParaRPr b="0" lang="en-US" sz="2400" spc="1" strike="noStrike">
              <a:ln w="3816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CFC0-EC19-4A59-96E5-510EE0C1192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971800" y="4572000"/>
            <a:ext cx="5715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e9f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3581280"/>
            <a:ext cx="5715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e9f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22860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0000"/>
                </a:solidFill>
                <a:latin typeface="Arial Narrow"/>
              </a:rPr>
              <a:t>PREVENCION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1219320"/>
            <a:ext cx="838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80808"/>
                </a:solidFill>
                <a:latin typeface="Arial"/>
              </a:rPr>
              <a:t>Nada está garantizado en un 100% cuando se trata de Seguridad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00200" y="2629080"/>
            <a:ext cx="1066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600200" y="3619440"/>
            <a:ext cx="1066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5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600200" y="4610160"/>
            <a:ext cx="1066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5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2590920"/>
            <a:ext cx="5715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e9f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2708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PREVENCION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36720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80808"/>
                </a:solidFill>
                <a:latin typeface="Arial"/>
              </a:rPr>
              <a:t>REACCION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46656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80808"/>
                </a:solidFill>
                <a:latin typeface="Arial"/>
              </a:rPr>
              <a:t>SUERT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579132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80808"/>
                </a:solidFill>
                <a:latin typeface="Arial"/>
              </a:rPr>
              <a:t>La prevención representa el 90% de la seguridad.             Por eso las acciones se deben concentrar en esta etapa.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3429000"/>
            <a:ext cx="5715000" cy="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4419720"/>
            <a:ext cx="5715000" cy="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B58E-991F-4905-8871-A454FE0CC4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081760" y="2971800"/>
            <a:ext cx="46717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e9f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36840" y="304920"/>
            <a:ext cx="68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80808"/>
                </a:solidFill>
                <a:latin typeface="Arial Narrow"/>
              </a:rPr>
              <a:t>PREPARACION  DE  UN ASALTO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42960" y="990720"/>
            <a:ext cx="7899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80808"/>
                </a:solidFill>
                <a:latin typeface="Arial"/>
              </a:rPr>
              <a:t>En general todo asalto tiene una cierta preparación que consiste en: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95280" y="2292480"/>
            <a:ext cx="3906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.º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1871640" y="2178000"/>
            <a:ext cx="3044880" cy="6858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4320" y="2306520"/>
            <a:ext cx="30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80808"/>
                </a:solidFill>
                <a:latin typeface="Arial"/>
              </a:rPr>
              <a:t>Elección del blanco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2209680"/>
            <a:ext cx="441936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e9f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2133720"/>
            <a:ext cx="44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80808"/>
                </a:solidFill>
                <a:latin typeface="Arial"/>
              </a:rPr>
              <a:t>Esta fase puede llevar meses, dias o apenas unos segundos. Es la fase en que el delincuente elige a quién atacar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95280" y="3130560"/>
            <a:ext cx="3906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.º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1871640" y="3016080"/>
            <a:ext cx="3044880" cy="6858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1640" y="2971800"/>
            <a:ext cx="301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80808"/>
                </a:solidFill>
                <a:latin typeface="Arial"/>
              </a:rPr>
              <a:t>Identificación del blanco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895480"/>
            <a:ext cx="46479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80808"/>
                </a:solidFill>
                <a:latin typeface="Arial"/>
              </a:rPr>
              <a:t>Esto ocurre luego de elegir el blanco. Generalmente es el más débil, el más distraído o el que tiene lo que el delincuente busca</a:t>
            </a:r>
            <a:r>
              <a:rPr b="1" lang="pt-BR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80808"/>
                </a:solidFill>
                <a:latin typeface="Arial"/>
              </a:rPr>
              <a:t>(dinero, modelo de auto, etc.), 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81760" y="3778200"/>
            <a:ext cx="436716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e9f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95280" y="3892680"/>
            <a:ext cx="3906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.º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1871640" y="3778200"/>
            <a:ext cx="3044880" cy="6858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4320" y="3906720"/>
            <a:ext cx="30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80808"/>
                </a:solidFill>
                <a:latin typeface="Arial"/>
              </a:rPr>
              <a:t>Vigilancia (*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81760" y="3809880"/>
            <a:ext cx="44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80808"/>
                </a:solidFill>
                <a:latin typeface="Arial"/>
              </a:rPr>
              <a:t>Período en que el delincuente evalúa la situación antes de atacar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81760" y="4584600"/>
            <a:ext cx="46717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e9f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95280" y="4699080"/>
            <a:ext cx="3906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.º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1871640" y="4584600"/>
            <a:ext cx="3044880" cy="6858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4320" y="4713120"/>
            <a:ext cx="30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80808"/>
                </a:solidFill>
                <a:latin typeface="Arial"/>
              </a:rPr>
              <a:t>Planeamiento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4495680"/>
            <a:ext cx="45957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80808"/>
                </a:solidFill>
                <a:latin typeface="Arial"/>
              </a:rPr>
              <a:t>El delincuente tiene todo lo que necesita; ahora planea cómo será el ataque (dia, hora, lugar, forma de abordarlo, arma, etc).</a:t>
            </a:r>
            <a:endParaRPr b="0" lang="en-US" sz="13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98960" y="5410080"/>
            <a:ext cx="467856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e9f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95280" y="5492880"/>
            <a:ext cx="3906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.º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1871640" y="5378400"/>
            <a:ext cx="3044880" cy="6858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4320" y="5506920"/>
            <a:ext cx="30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80808"/>
                </a:solidFill>
                <a:latin typeface="Arial"/>
              </a:rPr>
              <a:t>Ataque (**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5332320"/>
            <a:ext cx="4595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80808"/>
                </a:solidFill>
                <a:latin typeface="Arial"/>
              </a:rPr>
              <a:t>El delincuente ataca. En esta fase ya no hay cómo hacer prevención, y menos del 5% de las acciones de interrupción tienen éxito.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23960" y="6032520"/>
            <a:ext cx="765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80808"/>
                </a:solidFill>
                <a:latin typeface="Arial"/>
              </a:rPr>
              <a:t>(*)   Es el mejor momento para interrumpir la acción del delincuente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80808"/>
                </a:solidFill>
                <a:latin typeface="Arial"/>
              </a:rPr>
              <a:t>(**) Es el peor momento para interrumpir la acción del delincuente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71640" y="2936880"/>
            <a:ext cx="715968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71640" y="3733920"/>
            <a:ext cx="715968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71640" y="4513320"/>
            <a:ext cx="715968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71640" y="5334120"/>
            <a:ext cx="715968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84920" y="2168640"/>
            <a:ext cx="0" cy="38862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8D2C-CEDE-45D4-9B0C-485E66A22E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1295280" y="228600"/>
            <a:ext cx="7620120" cy="5562720"/>
            <a:chOff x="1295280" y="228600"/>
            <a:chExt cx="7620120" cy="5562720"/>
          </a:xfrm>
        </p:grpSpPr>
        <p:sp>
          <p:nvSpPr>
            <p:cNvPr id="169" name=""/>
            <p:cNvSpPr/>
            <p:nvPr/>
          </p:nvSpPr>
          <p:spPr>
            <a:xfrm>
              <a:off x="1295280" y="1905120"/>
              <a:ext cx="7620120" cy="3886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e9f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90920" y="228600"/>
              <a:ext cx="632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cc0000"/>
                  </a:solidFill>
                  <a:latin typeface="Arial Narrow"/>
                </a:rPr>
                <a:t>REGLAS 1</a:t>
              </a:r>
              <a:endParaRPr b="0" lang="en-US" sz="3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47920" y="1108080"/>
              <a:ext cx="7391160" cy="43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080808"/>
                  </a:solidFill>
                  <a:latin typeface="Arial"/>
                </a:rPr>
                <a:t>El delincuente:</a:t>
              </a:r>
              <a:endParaRPr b="0" lang="en-US" sz="26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75"/>
                </a:spcBef>
                <a:buClr>
                  <a:srgbClr val="080808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1" lang="pt-BR" sz="2200" spc="-1" strike="noStrike">
                  <a:solidFill>
                    <a:srgbClr val="080808"/>
                  </a:solidFill>
                  <a:latin typeface="Arial"/>
                </a:rPr>
                <a:t>No quiere exponerse;</a:t>
              </a:r>
              <a:endParaRPr b="0" lang="en-US" sz="22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75"/>
                </a:spcBef>
                <a:buClr>
                  <a:srgbClr val="080808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1" lang="pt-BR" sz="2200" spc="-1" strike="noStrike">
                  <a:solidFill>
                    <a:srgbClr val="080808"/>
                  </a:solidFill>
                  <a:latin typeface="Arial"/>
                </a:rPr>
                <a:t>Siempre elige sus víctimas;</a:t>
              </a:r>
              <a:endParaRPr b="0" lang="en-US" sz="22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75"/>
                </a:spcBef>
                <a:buClr>
                  <a:srgbClr val="080808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1" lang="pt-BR" sz="2200" spc="-1" strike="noStrike">
                  <a:solidFill>
                    <a:srgbClr val="080808"/>
                  </a:solidFill>
                  <a:latin typeface="Arial"/>
                </a:rPr>
                <a:t>Siempre elige lo más fácil, es decir el más desprevenido;</a:t>
              </a:r>
              <a:endParaRPr b="0" lang="en-US" sz="22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75"/>
                </a:spcBef>
                <a:buClr>
                  <a:srgbClr val="080808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1" lang="pt-BR" sz="2200" spc="-1" strike="noStrike">
                  <a:solidFill>
                    <a:srgbClr val="080808"/>
                  </a:solidFill>
                  <a:latin typeface="Arial"/>
                </a:rPr>
                <a:t>Durante un asalto el delincuente está nervioso, receloso y desconfiado;</a:t>
              </a:r>
              <a:endParaRPr b="0" lang="en-US" sz="22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75"/>
                </a:spcBef>
                <a:buClr>
                  <a:srgbClr val="080808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1" lang="pt-BR" sz="2200" spc="-1" strike="noStrike">
                  <a:solidFill>
                    <a:srgbClr val="080808"/>
                  </a:solidFill>
                  <a:latin typeface="Arial"/>
                </a:rPr>
                <a:t>Reaccionar es una actitud de altísimo riesgo. </a:t>
              </a:r>
              <a:endParaRPr b="0" lang="en-US" sz="2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8631-E8C4-49DD-B2B4-8557659FE0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90920" y="2286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 Narrow"/>
              </a:rPr>
              <a:t>REGLAS 2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1108080"/>
            <a:ext cx="815328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80808"/>
                </a:solidFill>
                <a:latin typeface="Arial"/>
              </a:rPr>
              <a:t>El delincuente no tiene un aspecto determinado. El modelo de delincuente mal vestido quedó atras: Hoy, muchas personas narran que fueron abordadas en semáforos por delincuentes elegantes de traje y corbata, y al abrir el vidrio fueron asaltadas. 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80808"/>
                </a:solidFill>
                <a:latin typeface="Arial"/>
              </a:rPr>
              <a:t>También aumentó mucho la participación de mujeres.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3732120"/>
            <a:ext cx="7925040" cy="26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6600"/>
                </a:solidFill>
                <a:latin typeface="Arial"/>
              </a:rPr>
              <a:t>Observe siempre: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808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80808"/>
                </a:solidFill>
                <a:latin typeface="Arial"/>
              </a:rPr>
              <a:t>El comportamiento, un poco nervioso, inquieto.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808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80808"/>
                </a:solidFill>
                <a:latin typeface="Arial"/>
              </a:rPr>
              <a:t>Las manos (generalmente escondidas en los  bolsos);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808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80808"/>
                </a:solidFill>
                <a:latin typeface="Arial"/>
              </a:rPr>
              <a:t>Los ojos (dicen que los ojos son el reflejo del alma, y esto es verdad: observe los ojos y sabrá si tiene mala intención o no).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DD81-C455-4713-8967-41083EF546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ACCIONES DE PREVENCION</a:t>
            </a:r>
            <a:endParaRPr b="1" lang="en-US" sz="40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55240" y="220968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5280" indent="0">
              <a:lnSpc>
                <a:spcPct val="11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80808"/>
                </a:solidFill>
                <a:latin typeface="Verdana"/>
              </a:rPr>
              <a:t>Creer que no le va a ocurrir a usted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lvl="1" marL="395280" indent="0">
              <a:lnSpc>
                <a:spcPct val="11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Verdana"/>
            </a:endParaRPr>
          </a:p>
          <a:p>
            <a:pPr lvl="1" marL="395280" indent="0">
              <a:lnSpc>
                <a:spcPct val="11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80808"/>
                </a:solidFill>
                <a:latin typeface="Verdana"/>
              </a:rPr>
              <a:t>Permitir que ocurra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03280" y="1447920"/>
            <a:ext cx="2146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RRADO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71600" y="3886200"/>
            <a:ext cx="2330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RRECTO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/>
          <p:nvPr/>
        </p:nvSpPr>
        <p:spPr>
          <a:xfrm>
            <a:off x="1320840" y="4724280"/>
            <a:ext cx="8420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395280" indent="-280800" algn="ctr"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80808"/>
                </a:solidFill>
                <a:latin typeface="Verdana"/>
              </a:rPr>
              <a:t>Actuar preventivamente, evitando que ocurra el “ACERCAMIENTO”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20C1-B0AD-43B1-80C1-A63879768E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23:13:00Z</dcterms:created>
  <dc:creator>Avila Bauman, Ricardo - rajw on 789G4TD</dc:creator>
  <dc:description/>
  <cp:keywords/>
  <dc:language>en-US</dc:language>
  <cp:lastModifiedBy>MUNICIPIO-GYE</cp:lastModifiedBy>
  <cp:lastPrinted>2005-05-02T21:07:18Z</cp:lastPrinted>
  <dcterms:modified xsi:type="dcterms:W3CDTF">2009-06-26T16:53:47Z</dcterms:modified>
  <cp:revision>31</cp:revision>
  <dc:subject/>
  <dc:title>SEGURIDAD PERSONAL EN AREAS DE ALTO RIESGO</dc:title>
</cp:coreProperties>
</file>