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027-D135-44FC-9E5B-CBBD691AF8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3748-AE78-4EBE-8B25-A7431D83E8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604-20C9-41CF-B986-90E0829E92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ED4-E60E-4993-8178-3E059965D9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E9FC-62CC-4642-B1D7-D3F0A3E0F3F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9D4-6C52-4A35-987E-DDE4805BC7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E8C-5BCB-4B46-A142-896F3220542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14B-EBF6-4CAC-902E-25141CF135B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3ED-FA33-46BA-BFF6-0AC6DD95E1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207C-4EBC-438F-A944-A32FE30D7A2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84C5-1A98-4DB4-A832-58CAAA5C7E2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348-85E0-40AA-8F44-58555E09731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9286-133B-4FAE-B6AA-7B5D512EEE3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54E7-FFC3-42EA-98CB-EC623645EB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0DAF-C2A6-42A1-949E-324CEFA2AC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CCEB-918C-4DD2-BF1A-B5FA630BEF6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A02-561B-4CDC-A2CC-C0C951002C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69FE-093F-4DE2-B4E8-F078A28DD30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96C-16BB-4274-AFB2-3A593FAE04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47A-92A7-4D98-A1B9-D51D0F1FB0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C6D-C755-4608-92AF-88E4DAD3A4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9F48-AB9A-4CEC-AA40-09D2701677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A113-92B8-4BC8-974B-11FF6E49E0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6FF2-61B4-4E09-B7A7-9CD9781220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C5F-6617-4AAA-98B4-CA1759011E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1F2-2ED4-42B1-9407-8D2C51E9E1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CE9-3E81-4185-A595-B227E17C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C88-7965-4615-AB00-C8CB155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BE6-16D2-4556-BA58-665C427D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E06-8EEB-4031-9A74-B4F0490C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C91-8BA6-4157-AD9D-61FAE784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E3F-8A71-4717-ADED-C578EA2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CB9-1620-42B7-BB8F-9FBEC40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37-906F-40CB-B8F1-E2AC8FF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611-3EDF-45ED-AAF5-8408D6C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A85-E377-4B7E-AEF8-5905DBAE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048-754D-4946-8D66-92CABF9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369-169E-47CB-9978-EC75FC4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891D-3BC8-499D-87A9-886AB78450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refeitura.sp.org.br/" TargetMode="External"/><Relationship Id="rId2" Type="http://schemas.openxmlformats.org/officeDocument/2006/relationships/hyperlink" Target="http://www.webluxo.com.br/" TargetMode="External"/><Relationship Id="rId3" Type="http://schemas.openxmlformats.org/officeDocument/2006/relationships/hyperlink" Target="http://www.ibge.gov.br/" TargetMode="External"/><Relationship Id="rId4" Type="http://schemas.openxmlformats.org/officeDocument/2006/relationships/hyperlink" Target="http://www.timesonline.co.uk/" TargetMode="External"/><Relationship Id="rId5" Type="http://schemas.openxmlformats.org/officeDocument/2006/relationships/hyperlink" Target="http://www.nytimes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Broadway"/>
              </a:rPr>
              <a:t>São Pa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566064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ital dos Negócios, da Cultura e da Gastrono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Enya - Adiemu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8"/>
          <p:cNvGrpSpPr/>
          <p:nvPr/>
        </p:nvGrpSpPr>
        <p:grpSpPr>
          <a:xfrm>
            <a:off x="1908000" y="1125360"/>
            <a:ext cx="5553360" cy="4411080"/>
            <a:chOff x="1908000" y="1125360"/>
            <a:chExt cx="5553360" cy="4411080"/>
          </a:xfrm>
        </p:grpSpPr>
        <p:pic>
          <p:nvPicPr>
            <p:cNvPr id="52" name="Picture 15" descr="centro_da_cidade_galleryfull"/>
            <p:cNvPicPr/>
            <p:nvPr/>
          </p:nvPicPr>
          <p:blipFill>
            <a:blip r:embed="rId2"/>
            <a:stretch/>
          </p:blipFill>
          <p:spPr>
            <a:xfrm>
              <a:off x="1908000" y="1125360"/>
              <a:ext cx="5553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7"/>
            <p:cNvSpPr/>
            <p:nvPr/>
          </p:nvSpPr>
          <p:spPr>
            <a:xfrm>
              <a:off x="2050920" y="522936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Marginal Pinhei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498492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P TEM O MAIOR NÚMERO DE SERVIÇAIS E SEGURANÇAS DAS AMÉR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NDE GANHO MÉDIO DE UM GARÇON É DE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$ 17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oteis2"/>
          <p:cNvPicPr/>
          <p:nvPr/>
        </p:nvPicPr>
        <p:blipFill>
          <a:blip r:embed="rId1"/>
          <a:stretch/>
        </p:blipFill>
        <p:spPr>
          <a:xfrm rot="21133800">
            <a:off x="611280" y="620640"/>
            <a:ext cx="3944880" cy="378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asludna_nacaodaslu_apoios"/>
          <p:cNvPicPr/>
          <p:nvPr/>
        </p:nvPicPr>
        <p:blipFill>
          <a:blip r:embed="rId2"/>
          <a:stretch/>
        </p:blipFill>
        <p:spPr>
          <a:xfrm rot="437400">
            <a:off x="5508360" y="765000"/>
            <a:ext cx="2743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32000" y="907560"/>
            <a:ext cx="421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8748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0.434.252 milhões de habitante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-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3º maior cidade do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.530 km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 (Tamanho de Cu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taxa de alfabetização está em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95,4%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da popul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PIB de US$ 147 bilhõe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- cerca de 15% do PIB nacional - o terceiro maior PIB do país (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maior PIB é o da União, o segundo maior é o do Estado de São Paulo e o terceiro maior é o da cidade de São Paul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IDH de 0,841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– considerado como de alto desenvolvimento humano segundo o Programa das Naço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260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900000" y="1700280"/>
            <a:ext cx="3530880" cy="4051800"/>
            <a:chOff x="900000" y="1700280"/>
            <a:chExt cx="3530880" cy="4051800"/>
          </a:xfrm>
        </p:grpSpPr>
        <p:pic>
          <p:nvPicPr>
            <p:cNvPr id="99" name="Picture 5" descr="747769-7587-it2"/>
            <p:cNvPicPr/>
            <p:nvPr/>
          </p:nvPicPr>
          <p:blipFill>
            <a:blip r:embed="rId1"/>
            <a:stretch/>
          </p:blipFill>
          <p:spPr>
            <a:xfrm>
              <a:off x="900000" y="1700280"/>
              <a:ext cx="353088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234000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onte Água Esprai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797360"/>
            <a:ext cx="7128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ão mais de 70 sho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Maior número do Brasi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s shoppings da cidade recebem mais de 30 milhões de pessoas/mê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cisp01"/>
          <p:cNvPicPr/>
          <p:nvPr/>
        </p:nvPicPr>
        <p:blipFill>
          <a:blip r:embed="rId1"/>
          <a:stretch/>
        </p:blipFill>
        <p:spPr>
          <a:xfrm rot="20944200">
            <a:off x="539640" y="1916280"/>
            <a:ext cx="2011320" cy="254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0002044dd"/>
          <p:cNvPicPr/>
          <p:nvPr/>
        </p:nvPicPr>
        <p:blipFill>
          <a:blip r:embed="rId2"/>
          <a:stretch/>
        </p:blipFill>
        <p:spPr>
          <a:xfrm>
            <a:off x="2916360" y="2421000"/>
            <a:ext cx="2835000" cy="212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morumbi01"/>
          <p:cNvPicPr/>
          <p:nvPr/>
        </p:nvPicPr>
        <p:blipFill>
          <a:blip r:embed="rId3"/>
          <a:srcRect l="0" t="0" r="14316" b="18150"/>
          <a:stretch/>
        </p:blipFill>
        <p:spPr>
          <a:xfrm rot="580200">
            <a:off x="6084360" y="2492280"/>
            <a:ext cx="2738520" cy="196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537775578_ec287086a8"/>
          <p:cNvPicPr/>
          <p:nvPr/>
        </p:nvPicPr>
        <p:blipFill>
          <a:blip r:embed="rId4"/>
          <a:srcRect l="0" t="0" r="3142" b="44132"/>
          <a:stretch/>
        </p:blipFill>
        <p:spPr>
          <a:xfrm>
            <a:off x="2700360" y="620640"/>
            <a:ext cx="46134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414972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60% de todos milionários do Brasil, vivem na cidade de São Pa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 cidade são efetuados 10 compras por  segundo via cartão de crédito/déb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elicopteros_webluxo"/>
          <p:cNvPicPr/>
          <p:nvPr/>
        </p:nvPicPr>
        <p:blipFill>
          <a:blip r:embed="rId1"/>
          <a:stretch/>
        </p:blipFill>
        <p:spPr>
          <a:xfrm rot="21135000">
            <a:off x="755640" y="1125000"/>
            <a:ext cx="3422520" cy="256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icos"/>
          <p:cNvPicPr/>
          <p:nvPr/>
        </p:nvPicPr>
        <p:blipFill>
          <a:blip r:embed="rId2"/>
          <a:stretch/>
        </p:blipFill>
        <p:spPr>
          <a:xfrm rot="428400">
            <a:off x="5651280" y="1197000"/>
            <a:ext cx="25844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4292280"/>
            <a:ext cx="8613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áx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0 mi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a 3ª maior frota da América Latina - Londres tem 20 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mais de 5,5 milhões de automóveis circulando em toda a 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971640" y="404640"/>
            <a:ext cx="7421400" cy="3372120"/>
            <a:chOff x="971640" y="404640"/>
            <a:chExt cx="7421400" cy="3372120"/>
          </a:xfrm>
        </p:grpSpPr>
        <p:pic>
          <p:nvPicPr>
            <p:cNvPr id="111" name="Picture 5" descr="11"/>
            <p:cNvPicPr/>
            <p:nvPr/>
          </p:nvPicPr>
          <p:blipFill>
            <a:blip r:embed="rId1"/>
            <a:srcRect l="0" t="7896" r="0" b="0"/>
            <a:stretch/>
          </p:blipFill>
          <p:spPr>
            <a:xfrm>
              <a:off x="971640" y="404640"/>
              <a:ext cx="7421400" cy="33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"/>
            <p:cNvSpPr/>
            <p:nvPr/>
          </p:nvSpPr>
          <p:spPr>
            <a:xfrm>
              <a:off x="5867280" y="342900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v. das Nações Un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32360" y="1341000"/>
            <a:ext cx="3635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A cidade conta com mais de 6.000 mil pizzarias que produzem cerca de 720 pizzas por minut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algumas delas dentre as melhores do mu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mage_preview"/>
          <p:cNvPicPr/>
          <p:nvPr/>
        </p:nvPicPr>
        <p:blipFill>
          <a:blip r:embed="rId1"/>
          <a:stretch/>
        </p:blipFill>
        <p:spPr>
          <a:xfrm rot="21194400">
            <a:off x="2195640" y="836640"/>
            <a:ext cx="2095200" cy="269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ushi"/>
          <p:cNvPicPr/>
          <p:nvPr/>
        </p:nvPicPr>
        <p:blipFill>
          <a:blip r:embed="rId2"/>
          <a:stretch/>
        </p:blipFill>
        <p:spPr>
          <a:xfrm>
            <a:off x="1187280" y="3933720"/>
            <a:ext cx="419112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5651640" y="4365720"/>
            <a:ext cx="3265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produzidos, aproximadamente, 278 sushis por minuto na 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4000" y="1268280"/>
            <a:ext cx="496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O Metrô da cidade de São Paulo, considerado um dos mais modernos e confortáveis do mundo, transporta 2,5 milhões de pessoas por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Pela Avenida Paulista passam mais de 5.700 carros e 1.400 ônibus por hora em horários de 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A Bovespa existe a mais de 100 anos e é o maior centro de negociação com ações da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395280" y="1341360"/>
            <a:ext cx="2808360" cy="4339440"/>
            <a:chOff x="395280" y="1341360"/>
            <a:chExt cx="2808360" cy="4339440"/>
          </a:xfrm>
        </p:grpSpPr>
        <p:pic>
          <p:nvPicPr>
            <p:cNvPr id="119" name="Picture 7" descr="pontos_paulista"/>
            <p:cNvPicPr/>
            <p:nvPr/>
          </p:nvPicPr>
          <p:blipFill>
            <a:blip r:embed="rId1"/>
            <a:stretch/>
          </p:blipFill>
          <p:spPr>
            <a:xfrm>
              <a:off x="395280" y="1341360"/>
              <a:ext cx="280836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8"/>
            <p:cNvSpPr/>
            <p:nvPr/>
          </p:nvSpPr>
          <p:spPr>
            <a:xfrm>
              <a:off x="111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venida Paul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79736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is de 205 Hospi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rox. 1.500 agências de bancos nacionais e intern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5 faculdades, 28 Universidades e 23 Centros de Educação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2,5 mil restaurantes – 500 churrasc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5 mil b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0 salas de cin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possu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2195640" y="981000"/>
            <a:ext cx="5184720" cy="3618720"/>
            <a:chOff x="2195640" y="981000"/>
            <a:chExt cx="5184720" cy="3618720"/>
          </a:xfrm>
        </p:grpSpPr>
        <p:pic>
          <p:nvPicPr>
            <p:cNvPr id="124" name="Picture 4" descr="Imagem2"/>
            <p:cNvPicPr/>
            <p:nvPr/>
          </p:nvPicPr>
          <p:blipFill>
            <a:blip r:embed="rId7"/>
            <a:srcRect l="0" t="0" r="768" b="0"/>
            <a:stretch/>
          </p:blipFill>
          <p:spPr>
            <a:xfrm>
              <a:off x="2195640" y="981000"/>
              <a:ext cx="494820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/>
            <p:cNvSpPr/>
            <p:nvPr/>
          </p:nvSpPr>
          <p:spPr>
            <a:xfrm>
              <a:off x="5219640" y="429264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Catedral da Sé -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4957920"/>
            <a:ext cx="72010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s de 120 teatros e casas 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90 mus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9 centros cult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mais de 100 peças teatrais por  semana, ou 4.800 peças por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1636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547640" y="115920"/>
            <a:ext cx="6337440" cy="4844160"/>
            <a:chOff x="1547640" y="115920"/>
            <a:chExt cx="6337440" cy="4844160"/>
          </a:xfrm>
        </p:grpSpPr>
        <p:pic>
          <p:nvPicPr>
            <p:cNvPr id="129" name="Picture 4" descr="Imagem3"/>
            <p:cNvPicPr/>
            <p:nvPr/>
          </p:nvPicPr>
          <p:blipFill>
            <a:blip r:embed="rId4"/>
            <a:stretch/>
          </p:blipFill>
          <p:spPr>
            <a:xfrm>
              <a:off x="1547640" y="115920"/>
              <a:ext cx="60962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>
              <a:off x="5148360" y="4653000"/>
              <a:ext cx="27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eatro Municipal de São Pa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86421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ritannic Bold"/>
              </a:rPr>
              <a:t>São Paulo possui a sala de cinema com a maior tela e a mais alta tecnologia em projeção de filmes do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0"/>
          <p:cNvGrpSpPr/>
          <p:nvPr/>
        </p:nvGrpSpPr>
        <p:grpSpPr>
          <a:xfrm>
            <a:off x="1692360" y="1341360"/>
            <a:ext cx="5437080" cy="3013200"/>
            <a:chOff x="1692360" y="1341360"/>
            <a:chExt cx="5437080" cy="3013200"/>
          </a:xfrm>
        </p:grpSpPr>
        <p:pic>
          <p:nvPicPr>
            <p:cNvPr id="133" name="Picture 5" descr="Unibanco: primeira sala IMAX do país"/>
            <p:cNvPicPr/>
            <p:nvPr/>
          </p:nvPicPr>
          <p:blipFill>
            <a:blip r:embed="rId1"/>
            <a:stretch/>
          </p:blipFill>
          <p:spPr>
            <a:xfrm>
              <a:off x="1763640" y="1341360"/>
              <a:ext cx="536580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1692360" y="4005360"/>
              <a:ext cx="28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ala Imax – Boulevard Pompé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MAIOR REVENDEDORA FERRARI NO MUNDO.                          A 2ª É LOS ANGE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4ª REVENDEDORA MASERATTI NO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2ª REVENDEDORA PORS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2ª REVENDEDORA LAMBORGH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ÚNICA COM FILIAIS ROLLS E BENTLEY NA AMERICA LATINA DESDE O MÉX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ferrariBrazil_abertura"/>
          <p:cNvPicPr/>
          <p:nvPr/>
        </p:nvPicPr>
        <p:blipFill>
          <a:blip r:embed="rId1"/>
          <a:stretch/>
        </p:blipFill>
        <p:spPr>
          <a:xfrm rot="20536200">
            <a:off x="468360" y="1341000"/>
            <a:ext cx="2658960" cy="16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maserati%20granturismo"/>
          <p:cNvPicPr/>
          <p:nvPr/>
        </p:nvPicPr>
        <p:blipFill>
          <a:blip r:embed="rId2"/>
          <a:stretch/>
        </p:blipFill>
        <p:spPr>
          <a:xfrm>
            <a:off x="2987640" y="2924280"/>
            <a:ext cx="3760920" cy="13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foto_01"/>
          <p:cNvPicPr/>
          <p:nvPr/>
        </p:nvPicPr>
        <p:blipFill>
          <a:blip r:embed="rId3"/>
          <a:stretch/>
        </p:blipFill>
        <p:spPr>
          <a:xfrm rot="611400">
            <a:off x="5076720" y="1267920"/>
            <a:ext cx="3556080" cy="150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Paulo é a capital dos eventos e da cultura na América Latina, com 90 mil eventos por ano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75% das feiras brasileiras acontecem em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27_MVG_cult_animale1"/>
          <p:cNvPicPr/>
          <p:nvPr/>
        </p:nvPicPr>
        <p:blipFill>
          <a:blip r:embed="rId1"/>
          <a:stretch/>
        </p:blipFill>
        <p:spPr>
          <a:xfrm rot="20856600">
            <a:off x="1042560" y="2565000"/>
            <a:ext cx="2835360" cy="3622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 rot="20832600">
            <a:off x="0" y="177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ão Paulo levou o Brasil para o calendário internacional da moda com o SP Fashion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 rot="459000">
            <a:off x="4787640" y="24210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É a única cidade da América Latina a sediar a Fórmul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4459680" y="3063960"/>
            <a:ext cx="4627800" cy="3430080"/>
            <a:chOff x="4459680" y="3063960"/>
            <a:chExt cx="4627800" cy="3430080"/>
          </a:xfrm>
        </p:grpSpPr>
        <p:pic>
          <p:nvPicPr>
            <p:cNvPr id="140" name="Picture 9" descr="massa1-lg"/>
            <p:cNvPicPr/>
            <p:nvPr/>
          </p:nvPicPr>
          <p:blipFill>
            <a:blip r:embed="rId2"/>
            <a:stretch/>
          </p:blipFill>
          <p:spPr>
            <a:xfrm rot="499800">
              <a:off x="4642920" y="3357360"/>
              <a:ext cx="4260960" cy="28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 rot="538800">
              <a:off x="4858920" y="5788080"/>
              <a:ext cx="22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utódromo de Interla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06280" y="4581000"/>
            <a:ext cx="8686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3ª maior cidade italiana d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japonesa fora do Jap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portuguesa fora de Portu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espanhola fora da Espa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3ª maior cidade libanesa fora do Líb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7164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2"/>
          <p:cNvGrpSpPr/>
          <p:nvPr/>
        </p:nvGrpSpPr>
        <p:grpSpPr>
          <a:xfrm>
            <a:off x="1476360" y="836640"/>
            <a:ext cx="6408720" cy="3674160"/>
            <a:chOff x="1476360" y="836640"/>
            <a:chExt cx="6408720" cy="3674160"/>
          </a:xfrm>
        </p:grpSpPr>
        <p:pic>
          <p:nvPicPr>
            <p:cNvPr id="145" name="Picture 10" descr="city_01"/>
            <p:cNvPicPr/>
            <p:nvPr/>
          </p:nvPicPr>
          <p:blipFill>
            <a:blip r:embed="rId1"/>
            <a:stretch/>
          </p:blipFill>
          <p:spPr>
            <a:xfrm>
              <a:off x="1476360" y="836640"/>
              <a:ext cx="626436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1"/>
            <p:cNvSpPr/>
            <p:nvPr/>
          </p:nvSpPr>
          <p:spPr>
            <a:xfrm>
              <a:off x="5076720" y="4203720"/>
              <a:ext cx="28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Mercado Municipal de São Pa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Sediou as campanhas mundiais da Levi's, Maybeline e da Citroên (com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Kiefer Sutherland, o Jack Bauer da série 24 </a:t>
            </a:r>
            <a:r>
              <a:rPr b="0" i="1" lang="pt-BR" sz="2200" spc="-1" strike="noStrike">
                <a:solidFill>
                  <a:srgbClr val="ffffff"/>
                </a:solidFill>
                <a:latin typeface="Arial"/>
              </a:rPr>
              <a:t>Horas). Além de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ser palco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para recentes filmes, novelas e </a:t>
            </a:r>
            <a:r>
              <a:rPr b="0" i="1" lang="pt-BR" sz="2200" spc="-1" strike="noStrike">
                <a:solidFill>
                  <a:srgbClr val="ffffff"/>
                </a:solidFill>
                <a:latin typeface="Arial"/>
              </a:rPr>
              <a:t>da versão brasileira do America's Next Top Model. São Paulo também foi tema, pela terceira vez em menos de dois anos, de matéria no jornal norte-americano The New York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638000" y="189000"/>
            <a:ext cx="610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oadway"/>
              </a:rPr>
              <a:t>São Paulo está mais global doque nunca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9"/>
          <p:cNvGrpSpPr/>
          <p:nvPr/>
        </p:nvGrpSpPr>
        <p:grpSpPr>
          <a:xfrm>
            <a:off x="1979640" y="765000"/>
            <a:ext cx="5253120" cy="3547440"/>
            <a:chOff x="1979640" y="765000"/>
            <a:chExt cx="5253120" cy="3547440"/>
          </a:xfrm>
        </p:grpSpPr>
        <p:pic>
          <p:nvPicPr>
            <p:cNvPr id="150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765000"/>
              <a:ext cx="5253120" cy="34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8"/>
            <p:cNvSpPr/>
            <p:nvPr/>
          </p:nvSpPr>
          <p:spPr>
            <a:xfrm>
              <a:off x="2050920" y="40053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arque Ibirapu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São Paulo possui a única Universidade Pública que não é Federal do paí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A USP está entre as 100 melhores do mundo e em </a:t>
            </a:r>
            <a:r>
              <a:rPr b="1" lang="pt-BR" sz="3200" spc="-1" strike="noStrike">
                <a:solidFill>
                  <a:srgbClr val="ffffff"/>
                </a:solidFill>
                <a:latin typeface="GiovanniITCTT"/>
              </a:rPr>
              <a:t>primeiro lugar na América do Sul</a:t>
            </a: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(ranking do “The Tim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1546200" y="2260440"/>
            <a:ext cx="6265800" cy="4481640"/>
            <a:chOff x="1546200" y="2260440"/>
            <a:chExt cx="6265800" cy="4481640"/>
          </a:xfrm>
        </p:grpSpPr>
        <p:pic>
          <p:nvPicPr>
            <p:cNvPr id="154" name="Picture 7" descr="P1010155-R"/>
            <p:cNvPicPr/>
            <p:nvPr/>
          </p:nvPicPr>
          <p:blipFill>
            <a:blip r:embed="rId1"/>
            <a:srcRect l="0" t="4598" r="0" b="0"/>
            <a:stretch/>
          </p:blipFill>
          <p:spPr>
            <a:xfrm>
              <a:off x="1546200" y="2260440"/>
              <a:ext cx="6265800" cy="44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8"/>
            <p:cNvSpPr/>
            <p:nvPr/>
          </p:nvSpPr>
          <p:spPr>
            <a:xfrm>
              <a:off x="1547640" y="6381720"/>
              <a:ext cx="259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Cidade Universitá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064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Orlando"/>
              </a:rPr>
              <a:t>Não é à toa que hoje, no Brasil, as coisas aconteçem primeiro em São Pa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1835280" y="620640"/>
            <a:ext cx="5823000" cy="4375080"/>
            <a:chOff x="1835280" y="620640"/>
            <a:chExt cx="5823000" cy="4375080"/>
          </a:xfrm>
        </p:grpSpPr>
        <p:pic>
          <p:nvPicPr>
            <p:cNvPr id="158" name="Picture 6" descr="200610_132_sp2"/>
            <p:cNvPicPr/>
            <p:nvPr/>
          </p:nvPicPr>
          <p:blipFill>
            <a:blip r:embed="rId1"/>
            <a:stretch/>
          </p:blipFill>
          <p:spPr>
            <a:xfrm>
              <a:off x="1835280" y="620640"/>
              <a:ext cx="5823000" cy="43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/>
            <p:cNvSpPr/>
            <p:nvPr/>
          </p:nvSpPr>
          <p:spPr>
            <a:xfrm>
              <a:off x="2050920" y="4437000"/>
              <a:ext cx="187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inacote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erlin Sans FB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1"/>
              </a:rPr>
              <a:t>www.prefeitura.sp.org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2"/>
              </a:rPr>
              <a:t>www.weblux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3"/>
              </a:rPr>
              <a:t>www.ibge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4"/>
              </a:rPr>
              <a:t>www.timesonline.co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5"/>
              </a:rPr>
              <a:t>www.nytim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erlin Sans FB"/>
              </a:rPr>
              <a:t>Música: Adiemus - E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5949720"/>
            <a:ext cx="4103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MAIOR FROTA DE PORSCHES CAYENNES S, CARRER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S AMÉRICAS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ayenneturboporscheexcl"/>
          <p:cNvPicPr/>
          <p:nvPr/>
        </p:nvPicPr>
        <p:blipFill>
          <a:blip r:embed="rId1"/>
          <a:stretch/>
        </p:blipFill>
        <p:spPr>
          <a:xfrm>
            <a:off x="1042920" y="3500280"/>
            <a:ext cx="3073320" cy="2459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284720" y="6021360"/>
            <a:ext cx="52848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AIOR FROTA DE HELICÓPTEROS PARTICULARES D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0"/>
          <p:cNvGrpSpPr/>
          <p:nvPr/>
        </p:nvGrpSpPr>
        <p:grpSpPr>
          <a:xfrm>
            <a:off x="4716360" y="620640"/>
            <a:ext cx="4248000" cy="2828520"/>
            <a:chOff x="4716360" y="620640"/>
            <a:chExt cx="4248000" cy="2828520"/>
          </a:xfrm>
        </p:grpSpPr>
        <p:pic>
          <p:nvPicPr>
            <p:cNvPr id="63" name="Picture 18" descr="Phenom100Jet"/>
            <p:cNvPicPr/>
            <p:nvPr/>
          </p:nvPicPr>
          <p:blipFill>
            <a:blip r:embed="rId2"/>
            <a:stretch/>
          </p:blipFill>
          <p:spPr>
            <a:xfrm>
              <a:off x="5005440" y="620640"/>
              <a:ext cx="35715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9"/>
            <p:cNvSpPr/>
            <p:nvPr/>
          </p:nvSpPr>
          <p:spPr>
            <a:xfrm>
              <a:off x="4716360" y="2565360"/>
              <a:ext cx="42480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 MAIOR FROTA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JATOS PARTICULARES</a:t>
              </a: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ULTRAPASSOU N.Y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2" descr="helicopteros_saopaulo"/>
          <p:cNvPicPr/>
          <p:nvPr/>
        </p:nvPicPr>
        <p:blipFill>
          <a:blip r:embed="rId3"/>
          <a:stretch/>
        </p:blipFill>
        <p:spPr>
          <a:xfrm>
            <a:off x="5435640" y="3789360"/>
            <a:ext cx="3195720" cy="21272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1"/>
          <p:cNvGrpSpPr/>
          <p:nvPr/>
        </p:nvGrpSpPr>
        <p:grpSpPr>
          <a:xfrm>
            <a:off x="468360" y="1268280"/>
            <a:ext cx="4043160" cy="2102400"/>
            <a:chOff x="468360" y="1268280"/>
            <a:chExt cx="4043160" cy="2102400"/>
          </a:xfrm>
        </p:grpSpPr>
        <p:sp>
          <p:nvSpPr>
            <p:cNvPr id="67" name="Rectangle 10"/>
            <p:cNvSpPr/>
            <p:nvPr/>
          </p:nvSpPr>
          <p:spPr>
            <a:xfrm>
              <a:off x="468360" y="2636640"/>
              <a:ext cx="4043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A MAIOR FROTA DE AVIÕES AGRICOLAS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O MUNDO</a:t>
              </a: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6" descr="1"/>
            <p:cNvPicPr/>
            <p:nvPr/>
          </p:nvPicPr>
          <p:blipFill>
            <a:blip r:embed="rId4"/>
            <a:stretch/>
          </p:blipFill>
          <p:spPr>
            <a:xfrm>
              <a:off x="1379520" y="1268280"/>
              <a:ext cx="214272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 Box 19"/>
          <p:cNvSpPr/>
          <p:nvPr/>
        </p:nvSpPr>
        <p:spPr>
          <a:xfrm>
            <a:off x="395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MAIOR CONSUMIDOR DE YATCH’S DE LONGO CURSO                                          FERRETTI – VIAREGGIO - LU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yatch_a"/>
          <p:cNvPicPr/>
          <p:nvPr/>
        </p:nvPicPr>
        <p:blipFill>
          <a:blip r:embed="rId1"/>
          <a:stretch/>
        </p:blipFill>
        <p:spPr>
          <a:xfrm>
            <a:off x="4749840" y="1557360"/>
            <a:ext cx="4394160" cy="329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50-wavepiercer-3a"/>
          <p:cNvPicPr/>
          <p:nvPr/>
        </p:nvPicPr>
        <p:blipFill>
          <a:blip r:embed="rId2"/>
          <a:stretch/>
        </p:blipFill>
        <p:spPr>
          <a:xfrm>
            <a:off x="108000" y="1700280"/>
            <a:ext cx="4595760" cy="2938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ÚNICA CIDADE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QUE TEM 4 LOJAS TIFFANY´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UNICA CIDADE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QUE TEM 3 LOJAS BULG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ILIAL LOUIS VUITTON QUE MAIS LUC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ILIAL MONTBLANC QUE MAIS VENDE CANETAS FORA DA SU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ociedade2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286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ulgari-01"/>
          <p:cNvPicPr/>
          <p:nvPr/>
        </p:nvPicPr>
        <p:blipFill>
          <a:blip r:embed="rId2"/>
          <a:stretch/>
        </p:blipFill>
        <p:spPr>
          <a:xfrm>
            <a:off x="2843280" y="1125360"/>
            <a:ext cx="3000240" cy="1438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louis_fachada"/>
          <p:cNvPicPr/>
          <p:nvPr/>
        </p:nvPicPr>
        <p:blipFill>
          <a:blip r:embed="rId3"/>
          <a:stretch/>
        </p:blipFill>
        <p:spPr>
          <a:xfrm>
            <a:off x="3708360" y="2924280"/>
            <a:ext cx="1324080" cy="99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ison_montblanc"/>
          <p:cNvPicPr/>
          <p:nvPr/>
        </p:nvPicPr>
        <p:blipFill>
          <a:blip r:embed="rId4"/>
          <a:stretch/>
        </p:blipFill>
        <p:spPr>
          <a:xfrm>
            <a:off x="6045120" y="1484280"/>
            <a:ext cx="3098880" cy="209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pperplate Gothic Bold"/>
              </a:rPr>
              <a:t>Existe uma Oficina Mecânica especializada somente em Ferr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ugattiVeyron2"/>
          <p:cNvPicPr/>
          <p:nvPr/>
        </p:nvPicPr>
        <p:blipFill>
          <a:blip r:embed="rId1"/>
          <a:stretch/>
        </p:blipFill>
        <p:spPr>
          <a:xfrm rot="20774400">
            <a:off x="611280" y="90756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nline_07_ctr3_07"/>
          <p:cNvPicPr/>
          <p:nvPr/>
        </p:nvPicPr>
        <p:blipFill>
          <a:blip r:embed="rId2"/>
          <a:stretch/>
        </p:blipFill>
        <p:spPr>
          <a:xfrm rot="1062000">
            <a:off x="5579640" y="1483920"/>
            <a:ext cx="2551320" cy="170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971640" y="4005360"/>
            <a:ext cx="39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6 BUGATTIS VEYRON JÁ CIRCULAM PELA 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ritannic Bold"/>
              </a:rPr>
              <a:t>(HÁ ENCOMENDAS PARA MAIS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5111640" y="3500280"/>
            <a:ext cx="43563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ENCOMENDAS DE 9 PAGA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(5 MILHÕES DE RE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ritannic Bold"/>
              </a:rPr>
              <a:t>LEVA 6 MESES PARA SER F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80 MIL PAULISTAS TEM RESIDENCIA NA EUROPA E ESTADOS UNIDOS COMO 2ª OP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mansao"/>
          <p:cNvPicPr/>
          <p:nvPr/>
        </p:nvPicPr>
        <p:blipFill>
          <a:blip r:embed="rId1"/>
          <a:stretch/>
        </p:blipFill>
        <p:spPr>
          <a:xfrm rot="20945400">
            <a:off x="684360" y="234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ansao4"/>
          <p:cNvPicPr/>
          <p:nvPr/>
        </p:nvPicPr>
        <p:blipFill>
          <a:blip r:embed="rId2"/>
          <a:stretch/>
        </p:blipFill>
        <p:spPr>
          <a:xfrm rot="685200">
            <a:off x="5795640" y="278136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2920" y="2205000"/>
            <a:ext cx="421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MAIOR QUANTIDADE DE CAVALOS  PURO SANGUE ÁRABES NAS AMÉRICA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0,,11902199-EX,00"/>
          <p:cNvPicPr/>
          <p:nvPr/>
        </p:nvPicPr>
        <p:blipFill>
          <a:blip r:embed="rId1"/>
          <a:stretch/>
        </p:blipFill>
        <p:spPr>
          <a:xfrm rot="20781000">
            <a:off x="900000" y="134136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AMP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A CIDADE QUE MAIS CONSOME ROMANÉE CONTI E VINHOS GRAND CRU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EM COMO OS CHAMPAGNES KÜG ROSÉ, CRISTAL E GRANDE D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IDADE QUE MAIS TOMA NA MÉDIA, VINHOS ACIMA DE US$ 87,00 POR GARRAFA NAS AMÉ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not_fasano"/>
          <p:cNvPicPr/>
          <p:nvPr/>
        </p:nvPicPr>
        <p:blipFill>
          <a:blip r:embed="rId1"/>
          <a:stretch/>
        </p:blipFill>
        <p:spPr>
          <a:xfrm>
            <a:off x="2987640" y="765000"/>
            <a:ext cx="3800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3:38:14Z</dcterms:created>
  <dc:creator>***</dc:creator>
  <dc:description/>
  <dc:language>en-US</dc:language>
  <cp:lastModifiedBy>|</cp:lastModifiedBy>
  <dcterms:modified xsi:type="dcterms:W3CDTF">2009-06-06T23:21:14Z</dcterms:modified>
  <cp:revision>19</cp:revision>
  <dc:subject/>
  <dc:title>Slide 1</dc:title>
</cp:coreProperties>
</file>