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5.png" ContentType="image/pn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5F5D-F81F-49BD-99D1-122D903629F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5229-0054-48C7-925B-87B449A75EC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4D07-7BB8-415D-B7AB-2B2CAE7DE30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8088-1324-4ED4-87A8-67AA4EA99F6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9E13-248E-45F0-96D2-366E5CB0B63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2F4E-D082-490A-B545-585660B24A5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14C0-BEDC-4A8B-8DFF-07A4200D50C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BC66-751F-4A14-B15A-A48C6799197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0CD6-0FF3-45C2-95E0-12CF785E45A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46A2-E2DB-40DF-993D-D7DF3A119CA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3E4F-04A3-4BF7-8D37-C620E8F99DD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24B0-29FE-4B9C-821E-7FC3E1AF2EC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86F9-F2D7-49A6-9630-84F90C7A89E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5474-8FB3-48E2-ACCA-F8D59898744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A697-ED8C-4C2E-A01E-54B515BAB92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1EE1-7F88-4D91-9D26-46A0B0ACA58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4694-C788-4C79-B07E-F80527B6F18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EB1D-4631-40C8-81F5-767EE07568D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86B6-1C4F-41FB-B6F2-9D60F42AA71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9486-A249-4794-8872-184DC54437F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C639-3968-48BA-87D9-E50E6CB5E77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5AD7-E0E5-474D-92BB-A7CCA4AC74E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B784-F847-4E14-A7E9-BD2B8F95EF6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CDAA-7BDE-4D55-8A8C-45FFE37C1CF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2848-7F96-41CC-8812-73EC4DA42DC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7EF1-25F2-4242-8A5E-8556D417B8D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F728-E1A1-4846-B463-22A3436F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14F3-9FBC-476A-8A55-AE1E5EEF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6976-3229-44D3-A282-EA1477D8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AE0B-7F77-449F-8C41-76ED15B2C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FD6B-5D27-48D7-BBCD-7EDE4B57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4658-18EE-4A21-9C76-81F6521E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A6B6-898D-4C9B-B640-EB78BCF1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ED59-E51D-4A33-8BBA-3C86E62E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6153-0AFE-414E-BD57-20A41008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F780-C45A-423A-8C7D-48E92FA2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4E59-0D01-4146-8478-4471CEAC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7052-A191-4F62-92A6-522F4B7B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163C-366C-4BF6-9CC0-29688534B58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prefeitura.sp.org.br/" TargetMode="External"/><Relationship Id="rId2" Type="http://schemas.openxmlformats.org/officeDocument/2006/relationships/hyperlink" Target="http://www.webluxo.com.br/" TargetMode="External"/><Relationship Id="rId3" Type="http://schemas.openxmlformats.org/officeDocument/2006/relationships/hyperlink" Target="http://www.ibge.gov.br/" TargetMode="External"/><Relationship Id="rId4" Type="http://schemas.openxmlformats.org/officeDocument/2006/relationships/hyperlink" Target="http://www.timesonline.co.uk/" TargetMode="External"/><Relationship Id="rId5" Type="http://schemas.openxmlformats.org/officeDocument/2006/relationships/hyperlink" Target="http://www.nytimes.com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Broadway"/>
              </a:rPr>
              <a:t>São Pa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4000" y="5660640"/>
            <a:ext cx="864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apital dos Negócios, da Cultura e da Gastrono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Enya - Adiemus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1440" cy="14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18"/>
          <p:cNvGrpSpPr/>
          <p:nvPr/>
        </p:nvGrpSpPr>
        <p:grpSpPr>
          <a:xfrm>
            <a:off x="1908000" y="1125360"/>
            <a:ext cx="5553360" cy="4411080"/>
            <a:chOff x="1908000" y="1125360"/>
            <a:chExt cx="5553360" cy="4411080"/>
          </a:xfrm>
        </p:grpSpPr>
        <p:pic>
          <p:nvPicPr>
            <p:cNvPr id="52" name="Picture 15" descr="centro_da_cidade_galleryfull"/>
            <p:cNvPicPr/>
            <p:nvPr/>
          </p:nvPicPr>
          <p:blipFill>
            <a:blip r:embed="rId2"/>
            <a:stretch/>
          </p:blipFill>
          <p:spPr>
            <a:xfrm>
              <a:off x="1908000" y="1125360"/>
              <a:ext cx="5553360" cy="440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17"/>
            <p:cNvSpPr/>
            <p:nvPr/>
          </p:nvSpPr>
          <p:spPr>
            <a:xfrm>
              <a:off x="2050920" y="5229360"/>
              <a:ext cx="25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Marginal Pinheir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640" y="498492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P TEM O MAIOR NÚMERO DE SERVIÇAIS E SEGURANÇAS DAS AMÉR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ONDE GANHO MÉDIO DE UM GARÇON É DE 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US$ 170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hoteis2"/>
          <p:cNvPicPr/>
          <p:nvPr/>
        </p:nvPicPr>
        <p:blipFill>
          <a:blip r:embed="rId1"/>
          <a:stretch/>
        </p:blipFill>
        <p:spPr>
          <a:xfrm rot="21133800">
            <a:off x="611280" y="620640"/>
            <a:ext cx="3944880" cy="3783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dasludna_nacaodaslu_apoios"/>
          <p:cNvPicPr/>
          <p:nvPr/>
        </p:nvPicPr>
        <p:blipFill>
          <a:blip r:embed="rId2"/>
          <a:stretch/>
        </p:blipFill>
        <p:spPr>
          <a:xfrm rot="437400">
            <a:off x="5508360" y="765000"/>
            <a:ext cx="274320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932000" y="907560"/>
            <a:ext cx="4211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-87480">
              <a:lnSpc>
                <a:spcPct val="95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10.434.252 milhões de habitantes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-          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3º maior cidade do Mu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95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1.530 km2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. (Tamanho de Cub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 taxa de alfabetização está em </a:t>
            </a: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95,4%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da popul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95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PIB de US$ 147 bilhões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- cerca de 15% do PIB nacional - o terceiro maior PIB do país (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 maior PIB é o da União, o segundo maior é o do Estado de São Paulo e o terceiro maior é o da cidade de São Paulo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95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IDH de 0,841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– considerado como de alto desenvolvimento humano segundo o Programa das Naçoes Uni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324000" y="26028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oper Black"/>
              </a:rPr>
              <a:t>São Paulo tem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900000" y="1700280"/>
            <a:ext cx="3530880" cy="4051800"/>
            <a:chOff x="900000" y="1700280"/>
            <a:chExt cx="3530880" cy="4051800"/>
          </a:xfrm>
        </p:grpSpPr>
        <p:pic>
          <p:nvPicPr>
            <p:cNvPr id="99" name="Picture 5" descr="747769-7587-it2"/>
            <p:cNvPicPr/>
            <p:nvPr/>
          </p:nvPicPr>
          <p:blipFill>
            <a:blip r:embed="rId1"/>
            <a:stretch/>
          </p:blipFill>
          <p:spPr>
            <a:xfrm>
              <a:off x="900000" y="1700280"/>
              <a:ext cx="3530880" cy="39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/>
            <p:cNvSpPr/>
            <p:nvPr/>
          </p:nvSpPr>
          <p:spPr>
            <a:xfrm>
              <a:off x="2340000" y="5445000"/>
              <a:ext cx="201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Ponte Água Esprai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42920" y="4797360"/>
            <a:ext cx="712800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ão mais de 70 shopp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(Maior número do Brasi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Os shoppings da cidade recebem mais de 30 milhões de pessoas/mê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scisp01"/>
          <p:cNvPicPr/>
          <p:nvPr/>
        </p:nvPicPr>
        <p:blipFill>
          <a:blip r:embed="rId1"/>
          <a:stretch/>
        </p:blipFill>
        <p:spPr>
          <a:xfrm rot="20944200">
            <a:off x="539640" y="1916280"/>
            <a:ext cx="2011320" cy="2543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0002044dd"/>
          <p:cNvPicPr/>
          <p:nvPr/>
        </p:nvPicPr>
        <p:blipFill>
          <a:blip r:embed="rId2"/>
          <a:stretch/>
        </p:blipFill>
        <p:spPr>
          <a:xfrm>
            <a:off x="2916360" y="2421000"/>
            <a:ext cx="2835000" cy="2125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morumbi01"/>
          <p:cNvPicPr/>
          <p:nvPr/>
        </p:nvPicPr>
        <p:blipFill>
          <a:blip r:embed="rId3"/>
          <a:srcRect l="0" t="0" r="14316" b="18150"/>
          <a:stretch/>
        </p:blipFill>
        <p:spPr>
          <a:xfrm rot="580200">
            <a:off x="6084360" y="2492280"/>
            <a:ext cx="2738520" cy="1960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2537775578_ec287086a8"/>
          <p:cNvPicPr/>
          <p:nvPr/>
        </p:nvPicPr>
        <p:blipFill>
          <a:blip r:embed="rId4"/>
          <a:srcRect l="0" t="0" r="3142" b="44132"/>
          <a:stretch/>
        </p:blipFill>
        <p:spPr>
          <a:xfrm>
            <a:off x="2700360" y="620640"/>
            <a:ext cx="46134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9640" y="414972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60% de todos milionários do Brasil, vivem na cidade de São Pau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Na cidade são efetuados 10 compras por  segundo via cartão de crédito/déb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helicopteros_webluxo"/>
          <p:cNvPicPr/>
          <p:nvPr/>
        </p:nvPicPr>
        <p:blipFill>
          <a:blip r:embed="rId1"/>
          <a:stretch/>
        </p:blipFill>
        <p:spPr>
          <a:xfrm rot="21135000">
            <a:off x="755640" y="1125000"/>
            <a:ext cx="3422520" cy="2565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ricos"/>
          <p:cNvPicPr/>
          <p:nvPr/>
        </p:nvPicPr>
        <p:blipFill>
          <a:blip r:embed="rId2"/>
          <a:stretch/>
        </p:blipFill>
        <p:spPr>
          <a:xfrm rot="428400">
            <a:off x="5651280" y="1197000"/>
            <a:ext cx="258444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3640" y="4292280"/>
            <a:ext cx="8613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Táxi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30 mil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É a 3ª maior frota da América Latina - Londres tem 20 m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ão mais de 5,5 milhões de automóveis circulando em toda a c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971640" y="404640"/>
            <a:ext cx="7421400" cy="3372120"/>
            <a:chOff x="971640" y="404640"/>
            <a:chExt cx="7421400" cy="3372120"/>
          </a:xfrm>
        </p:grpSpPr>
        <p:pic>
          <p:nvPicPr>
            <p:cNvPr id="111" name="Picture 5" descr="11"/>
            <p:cNvPicPr/>
            <p:nvPr/>
          </p:nvPicPr>
          <p:blipFill>
            <a:blip r:embed="rId1"/>
            <a:srcRect l="0" t="7896" r="0" b="0"/>
            <a:stretch/>
          </p:blipFill>
          <p:spPr>
            <a:xfrm>
              <a:off x="971640" y="404640"/>
              <a:ext cx="7421400" cy="337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7"/>
            <p:cNvSpPr/>
            <p:nvPr/>
          </p:nvSpPr>
          <p:spPr>
            <a:xfrm>
              <a:off x="5867280" y="3429000"/>
              <a:ext cx="25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Av. das Nações Uni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932360" y="1341000"/>
            <a:ext cx="363528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A cidade conta com mais de 6.000 mil pizzarias que produzem cerca de 720 pizzas por minuto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algumas delas dentre as melhores do mun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image_preview"/>
          <p:cNvPicPr/>
          <p:nvPr/>
        </p:nvPicPr>
        <p:blipFill>
          <a:blip r:embed="rId1"/>
          <a:stretch/>
        </p:blipFill>
        <p:spPr>
          <a:xfrm rot="21194400">
            <a:off x="2195640" y="836640"/>
            <a:ext cx="2095200" cy="2695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sushi"/>
          <p:cNvPicPr/>
          <p:nvPr/>
        </p:nvPicPr>
        <p:blipFill>
          <a:blip r:embed="rId2"/>
          <a:stretch/>
        </p:blipFill>
        <p:spPr>
          <a:xfrm>
            <a:off x="1187280" y="3933720"/>
            <a:ext cx="4191120" cy="21430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9"/>
          <p:cNvSpPr/>
          <p:nvPr/>
        </p:nvSpPr>
        <p:spPr>
          <a:xfrm>
            <a:off x="5651640" y="4365720"/>
            <a:ext cx="32652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ão produzidos, aproximadamente, 278 sushis por minuto na c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564000" y="1268280"/>
            <a:ext cx="4968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ritannic Bold"/>
              </a:rPr>
              <a:t>O Metrô da cidade de São Paulo, considerado um dos mais modernos e confortáveis do mundo, transporta 2,5 milhões de pessoas por 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ritannic Bold"/>
              </a:rPr>
              <a:t>Pela Avenida Paulista passam mais de 5.700 carros e 1.400 ônibus por hora em horários de p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ritannic Bold"/>
              </a:rPr>
              <a:t>A Bovespa existe a mais de 100 anos e é o maior centro de negociação com ações da América La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9"/>
          <p:cNvGrpSpPr/>
          <p:nvPr/>
        </p:nvGrpSpPr>
        <p:grpSpPr>
          <a:xfrm>
            <a:off x="395280" y="1341360"/>
            <a:ext cx="2808360" cy="4339440"/>
            <a:chOff x="395280" y="1341360"/>
            <a:chExt cx="2808360" cy="4339440"/>
          </a:xfrm>
        </p:grpSpPr>
        <p:pic>
          <p:nvPicPr>
            <p:cNvPr id="119" name="Picture 7" descr="pontos_paulista"/>
            <p:cNvPicPr/>
            <p:nvPr/>
          </p:nvPicPr>
          <p:blipFill>
            <a:blip r:embed="rId1"/>
            <a:stretch/>
          </p:blipFill>
          <p:spPr>
            <a:xfrm>
              <a:off x="395280" y="1341360"/>
              <a:ext cx="2808360" cy="429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8"/>
            <p:cNvSpPr/>
            <p:nvPr/>
          </p:nvSpPr>
          <p:spPr>
            <a:xfrm>
              <a:off x="1116000" y="5373720"/>
              <a:ext cx="15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Avenida Pauli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5280" y="4797360"/>
            <a:ext cx="822960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88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mais de 205 Hospit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88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prox. 1.500 agências de bancos nacionais e internacion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88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105 faculdades, 28 Universidades e 23 Centros de Educação Tecn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88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12,5 mil restaurantes – 500 churrasc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88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15 mil b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88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270 salas de cin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24000" y="260280"/>
            <a:ext cx="43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oper Black"/>
              </a:rPr>
              <a:t>São Paulo possui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1"/>
          <p:cNvGrpSpPr/>
          <p:nvPr/>
        </p:nvGrpSpPr>
        <p:grpSpPr>
          <a:xfrm>
            <a:off x="2195640" y="981000"/>
            <a:ext cx="5184720" cy="3618720"/>
            <a:chOff x="2195640" y="981000"/>
            <a:chExt cx="5184720" cy="3618720"/>
          </a:xfrm>
        </p:grpSpPr>
        <p:pic>
          <p:nvPicPr>
            <p:cNvPr id="124" name="Picture 4" descr="Imagem2"/>
            <p:cNvPicPr/>
            <p:nvPr/>
          </p:nvPicPr>
          <p:blipFill>
            <a:blip r:embed="rId7"/>
            <a:srcRect l="0" t="0" r="768" b="0"/>
            <a:stretch/>
          </p:blipFill>
          <p:spPr>
            <a:xfrm>
              <a:off x="2195640" y="981000"/>
              <a:ext cx="4948200" cy="35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10"/>
            <p:cNvSpPr/>
            <p:nvPr/>
          </p:nvSpPr>
          <p:spPr>
            <a:xfrm>
              <a:off x="5219640" y="429264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Catedral da Sé - Cent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4000"/>
                            </p:stCondLst>
                            <p:childTnLst>
                              <p:par>
                                <p:cTn id="5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0"/>
                            </p:stCondLst>
                            <p:childTnLst>
                              <p:par>
                                <p:cTn id="5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6000"/>
                            </p:stCondLst>
                            <p:childTnLst>
                              <p:par>
                                <p:cTn id="5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115640" y="4957920"/>
            <a:ext cx="72010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ais de 120 teatros e casas de 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90 mus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39 centros cultur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ão mais de 100 peças teatrais por  semana, ou 4.800 peças por 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91636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oper Black"/>
              </a:rPr>
              <a:t>São Paulo tem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7"/>
          <p:cNvGrpSpPr/>
          <p:nvPr/>
        </p:nvGrpSpPr>
        <p:grpSpPr>
          <a:xfrm>
            <a:off x="1547640" y="115920"/>
            <a:ext cx="6337440" cy="4844160"/>
            <a:chOff x="1547640" y="115920"/>
            <a:chExt cx="6337440" cy="4844160"/>
          </a:xfrm>
        </p:grpSpPr>
        <p:pic>
          <p:nvPicPr>
            <p:cNvPr id="129" name="Picture 4" descr="Imagem3"/>
            <p:cNvPicPr/>
            <p:nvPr/>
          </p:nvPicPr>
          <p:blipFill>
            <a:blip r:embed="rId4"/>
            <a:stretch/>
          </p:blipFill>
          <p:spPr>
            <a:xfrm>
              <a:off x="1547640" y="115920"/>
              <a:ext cx="60962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6"/>
            <p:cNvSpPr/>
            <p:nvPr/>
          </p:nvSpPr>
          <p:spPr>
            <a:xfrm>
              <a:off x="5148360" y="4653000"/>
              <a:ext cx="273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Teatro Municipal de São Pau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500"/>
                            </p:stCondLst>
                            <p:childTnLst>
                              <p:par>
                                <p:cTn id="5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4723920"/>
            <a:ext cx="864216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Britannic Bold"/>
              </a:rPr>
              <a:t>São Paulo possui a sala de cinema com a maior tela e a mais alta tecnologia em projeção de filmes do paí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0"/>
          <p:cNvGrpSpPr/>
          <p:nvPr/>
        </p:nvGrpSpPr>
        <p:grpSpPr>
          <a:xfrm>
            <a:off x="1692360" y="1341360"/>
            <a:ext cx="5437080" cy="3013200"/>
            <a:chOff x="1692360" y="1341360"/>
            <a:chExt cx="5437080" cy="3013200"/>
          </a:xfrm>
        </p:grpSpPr>
        <p:pic>
          <p:nvPicPr>
            <p:cNvPr id="133" name="Picture 5" descr="Unibanco: primeira sala IMAX do país"/>
            <p:cNvPicPr/>
            <p:nvPr/>
          </p:nvPicPr>
          <p:blipFill>
            <a:blip r:embed="rId1"/>
            <a:stretch/>
          </p:blipFill>
          <p:spPr>
            <a:xfrm>
              <a:off x="1763640" y="1341360"/>
              <a:ext cx="536580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9"/>
            <p:cNvSpPr/>
            <p:nvPr/>
          </p:nvSpPr>
          <p:spPr>
            <a:xfrm>
              <a:off x="1692360" y="4005360"/>
              <a:ext cx="28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Sala Imax – Boulevard Pompé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4292640"/>
            <a:ext cx="822960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A MAIOR REVENDEDORA FERRARI NO MUNDO.                          A 2ª É LOS ANGE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A 4ª REVENDEDORA MASERATTI NO MUND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A 2ª REVENDEDORA PORSCH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A 2ª REVENDEDORA LAMBORGHI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A ÚNICA COM FILIAIS ROLLS E BENTLEY NA AMERICA LATINA DESDE O MÉXI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ferrariBrazil_abertura"/>
          <p:cNvPicPr/>
          <p:nvPr/>
        </p:nvPicPr>
        <p:blipFill>
          <a:blip r:embed="rId1"/>
          <a:stretch/>
        </p:blipFill>
        <p:spPr>
          <a:xfrm rot="20536200">
            <a:off x="468360" y="1341000"/>
            <a:ext cx="2658960" cy="1662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maserati%20granturismo"/>
          <p:cNvPicPr/>
          <p:nvPr/>
        </p:nvPicPr>
        <p:blipFill>
          <a:blip r:embed="rId2"/>
          <a:stretch/>
        </p:blipFill>
        <p:spPr>
          <a:xfrm>
            <a:off x="2987640" y="2924280"/>
            <a:ext cx="3760920" cy="1366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foto_01"/>
          <p:cNvPicPr/>
          <p:nvPr/>
        </p:nvPicPr>
        <p:blipFill>
          <a:blip r:embed="rId3"/>
          <a:stretch/>
        </p:blipFill>
        <p:spPr>
          <a:xfrm rot="611400">
            <a:off x="5076720" y="1267920"/>
            <a:ext cx="3556080" cy="15051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6"/>
          <p:cNvSpPr/>
          <p:nvPr/>
        </p:nvSpPr>
        <p:spPr>
          <a:xfrm>
            <a:off x="324000" y="260280"/>
            <a:ext cx="43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oper Black"/>
              </a:rPr>
              <a:t>São Paulo tem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ão Paulo é a capital dos eventos e da cultura na América Latina, com 90 mil eventos por ano.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75% das feiras brasileiras acontecem em São Pa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27_MVG_cult_animale1"/>
          <p:cNvPicPr/>
          <p:nvPr/>
        </p:nvPicPr>
        <p:blipFill>
          <a:blip r:embed="rId1"/>
          <a:stretch/>
        </p:blipFill>
        <p:spPr>
          <a:xfrm rot="20856600">
            <a:off x="1042560" y="2565000"/>
            <a:ext cx="2835360" cy="36226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0"/>
          <p:cNvSpPr/>
          <p:nvPr/>
        </p:nvSpPr>
        <p:spPr>
          <a:xfrm rot="20832600">
            <a:off x="0" y="177300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ão Paulo levou o Brasil para o calendário internacional da moda com o SP Fashion We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 rot="459000">
            <a:off x="4787640" y="2421000"/>
            <a:ext cx="43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É a única cidade da América Latina a sediar a Fórmul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3"/>
          <p:cNvGrpSpPr/>
          <p:nvPr/>
        </p:nvGrpSpPr>
        <p:grpSpPr>
          <a:xfrm>
            <a:off x="4459680" y="3063960"/>
            <a:ext cx="4627800" cy="3430080"/>
            <a:chOff x="4459680" y="3063960"/>
            <a:chExt cx="4627800" cy="3430080"/>
          </a:xfrm>
        </p:grpSpPr>
        <p:pic>
          <p:nvPicPr>
            <p:cNvPr id="140" name="Picture 9" descr="massa1-lg"/>
            <p:cNvPicPr/>
            <p:nvPr/>
          </p:nvPicPr>
          <p:blipFill>
            <a:blip r:embed="rId2"/>
            <a:stretch/>
          </p:blipFill>
          <p:spPr>
            <a:xfrm rot="499800">
              <a:off x="4642920" y="3357360"/>
              <a:ext cx="4260960" cy="28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2"/>
            <p:cNvSpPr/>
            <p:nvPr/>
          </p:nvSpPr>
          <p:spPr>
            <a:xfrm rot="538800">
              <a:off x="4858920" y="5788080"/>
              <a:ext cx="223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Autódromo de Interlag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06280" y="4581000"/>
            <a:ext cx="868680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3ª maior cidade italiana do mu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maior cidade japonesa fora do Jap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maior cidade portuguesa fora de Portug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maior cidade espanhola fora da Espan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3ª maior cidade libanesa fora do Líb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97164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oper Black"/>
              </a:rPr>
              <a:t>São Paulo é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2"/>
          <p:cNvGrpSpPr/>
          <p:nvPr/>
        </p:nvGrpSpPr>
        <p:grpSpPr>
          <a:xfrm>
            <a:off x="1476360" y="836640"/>
            <a:ext cx="6408720" cy="3674160"/>
            <a:chOff x="1476360" y="836640"/>
            <a:chExt cx="6408720" cy="3674160"/>
          </a:xfrm>
        </p:grpSpPr>
        <p:pic>
          <p:nvPicPr>
            <p:cNvPr id="145" name="Picture 10" descr="city_01"/>
            <p:cNvPicPr/>
            <p:nvPr/>
          </p:nvPicPr>
          <p:blipFill>
            <a:blip r:embed="rId1"/>
            <a:stretch/>
          </p:blipFill>
          <p:spPr>
            <a:xfrm>
              <a:off x="1476360" y="836640"/>
              <a:ext cx="6264360" cy="36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11"/>
            <p:cNvSpPr/>
            <p:nvPr/>
          </p:nvSpPr>
          <p:spPr>
            <a:xfrm>
              <a:off x="5076720" y="4203720"/>
              <a:ext cx="280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Mercado Municipal de São Pau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000"/>
                            </p:stCondLst>
                            <p:childTnLst>
                              <p:par>
                                <p:cTn id="6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3000"/>
                            </p:stCondLst>
                            <p:childTnLst>
                              <p:par>
                                <p:cTn id="6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000" y="4292640"/>
            <a:ext cx="9144000" cy="25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Sediou as campanhas mundiais da Levi's, Maybeline e da Citroên (com</a:t>
            </a: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Kiefer Sutherland, o Jack Bauer da série 24 </a:t>
            </a:r>
            <a:r>
              <a:rPr b="0" i="1" lang="pt-BR" sz="2200" spc="-1" strike="noStrike">
                <a:solidFill>
                  <a:srgbClr val="ffffff"/>
                </a:solidFill>
                <a:latin typeface="Arial"/>
              </a:rPr>
              <a:t>Horas). Além de </a:t>
            </a: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ser palco</a:t>
            </a:r>
            <a:br>
              <a:rPr sz="2200"/>
            </a:b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para recentes filmes, novelas e </a:t>
            </a:r>
            <a:r>
              <a:rPr b="0" i="1" lang="pt-BR" sz="2200" spc="-1" strike="noStrike">
                <a:solidFill>
                  <a:srgbClr val="ffffff"/>
                </a:solidFill>
                <a:latin typeface="Arial"/>
              </a:rPr>
              <a:t>da versão brasileira do America's Next Top Model. São Paulo também foi tema, pela terceira vez em menos de dois anos, de matéria no jornal norte-americano The New YorkTim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1638000" y="189000"/>
            <a:ext cx="6105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roadway"/>
              </a:rPr>
              <a:t>São Paulo está mais global doque nunca.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9"/>
          <p:cNvGrpSpPr/>
          <p:nvPr/>
        </p:nvGrpSpPr>
        <p:grpSpPr>
          <a:xfrm>
            <a:off x="1979640" y="765000"/>
            <a:ext cx="5253120" cy="3547440"/>
            <a:chOff x="1979640" y="765000"/>
            <a:chExt cx="5253120" cy="3547440"/>
          </a:xfrm>
        </p:grpSpPr>
        <p:pic>
          <p:nvPicPr>
            <p:cNvPr id="150" name="Picture 5" descr=""/>
            <p:cNvPicPr/>
            <p:nvPr/>
          </p:nvPicPr>
          <p:blipFill>
            <a:blip r:embed="rId1"/>
            <a:stretch/>
          </p:blipFill>
          <p:spPr>
            <a:xfrm>
              <a:off x="1979640" y="765000"/>
              <a:ext cx="5253120" cy="346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8"/>
            <p:cNvSpPr/>
            <p:nvPr/>
          </p:nvSpPr>
          <p:spPr>
            <a:xfrm>
              <a:off x="2050920" y="4005360"/>
              <a:ext cx="201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Parque Ibirapu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iovanniITCTT"/>
              </a:rPr>
              <a:t>São Paulo possui a única Universidade Pública que não é Federal do paí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iovanniITCTT"/>
              </a:rPr>
              <a:t>A USP está entre as 100 melhores do mundo e em </a:t>
            </a:r>
            <a:r>
              <a:rPr b="1" lang="pt-BR" sz="3200" spc="-1" strike="noStrike">
                <a:solidFill>
                  <a:srgbClr val="ffffff"/>
                </a:solidFill>
                <a:latin typeface="GiovanniITCTT"/>
              </a:rPr>
              <a:t>primeiro lugar na América do Sul</a:t>
            </a:r>
            <a:r>
              <a:rPr b="0" lang="pt-BR" sz="2800" spc="-1" strike="noStrike">
                <a:solidFill>
                  <a:srgbClr val="ffffff"/>
                </a:solidFill>
                <a:latin typeface="GiovanniITCTT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iovanniITCTT"/>
              </a:rPr>
              <a:t>(ranking do “The Time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9"/>
          <p:cNvGrpSpPr/>
          <p:nvPr/>
        </p:nvGrpSpPr>
        <p:grpSpPr>
          <a:xfrm>
            <a:off x="1546200" y="2260440"/>
            <a:ext cx="6265800" cy="4481640"/>
            <a:chOff x="1546200" y="2260440"/>
            <a:chExt cx="6265800" cy="4481640"/>
          </a:xfrm>
        </p:grpSpPr>
        <p:pic>
          <p:nvPicPr>
            <p:cNvPr id="154" name="Picture 7" descr="P1010155-R"/>
            <p:cNvPicPr/>
            <p:nvPr/>
          </p:nvPicPr>
          <p:blipFill>
            <a:blip r:embed="rId1"/>
            <a:srcRect l="0" t="4598" r="0" b="0"/>
            <a:stretch/>
          </p:blipFill>
          <p:spPr>
            <a:xfrm>
              <a:off x="1546200" y="2260440"/>
              <a:ext cx="6265800" cy="448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8"/>
            <p:cNvSpPr/>
            <p:nvPr/>
          </p:nvSpPr>
          <p:spPr>
            <a:xfrm>
              <a:off x="1547640" y="6381720"/>
              <a:ext cx="259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Cidade Universitár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06400" y="522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Orlando"/>
              </a:rPr>
              <a:t>Não é à toa que hoje, no Brasil, as coisas aconteçem primeiro em São Pau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8"/>
          <p:cNvGrpSpPr/>
          <p:nvPr/>
        </p:nvGrpSpPr>
        <p:grpSpPr>
          <a:xfrm>
            <a:off x="1835280" y="620640"/>
            <a:ext cx="5823000" cy="4375080"/>
            <a:chOff x="1835280" y="620640"/>
            <a:chExt cx="5823000" cy="4375080"/>
          </a:xfrm>
        </p:grpSpPr>
        <p:pic>
          <p:nvPicPr>
            <p:cNvPr id="158" name="Picture 6" descr="200610_132_sp2"/>
            <p:cNvPicPr/>
            <p:nvPr/>
          </p:nvPicPr>
          <p:blipFill>
            <a:blip r:embed="rId1"/>
            <a:stretch/>
          </p:blipFill>
          <p:spPr>
            <a:xfrm>
              <a:off x="1835280" y="620640"/>
              <a:ext cx="5823000" cy="437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7"/>
            <p:cNvSpPr/>
            <p:nvPr/>
          </p:nvSpPr>
          <p:spPr>
            <a:xfrm>
              <a:off x="2050920" y="4437000"/>
              <a:ext cx="187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Pinacote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erlin Sans FB"/>
              </a:rPr>
              <a:t>F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9999"/>
                </a:solidFill>
                <a:uFillTx/>
                <a:latin typeface="Berlin Sans FB"/>
                <a:hlinkClick r:id="rId1"/>
              </a:rPr>
              <a:t>www.prefeitura.sp.org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9999"/>
                </a:solidFill>
                <a:uFillTx/>
                <a:latin typeface="Berlin Sans FB"/>
                <a:hlinkClick r:id="rId2"/>
              </a:rPr>
              <a:t>www.webluxo.com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9999"/>
                </a:solidFill>
                <a:uFillTx/>
                <a:latin typeface="Berlin Sans FB"/>
                <a:hlinkClick r:id="rId3"/>
              </a:rPr>
              <a:t>www.ibge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9999"/>
                </a:solidFill>
                <a:uFillTx/>
                <a:latin typeface="Berlin Sans FB"/>
                <a:hlinkClick r:id="rId4"/>
              </a:rPr>
              <a:t>www.timesonline.co.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9999"/>
                </a:solidFill>
                <a:uFillTx/>
                <a:latin typeface="Berlin Sans FB"/>
                <a:hlinkClick r:id="rId5"/>
              </a:rPr>
              <a:t>www.nytim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Berlin Sans FB"/>
              </a:rPr>
              <a:t>Música: Adiemus - En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9280" y="5949720"/>
            <a:ext cx="41036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A MAIOR FROTA DE PORSCHES CAYENNES S, CARRERA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AS AMÉRICAS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cayenneturboporscheexcl"/>
          <p:cNvPicPr/>
          <p:nvPr/>
        </p:nvPicPr>
        <p:blipFill>
          <a:blip r:embed="rId1"/>
          <a:stretch/>
        </p:blipFill>
        <p:spPr>
          <a:xfrm>
            <a:off x="1042920" y="3500280"/>
            <a:ext cx="3073320" cy="24591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4284720" y="6021360"/>
            <a:ext cx="528480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 MAIOR FROTA DE HELICÓPTEROS PARTICULARES DO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UNDO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20"/>
          <p:cNvGrpSpPr/>
          <p:nvPr/>
        </p:nvGrpSpPr>
        <p:grpSpPr>
          <a:xfrm>
            <a:off x="4716360" y="620640"/>
            <a:ext cx="4248000" cy="2828520"/>
            <a:chOff x="4716360" y="620640"/>
            <a:chExt cx="4248000" cy="2828520"/>
          </a:xfrm>
        </p:grpSpPr>
        <p:pic>
          <p:nvPicPr>
            <p:cNvPr id="63" name="Picture 18" descr="Phenom100Jet"/>
            <p:cNvPicPr/>
            <p:nvPr/>
          </p:nvPicPr>
          <p:blipFill>
            <a:blip r:embed="rId2"/>
            <a:stretch/>
          </p:blipFill>
          <p:spPr>
            <a:xfrm>
              <a:off x="5005440" y="620640"/>
              <a:ext cx="357156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Rectangle 9"/>
            <p:cNvSpPr/>
            <p:nvPr/>
          </p:nvSpPr>
          <p:spPr>
            <a:xfrm>
              <a:off x="4716360" y="2565360"/>
              <a:ext cx="4248000" cy="8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A MAIOR FROTA D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JATOS PARTICULARES</a:t>
              </a:r>
              <a:r>
                <a:rPr b="1" lang="pt-BR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ULTRAPASSOU N.Y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Picture 12" descr="helicopteros_saopaulo"/>
          <p:cNvPicPr/>
          <p:nvPr/>
        </p:nvPicPr>
        <p:blipFill>
          <a:blip r:embed="rId3"/>
          <a:stretch/>
        </p:blipFill>
        <p:spPr>
          <a:xfrm>
            <a:off x="5435640" y="3789360"/>
            <a:ext cx="3195720" cy="212724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21"/>
          <p:cNvGrpSpPr/>
          <p:nvPr/>
        </p:nvGrpSpPr>
        <p:grpSpPr>
          <a:xfrm>
            <a:off x="468360" y="1268280"/>
            <a:ext cx="4043160" cy="2102400"/>
            <a:chOff x="468360" y="1268280"/>
            <a:chExt cx="4043160" cy="2102400"/>
          </a:xfrm>
        </p:grpSpPr>
        <p:sp>
          <p:nvSpPr>
            <p:cNvPr id="67" name="Rectangle 10"/>
            <p:cNvSpPr/>
            <p:nvPr/>
          </p:nvSpPr>
          <p:spPr>
            <a:xfrm>
              <a:off x="468360" y="2636640"/>
              <a:ext cx="404316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"/>
                </a:rPr>
                <a:t>A MAIOR FROTA DE AVIÕES AGRICOLAS </a:t>
              </a: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DO MUNDO</a:t>
              </a:r>
              <a:r>
                <a:rPr b="1" lang="pt-BR" sz="18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Picture 16" descr="1"/>
            <p:cNvPicPr/>
            <p:nvPr/>
          </p:nvPicPr>
          <p:blipFill>
            <a:blip r:embed="rId4"/>
            <a:stretch/>
          </p:blipFill>
          <p:spPr>
            <a:xfrm>
              <a:off x="1379520" y="1268280"/>
              <a:ext cx="2142720" cy="133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Text Box 19"/>
          <p:cNvSpPr/>
          <p:nvPr/>
        </p:nvSpPr>
        <p:spPr>
          <a:xfrm>
            <a:off x="39528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oper Black"/>
              </a:rPr>
              <a:t>São Paulo tem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 MAIOR CONSUMIDOR DE YATCH’S DE LONGO CURSO                                          FERRETTI – VIAREGGIO - LU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yatch_a"/>
          <p:cNvPicPr/>
          <p:nvPr/>
        </p:nvPicPr>
        <p:blipFill>
          <a:blip r:embed="rId1"/>
          <a:stretch/>
        </p:blipFill>
        <p:spPr>
          <a:xfrm>
            <a:off x="4749840" y="1557360"/>
            <a:ext cx="4394160" cy="3297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s50-wavepiercer-3a"/>
          <p:cNvPicPr/>
          <p:nvPr/>
        </p:nvPicPr>
        <p:blipFill>
          <a:blip r:embed="rId2"/>
          <a:stretch/>
        </p:blipFill>
        <p:spPr>
          <a:xfrm>
            <a:off x="108000" y="1700280"/>
            <a:ext cx="4595760" cy="2938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1"/>
          <p:cNvSpPr/>
          <p:nvPr/>
        </p:nvSpPr>
        <p:spPr>
          <a:xfrm>
            <a:off x="324000" y="260280"/>
            <a:ext cx="43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oper Black"/>
              </a:rPr>
              <a:t>São Paulo tem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24000" y="4508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 ÚNICA CIDADE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NO MUNDO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QUE TEM 4 LOJAS TIFFANY´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 UNICA CIDADE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NO MUNDO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QUE TEM 3 LOJAS BULGA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 FILIAL LOUIS VUITTON QUE MAIS LUC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 FILIAL MONTBLANC QUE MAIS VENDE CANETAS FORA DA SUIÇ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sociedade2"/>
          <p:cNvPicPr/>
          <p:nvPr/>
        </p:nvPicPr>
        <p:blipFill>
          <a:blip r:embed="rId1"/>
          <a:stretch/>
        </p:blipFill>
        <p:spPr>
          <a:xfrm>
            <a:off x="684360" y="1125360"/>
            <a:ext cx="1904760" cy="2867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bulgari-01"/>
          <p:cNvPicPr/>
          <p:nvPr/>
        </p:nvPicPr>
        <p:blipFill>
          <a:blip r:embed="rId2"/>
          <a:stretch/>
        </p:blipFill>
        <p:spPr>
          <a:xfrm>
            <a:off x="2843280" y="1125360"/>
            <a:ext cx="3000240" cy="1438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louis_fachada"/>
          <p:cNvPicPr/>
          <p:nvPr/>
        </p:nvPicPr>
        <p:blipFill>
          <a:blip r:embed="rId3"/>
          <a:stretch/>
        </p:blipFill>
        <p:spPr>
          <a:xfrm>
            <a:off x="3708360" y="2924280"/>
            <a:ext cx="1324080" cy="990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maison_montblanc"/>
          <p:cNvPicPr/>
          <p:nvPr/>
        </p:nvPicPr>
        <p:blipFill>
          <a:blip r:embed="rId4"/>
          <a:stretch/>
        </p:blipFill>
        <p:spPr>
          <a:xfrm>
            <a:off x="6045120" y="1484280"/>
            <a:ext cx="3098880" cy="20941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5"/>
          <p:cNvSpPr/>
          <p:nvPr/>
        </p:nvSpPr>
        <p:spPr>
          <a:xfrm>
            <a:off x="324000" y="260280"/>
            <a:ext cx="43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oper Black"/>
              </a:rPr>
              <a:t>São Paulo é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pperplate Gothic Bold"/>
              </a:rPr>
              <a:t>Existe uma Oficina Mecânica especializada somente em Ferr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BugattiVeyron2"/>
          <p:cNvPicPr/>
          <p:nvPr/>
        </p:nvPicPr>
        <p:blipFill>
          <a:blip r:embed="rId1"/>
          <a:stretch/>
        </p:blipFill>
        <p:spPr>
          <a:xfrm rot="20774400">
            <a:off x="611280" y="90756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inline_07_ctr3_07"/>
          <p:cNvPicPr/>
          <p:nvPr/>
        </p:nvPicPr>
        <p:blipFill>
          <a:blip r:embed="rId2"/>
          <a:stretch/>
        </p:blipFill>
        <p:spPr>
          <a:xfrm rot="1062000">
            <a:off x="5579640" y="1483920"/>
            <a:ext cx="2551320" cy="1709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1"/>
          <p:cNvSpPr/>
          <p:nvPr/>
        </p:nvSpPr>
        <p:spPr>
          <a:xfrm>
            <a:off x="971640" y="4005360"/>
            <a:ext cx="396072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ritannic Bold"/>
              </a:rPr>
              <a:t>6 BUGATTIS VEYRON JÁ CIRCULAM PELA CIDA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Britannic Bold"/>
              </a:rPr>
              <a:t>(HÁ ENCOMENDAS PARA MAIS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5111640" y="3500280"/>
            <a:ext cx="435636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ritannic Bold"/>
              </a:rPr>
              <a:t>ENCOMENDAS DE 9 PAGAN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ritannic Bold"/>
              </a:rPr>
              <a:t>(5 MILHÕES DE REA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Britannic Bold"/>
              </a:rPr>
              <a:t>LEVA 6 MESES PARA SER FE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80 MIL PAULISTAS TEM RESIDENCIA NA EUROPA E ESTADOS UNIDOS COMO 2ª OP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mansao"/>
          <p:cNvPicPr/>
          <p:nvPr/>
        </p:nvPicPr>
        <p:blipFill>
          <a:blip r:embed="rId1"/>
          <a:stretch/>
        </p:blipFill>
        <p:spPr>
          <a:xfrm rot="20945400">
            <a:off x="684360" y="234900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mansao4"/>
          <p:cNvPicPr/>
          <p:nvPr/>
        </p:nvPicPr>
        <p:blipFill>
          <a:blip r:embed="rId2"/>
          <a:stretch/>
        </p:blipFill>
        <p:spPr>
          <a:xfrm rot="685200">
            <a:off x="5795640" y="2781360"/>
            <a:ext cx="2857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42920" y="2205000"/>
            <a:ext cx="42116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A MAIOR QUANTIDADE DE CAVALOS  PURO SANGUE ÁRABES NAS AMÉRICAS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0,,11902199-EX,00"/>
          <p:cNvPicPr/>
          <p:nvPr/>
        </p:nvPicPr>
        <p:blipFill>
          <a:blip r:embed="rId1"/>
          <a:stretch/>
        </p:blipFill>
        <p:spPr>
          <a:xfrm rot="20781000">
            <a:off x="900000" y="1341360"/>
            <a:ext cx="3571920" cy="47149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324000" y="260280"/>
            <a:ext cx="43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oper Black"/>
              </a:rPr>
              <a:t>São Paulo tem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360" y="3789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AMPA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É A CIDADE QUE MAIS CONSOME ROMANÉE CONTI E VINHOS GRAND CRUS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NO MUND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EM COMO OS CHAMPAGNES KÜG ROSÉ, CRISTAL E GRANDE DA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 CIDADE QUE MAIS TOMA NA MÉDIA, VINHOS ACIMA DE US$ 87,00 POR GARRAFA NAS AMÉR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enot_fasano"/>
          <p:cNvPicPr/>
          <p:nvPr/>
        </p:nvPicPr>
        <p:blipFill>
          <a:blip r:embed="rId1"/>
          <a:stretch/>
        </p:blipFill>
        <p:spPr>
          <a:xfrm>
            <a:off x="2987640" y="765000"/>
            <a:ext cx="380052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13:38:14Z</dcterms:created>
  <dc:creator>***</dc:creator>
  <dc:description/>
  <dc:language>en-US</dc:language>
  <cp:lastModifiedBy>|</cp:lastModifiedBy>
  <dcterms:modified xsi:type="dcterms:W3CDTF">2009-06-06T23:21:14Z</dcterms:modified>
  <cp:revision>19</cp:revision>
  <dc:subject/>
  <dc:title>Slide 1</dc:title>
</cp:coreProperties>
</file>