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53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8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4.xml.rels" ContentType="application/vnd.openxmlformats-package.relationships+xml"/>
  <Override PartName="/ppt/slides/_rels/slide54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7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56F3-F83A-406A-A1A9-022E0CF6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0816-0F6B-4D56-886F-25BC4321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DFAE-5C0C-4AFC-B0D9-CA0F8E41A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3208-EF10-4604-B800-5C9B420B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C126-4559-4481-9509-6F71105A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5378-A6D8-49BB-B2CA-1A830E05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80F8-4493-49EB-A39D-5DAF6A94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2E64-E885-4E18-9DB6-2E35C8B5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39C2-FF78-4C2B-93C4-DD340234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A850-936A-4F23-A2A0-66A5850A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66E2-E5C6-434B-81FB-FC30C315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E362-1FA5-4E7D-8791-92068A64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470A-B5FC-4088-92AA-4D199B069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35.xml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50.xml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6.xml"/><Relationship Id="rId2" Type="http://schemas.openxmlformats.org/officeDocument/2006/relationships/slide" Target="slide94.xml"/><Relationship Id="rId3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37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51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5.xml"/><Relationship Id="rId2" Type="http://schemas.openxmlformats.org/officeDocument/2006/relationships/slide" Target="slide93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5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24.xml"/><Relationship Id="rId2" Type="http://schemas.openxmlformats.org/officeDocument/2006/relationships/slide" Target="slide92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41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53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23.xml"/><Relationship Id="rId2" Type="http://schemas.openxmlformats.org/officeDocument/2006/relationships/slide" Target="slide91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43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54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22.xml"/><Relationship Id="rId2" Type="http://schemas.openxmlformats.org/officeDocument/2006/relationships/slide" Target="slide90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45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55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21.xml"/><Relationship Id="rId2" Type="http://schemas.openxmlformats.org/officeDocument/2006/relationships/slide" Target="slide89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47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56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20.xml"/><Relationship Id="rId2" Type="http://schemas.openxmlformats.org/officeDocument/2006/relationships/slide" Target="slide88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57.xm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19.xml"/><Relationship Id="rId2" Type="http://schemas.openxmlformats.org/officeDocument/2006/relationships/slide" Target="slide87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58.xm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18.xml"/><Relationship Id="rId2" Type="http://schemas.openxmlformats.org/officeDocument/2006/relationships/slide" Target="slide86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59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17.xml"/><Relationship Id="rId2" Type="http://schemas.openxmlformats.org/officeDocument/2006/relationships/slide" Target="slide85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" Target="slide60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16.xml"/><Relationship Id="rId2" Type="http://schemas.openxmlformats.org/officeDocument/2006/relationships/slide" Target="slide84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61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15.xml"/><Relationship Id="rId2" Type="http://schemas.openxmlformats.org/officeDocument/2006/relationships/slide" Target="slide83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62.xm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14.xml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" Target="slide63.xml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13.xml"/><Relationship Id="rId2" Type="http://schemas.openxmlformats.org/officeDocument/2006/relationships/slide" Target="slide81.xm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64.xml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12.xml"/><Relationship Id="rId2" Type="http://schemas.openxmlformats.org/officeDocument/2006/relationships/slide" Target="slide80.xml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111.xml"/><Relationship Id="rId2" Type="http://schemas.openxmlformats.org/officeDocument/2006/relationships/slide" Target="slide79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10.xml"/><Relationship Id="rId2" Type="http://schemas.openxmlformats.org/officeDocument/2006/relationships/slide" Target="slide78.xm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9.xml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27.xml"/><Relationship Id="rId2" Type="http://schemas.openxmlformats.org/officeDocument/2006/relationships/slide" Target="slide95.xml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2068560"/>
            <a:ext cx="70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Comic Sans MS"/>
              </a:rPr>
              <a:t>PIENSA EN UN NÚMERO DEL 1 AL 6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1" action="ppaction://hlinksldjump"/>
          </p:cNvPr>
          <p:cNvSpPr/>
          <p:nvPr/>
        </p:nvSpPr>
        <p:spPr>
          <a:xfrm>
            <a:off x="1403280" y="4869000"/>
            <a:ext cx="2016360" cy="43308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100501" h="21600">
                <a:moveTo>
                  <a:pt x="0" y="0"/>
                </a:moveTo>
                <a:lnTo>
                  <a:pt x="100501" y="0"/>
                </a:lnTo>
                <a:lnTo>
                  <a:pt x="100501" y="21600"/>
                </a:lnTo>
                <a:lnTo>
                  <a:pt x="0" y="21600"/>
                </a:lnTo>
                <a:close/>
              </a:path>
              <a:path fill="lightenLess" w="100501" h="21600">
                <a:moveTo>
                  <a:pt x="0" y="0"/>
                </a:moveTo>
                <a:lnTo>
                  <a:pt x="100501" y="0"/>
                </a:lnTo>
                <a:lnTo>
                  <a:pt x="99101" y="1400"/>
                </a:lnTo>
                <a:lnTo>
                  <a:pt x="1400" y="1400"/>
                </a:lnTo>
                <a:close/>
              </a:path>
              <a:path fill="darken" w="100501" h="21600">
                <a:moveTo>
                  <a:pt x="100501" y="0"/>
                </a:moveTo>
                <a:lnTo>
                  <a:pt x="100501" y="21600"/>
                </a:lnTo>
                <a:lnTo>
                  <a:pt x="99101" y="20200"/>
                </a:lnTo>
                <a:lnTo>
                  <a:pt x="99101" y="1400"/>
                </a:lnTo>
                <a:close/>
              </a:path>
              <a:path fill="darkenLess" w="100501" h="21600">
                <a:moveTo>
                  <a:pt x="100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101" y="20200"/>
                </a:lnTo>
                <a:close/>
              </a:path>
              <a:path fill="lighten" w="100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GUIENTE 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endshow"/>
          </p:cNvPr>
          <p:cNvSpPr/>
          <p:nvPr/>
        </p:nvSpPr>
        <p:spPr>
          <a:xfrm>
            <a:off x="5076720" y="4869000"/>
            <a:ext cx="2016360" cy="43308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100501" h="21600">
                <a:moveTo>
                  <a:pt x="0" y="0"/>
                </a:moveTo>
                <a:lnTo>
                  <a:pt x="100501" y="0"/>
                </a:lnTo>
                <a:lnTo>
                  <a:pt x="100501" y="21600"/>
                </a:lnTo>
                <a:lnTo>
                  <a:pt x="0" y="21600"/>
                </a:lnTo>
                <a:close/>
              </a:path>
              <a:path fill="lightenLess" w="100501" h="21600">
                <a:moveTo>
                  <a:pt x="0" y="0"/>
                </a:moveTo>
                <a:lnTo>
                  <a:pt x="100501" y="0"/>
                </a:lnTo>
                <a:lnTo>
                  <a:pt x="99101" y="1400"/>
                </a:lnTo>
                <a:lnTo>
                  <a:pt x="1400" y="1400"/>
                </a:lnTo>
                <a:close/>
              </a:path>
              <a:path fill="darken" w="100501" h="21600">
                <a:moveTo>
                  <a:pt x="100501" y="0"/>
                </a:moveTo>
                <a:lnTo>
                  <a:pt x="100501" y="21600"/>
                </a:lnTo>
                <a:lnTo>
                  <a:pt x="99101" y="20200"/>
                </a:lnTo>
                <a:lnTo>
                  <a:pt x="99101" y="1400"/>
                </a:lnTo>
                <a:close/>
              </a:path>
              <a:path fill="darkenLess" w="100501" h="21600">
                <a:moveTo>
                  <a:pt x="100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101" y="20200"/>
                </a:lnTo>
                <a:close/>
              </a:path>
              <a:path fill="lighten" w="100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4000" y="58053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reado por </a:t>
            </a:r>
            <a:r>
              <a:rPr b="0" lang="es-MX" sz="1800" spc="-1" strike="noStrike" u="sng">
                <a:solidFill>
                  <a:srgbClr val="0000ff"/>
                </a:solidFill>
                <a:uFillTx/>
                <a:latin typeface="Arial"/>
              </a:rPr>
              <a:t>robnugnez@hot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6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1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7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5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8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9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9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3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40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7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41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1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42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5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43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9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44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3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45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7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46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1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47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5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48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9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49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3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50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7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51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1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52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5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53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9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54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3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55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7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56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1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57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5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58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9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59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3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60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7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61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1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62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5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63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9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1042920" y="1706400"/>
            <a:ext cx="7274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I EL NÚMERO QUE HAS PENSADO NO SE ENCUENTRA EN NINGUNA DE LAS TABLAS ANTERIORES SIGNIFICA QUE HAS PENSADO 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RO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” O UN 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ÚMERO MAYOR QUE 63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>
            <a:hlinkClick r:id="" action="ppaction://hlinkshowjump?jump=firstslide"/>
          </p:cNvPr>
          <p:cNvSpPr/>
          <p:nvPr/>
        </p:nvSpPr>
        <p:spPr>
          <a:xfrm>
            <a:off x="5148360" y="4797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>
            <a:hlinkClick r:id="" action="ppaction://hlinkshowjump?jump=endshow"/>
          </p:cNvPr>
          <p:cNvSpPr/>
          <p:nvPr/>
        </p:nvSpPr>
        <p:spPr>
          <a:xfrm>
            <a:off x="1908000" y="4797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2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2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5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9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4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73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5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77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6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1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7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5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8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9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9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3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0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7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1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1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2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5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3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9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4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3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5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7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2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6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1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7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5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8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9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9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3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20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7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21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1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22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5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23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9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24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3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25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7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258920" y="602136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1" action="ppaction://hlinksldjump"/>
          </p:cNvPr>
          <p:cNvSpPr/>
          <p:nvPr/>
        </p:nvSpPr>
        <p:spPr>
          <a:xfrm>
            <a:off x="376380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676600" y="1268280"/>
          <a:ext cx="4056120" cy="4348440"/>
        </p:xfrm>
        <a:graphic>
          <a:graphicData uri="http://schemas.openxmlformats.org/drawingml/2006/table">
            <a:tbl>
              <a:tblPr/>
              <a:tblGrid>
                <a:gridCol w="1368360"/>
                <a:gridCol w="1295280"/>
                <a:gridCol w="13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6227640" y="602136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VOLVER A INIC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0920" y="333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NÚMERO QUE HAS PENSADO, ¿ESTÁ EN ESTA TAB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26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1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27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5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28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9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29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3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0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7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1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1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2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5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3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9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4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3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4211640" y="2712960"/>
            <a:ext cx="80964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35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7" name="">
            <a:hlinkClick r:id="" action="ppaction://hlinkshowjump?jump=firstslide"/>
          </p:cNvPr>
          <p:cNvSpPr/>
          <p:nvPr/>
        </p:nvSpPr>
        <p:spPr>
          <a:xfrm>
            <a:off x="5148360" y="5445000"/>
            <a:ext cx="2016000" cy="43344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00" h="21600">
                <a:moveTo>
                  <a:pt x="0" y="0"/>
                </a:moveTo>
                <a:lnTo>
                  <a:pt x="100400" y="0"/>
                </a:lnTo>
                <a:lnTo>
                  <a:pt x="100400" y="21600"/>
                </a:lnTo>
                <a:lnTo>
                  <a:pt x="0" y="21600"/>
                </a:lnTo>
                <a:close/>
              </a:path>
              <a:path fill="lightenLess" w="100400" h="21600">
                <a:moveTo>
                  <a:pt x="0" y="0"/>
                </a:moveTo>
                <a:lnTo>
                  <a:pt x="100400" y="0"/>
                </a:lnTo>
                <a:lnTo>
                  <a:pt x="99000" y="1400"/>
                </a:lnTo>
                <a:lnTo>
                  <a:pt x="1400" y="1400"/>
                </a:lnTo>
                <a:close/>
              </a:path>
              <a:path fill="darken" w="100400" h="21600">
                <a:moveTo>
                  <a:pt x="100400" y="0"/>
                </a:moveTo>
                <a:lnTo>
                  <a:pt x="100400" y="21600"/>
                </a:lnTo>
                <a:lnTo>
                  <a:pt x="99000" y="20200"/>
                </a:lnTo>
                <a:lnTo>
                  <a:pt x="99000" y="1400"/>
                </a:lnTo>
                <a:close/>
              </a:path>
              <a:path fill="darkenLess" w="100400" h="21600">
                <a:moveTo>
                  <a:pt x="10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00" y="20200"/>
                </a:lnTo>
                <a:close/>
              </a:path>
              <a:path fill="lighten" w="10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ENSAR EN OTRO NÚ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>
            <a:hlinkClick r:id="" action="ppaction://hlinkshowjump?jump=endshow"/>
          </p:cNvPr>
          <p:cNvSpPr/>
          <p:nvPr/>
        </p:nvSpPr>
        <p:spPr>
          <a:xfrm>
            <a:off x="1908000" y="5445000"/>
            <a:ext cx="2016360" cy="433440"/>
          </a:xfrm>
          <a:custGeom>
            <a:avLst/>
            <a:gdLst>
              <a:gd name="textAreaLeft" fmla="*/ 28080 w 2016360"/>
              <a:gd name="textAreaRight" fmla="*/ 1988280 w 201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0418" h="21600">
                <a:moveTo>
                  <a:pt x="0" y="0"/>
                </a:moveTo>
                <a:lnTo>
                  <a:pt x="100418" y="0"/>
                </a:lnTo>
                <a:lnTo>
                  <a:pt x="100418" y="21600"/>
                </a:lnTo>
                <a:lnTo>
                  <a:pt x="0" y="21600"/>
                </a:lnTo>
                <a:close/>
              </a:path>
              <a:path fill="lightenLess" w="100418" h="21600">
                <a:moveTo>
                  <a:pt x="0" y="0"/>
                </a:moveTo>
                <a:lnTo>
                  <a:pt x="100418" y="0"/>
                </a:lnTo>
                <a:lnTo>
                  <a:pt x="99018" y="1400"/>
                </a:lnTo>
                <a:lnTo>
                  <a:pt x="1400" y="1400"/>
                </a:lnTo>
                <a:close/>
              </a:path>
              <a:path fill="darken" w="100418" h="21600">
                <a:moveTo>
                  <a:pt x="100418" y="0"/>
                </a:moveTo>
                <a:lnTo>
                  <a:pt x="100418" y="21600"/>
                </a:lnTo>
                <a:lnTo>
                  <a:pt x="99018" y="20200"/>
                </a:lnTo>
                <a:lnTo>
                  <a:pt x="99018" y="1400"/>
                </a:lnTo>
                <a:close/>
              </a:path>
              <a:path fill="darkenLess" w="100418" h="21600">
                <a:moveTo>
                  <a:pt x="10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18" y="20200"/>
                </a:lnTo>
                <a:close/>
              </a:path>
              <a:path fill="lighten" w="10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765440" y="9079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I HAS REVISADO BIEN LAS TABLAS Y HAS RESPONDIDO CORRECTAMENTE, EL NÚMERO QUE HAS PENSADO ES 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01:39:18Z</dcterms:created>
  <dc:creator>MAQUINA2</dc:creator>
  <dc:description/>
  <dc:language>en-US</dc:language>
  <cp:lastModifiedBy>Felip Antoja Ribó</cp:lastModifiedBy>
  <dcterms:modified xsi:type="dcterms:W3CDTF">2008-07-08T18:43:54Z</dcterms:modified>
  <cp:revision>10</cp:revision>
  <dc:subject/>
  <dc:title>Diapositiva 1</dc:title>
</cp:coreProperties>
</file>