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53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8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4.xml.rels" ContentType="application/vnd.openxmlformats-package.relationships+xml"/>
  <Override PartName="/ppt/slides/_rels/slide54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7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127.xml" ContentType="application/vnd.openxmlformats-officedocument.presentationml.slide+xml"/>
  <Override PartName="/ppt/slides/slide9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CDAE-A7CA-4F1E-BEF3-5B647DB24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C794-FFEA-462A-86CB-EB5359E6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2D24-38B5-4FEB-BE8E-C8724EBFC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0325-2A70-49E2-A4A0-2C4BF475C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FCBC-B133-415E-A4D6-89040F65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0BBB-7552-4DA1-95DB-A07F800D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E7E8-9D02-4562-B76A-C9BF049B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1BE8-BAF4-492F-8F4B-8A071A0F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F875-114B-48DB-B66F-CE98BF3A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ADC4-589A-4CEB-879F-D3414ECE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C36E-DB83-44D7-8D4D-83B1538F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3CC7-F731-4480-9CF2-D92FD20E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8644-9967-414A-9958-BCCC897B6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35.xml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50.xml"/><Relationship Id="rId3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26.xml"/><Relationship Id="rId2" Type="http://schemas.openxmlformats.org/officeDocument/2006/relationships/slide" Target="slide94.xml"/><Relationship Id="rId3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27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37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51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25.xml"/><Relationship Id="rId2" Type="http://schemas.openxmlformats.org/officeDocument/2006/relationships/slide" Target="slide93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30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52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24.xml"/><Relationship Id="rId2" Type="http://schemas.openxmlformats.org/officeDocument/2006/relationships/slide" Target="slide92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41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53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23.xml"/><Relationship Id="rId2" Type="http://schemas.openxmlformats.org/officeDocument/2006/relationships/slide" Target="slide91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43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54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22.xml"/><Relationship Id="rId2" Type="http://schemas.openxmlformats.org/officeDocument/2006/relationships/slide" Target="slide90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45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55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21.xml"/><Relationship Id="rId2" Type="http://schemas.openxmlformats.org/officeDocument/2006/relationships/slide" Target="slide89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47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56.xm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20.xml"/><Relationship Id="rId2" Type="http://schemas.openxmlformats.org/officeDocument/2006/relationships/slide" Target="slide88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57.xm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19.xml"/><Relationship Id="rId2" Type="http://schemas.openxmlformats.org/officeDocument/2006/relationships/slide" Target="slide87.xm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58.xm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18.xml"/><Relationship Id="rId2" Type="http://schemas.openxmlformats.org/officeDocument/2006/relationships/slide" Target="slide86.xm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" Target="slide59.xml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17.xml"/><Relationship Id="rId2" Type="http://schemas.openxmlformats.org/officeDocument/2006/relationships/slide" Target="slide85.xm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" Target="slide60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116.xml"/><Relationship Id="rId2" Type="http://schemas.openxmlformats.org/officeDocument/2006/relationships/slide" Target="slide84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61.xm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115.xml"/><Relationship Id="rId2" Type="http://schemas.openxmlformats.org/officeDocument/2006/relationships/slide" Target="slide83.xml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62.xml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114.xml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" Target="slide63.xml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113.xml"/><Relationship Id="rId2" Type="http://schemas.openxmlformats.org/officeDocument/2006/relationships/slide" Target="slide81.xm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" Target="slide64.xml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112.xml"/><Relationship Id="rId2" Type="http://schemas.openxmlformats.org/officeDocument/2006/relationships/slide" Target="slide80.xml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111.xml"/><Relationship Id="rId2" Type="http://schemas.openxmlformats.org/officeDocument/2006/relationships/slide" Target="slide79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33.xml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110.xml"/><Relationship Id="rId2" Type="http://schemas.openxmlformats.org/officeDocument/2006/relationships/slide" Target="slide78.xm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49.xml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27.xml"/><Relationship Id="rId2" Type="http://schemas.openxmlformats.org/officeDocument/2006/relationships/slide" Target="slide95.xml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71640" y="2068560"/>
            <a:ext cx="705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Comic Sans MS"/>
              </a:rPr>
              <a:t>PIENSA EN UN NÚMERO DEL 1 AL 6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1" action="ppaction://hlinksldjump"/>
          </p:cNvPr>
          <p:cNvSpPr/>
          <p:nvPr/>
        </p:nvSpPr>
        <p:spPr>
          <a:xfrm>
            <a:off x="1403280" y="4869000"/>
            <a:ext cx="2016360" cy="43308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100501" h="21600">
                <a:moveTo>
                  <a:pt x="0" y="0"/>
                </a:moveTo>
                <a:lnTo>
                  <a:pt x="100501" y="0"/>
                </a:lnTo>
                <a:lnTo>
                  <a:pt x="100501" y="21600"/>
                </a:lnTo>
                <a:lnTo>
                  <a:pt x="0" y="21600"/>
                </a:lnTo>
                <a:close/>
              </a:path>
              <a:path fill="lightenLess" w="100501" h="21600">
                <a:moveTo>
                  <a:pt x="0" y="0"/>
                </a:moveTo>
                <a:lnTo>
                  <a:pt x="100501" y="0"/>
                </a:lnTo>
                <a:lnTo>
                  <a:pt x="99101" y="1400"/>
                </a:lnTo>
                <a:lnTo>
                  <a:pt x="1400" y="1400"/>
                </a:lnTo>
                <a:close/>
              </a:path>
              <a:path fill="darken" w="100501" h="21600">
                <a:moveTo>
                  <a:pt x="100501" y="0"/>
                </a:moveTo>
                <a:lnTo>
                  <a:pt x="100501" y="21600"/>
                </a:lnTo>
                <a:lnTo>
                  <a:pt x="99101" y="20200"/>
                </a:lnTo>
                <a:lnTo>
                  <a:pt x="99101" y="1400"/>
                </a:lnTo>
                <a:close/>
              </a:path>
              <a:path fill="darkenLess" w="100501" h="21600">
                <a:moveTo>
                  <a:pt x="100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101" y="20200"/>
                </a:lnTo>
                <a:close/>
              </a:path>
              <a:path fill="lighten" w="100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GUIENTE 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" action="ppaction://hlinkshowjump?jump=endshow"/>
          </p:cNvPr>
          <p:cNvSpPr/>
          <p:nvPr/>
        </p:nvSpPr>
        <p:spPr>
          <a:xfrm>
            <a:off x="5076720" y="4869000"/>
            <a:ext cx="2016360" cy="43308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100501" h="21600">
                <a:moveTo>
                  <a:pt x="0" y="0"/>
                </a:moveTo>
                <a:lnTo>
                  <a:pt x="100501" y="0"/>
                </a:lnTo>
                <a:lnTo>
                  <a:pt x="100501" y="21600"/>
                </a:lnTo>
                <a:lnTo>
                  <a:pt x="0" y="21600"/>
                </a:lnTo>
                <a:close/>
              </a:path>
              <a:path fill="lightenLess" w="100501" h="21600">
                <a:moveTo>
                  <a:pt x="0" y="0"/>
                </a:moveTo>
                <a:lnTo>
                  <a:pt x="100501" y="0"/>
                </a:lnTo>
                <a:lnTo>
                  <a:pt x="99101" y="1400"/>
                </a:lnTo>
                <a:lnTo>
                  <a:pt x="1400" y="1400"/>
                </a:lnTo>
                <a:close/>
              </a:path>
              <a:path fill="darken" w="100501" h="21600">
                <a:moveTo>
                  <a:pt x="100501" y="0"/>
                </a:moveTo>
                <a:lnTo>
                  <a:pt x="100501" y="21600"/>
                </a:lnTo>
                <a:lnTo>
                  <a:pt x="99101" y="20200"/>
                </a:lnTo>
                <a:lnTo>
                  <a:pt x="99101" y="1400"/>
                </a:lnTo>
                <a:close/>
              </a:path>
              <a:path fill="darkenLess" w="100501" h="21600">
                <a:moveTo>
                  <a:pt x="100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101" y="20200"/>
                </a:lnTo>
                <a:close/>
              </a:path>
              <a:path fill="lighten" w="100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4000" y="580536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reado por </a:t>
            </a:r>
            <a:r>
              <a:rPr b="0" lang="es-MX" sz="1800" spc="-1" strike="noStrike" u="sng">
                <a:solidFill>
                  <a:srgbClr val="0000ff"/>
                </a:solidFill>
                <a:uFillTx/>
                <a:latin typeface="Arial"/>
              </a:rPr>
              <a:t>robnugnez@hot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36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1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37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5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38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9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39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3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40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7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41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1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42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5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43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9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44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3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45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7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46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1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47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5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48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9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49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3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50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7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51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1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52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5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53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9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54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3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55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7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56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1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57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5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58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9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59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3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60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7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61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1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62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5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63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9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1042920" y="1706400"/>
            <a:ext cx="7274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I EL NÚMERO QUE HAS PENSADO NO SE ENCUENTRA EN NINGUNA DE LAS TABLAS ANTERIORES SIGNIFICA QUE HAS PENSADO 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ERO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” O UN 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ÚMERO MAYOR QUE 63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>
            <a:hlinkClick r:id="" action="ppaction://hlinkshowjump?jump=firstslide"/>
          </p:cNvPr>
          <p:cNvSpPr/>
          <p:nvPr/>
        </p:nvSpPr>
        <p:spPr>
          <a:xfrm>
            <a:off x="5148360" y="4797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>
            <a:hlinkClick r:id="" action="ppaction://hlinkshowjump?jump=endshow"/>
          </p:cNvPr>
          <p:cNvSpPr/>
          <p:nvPr/>
        </p:nvSpPr>
        <p:spPr>
          <a:xfrm>
            <a:off x="1908000" y="4797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3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8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3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3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3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3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8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8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3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8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1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62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2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65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3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69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4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73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5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77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6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1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7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5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8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9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9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93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10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97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11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01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12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05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13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09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14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13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15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17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16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1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17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5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18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9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19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3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20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7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21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1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22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5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23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9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24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3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25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7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1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26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1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27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5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28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9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29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3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30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7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31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1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32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5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33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9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34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3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35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7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01:39:18Z</dcterms:created>
  <dc:creator>MAQUINA2</dc:creator>
  <dc:description/>
  <dc:language>en-US</dc:language>
  <cp:lastModifiedBy>Felip Antoja Ribó</cp:lastModifiedBy>
  <dcterms:modified xsi:type="dcterms:W3CDTF">2008-07-08T18:43:54Z</dcterms:modified>
  <cp:revision>10</cp:revision>
  <dc:subject/>
  <dc:title>Diapositiva 1</dc:title>
</cp:coreProperties>
</file>