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8F8-27EC-441B-84C0-EDA8919C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999-1B0C-4546-A496-D130D954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EA1-1B53-404A-BC14-1ED414B4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4E3-D83A-485F-BBA5-4FADCE34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960-CD06-4C2E-8FCE-7A1F1FAF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F35-D960-4D42-ACEB-D1D0383B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978-9430-4758-8981-FF47C228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687-0667-442B-898C-1D8CCF15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957-5015-4D8E-BDA1-E1E4B26F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0BE-1780-4F3E-A669-860E2D14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494-0954-47A3-A053-0207BBEB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4BF-FCA3-4D0A-BB17-637DA4A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1A15-386B-4F23-9D0E-AB74F5CA1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43" name=""/>
            <p:cNvGrpSpPr/>
            <p:nvPr/>
          </p:nvGrpSpPr>
          <p:grpSpPr>
            <a:xfrm>
              <a:off x="4575240" y="1487520"/>
              <a:ext cx="4317840" cy="4317840"/>
              <a:chOff x="4575240" y="1487520"/>
              <a:chExt cx="4317840" cy="4317840"/>
            </a:xfrm>
          </p:grpSpPr>
          <p:sp>
            <p:nvSpPr>
              <p:cNvPr id="44" name=""/>
              <p:cNvSpPr/>
              <p:nvPr/>
            </p:nvSpPr>
            <p:spPr>
              <a:xfrm>
                <a:off x="4575240" y="148752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5240" y="364644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6734160" y="148752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654880" y="256716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4160" y="256716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654880" y="364644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79280" y="1341360"/>
            <a:ext cx="42483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El cuadrado que se ve a la derecha, ha sido dividido en 4 cuadrantes de igual tamaño, que se han denominado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 y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de acuerdo con lo ilustrado en la fi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A continuación, se le plantearán 4 desafíos para que usted resuel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89080" y="627228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ff0000"/>
                </a:solidFill>
                <a:latin typeface="Arial"/>
              </a:rPr>
              <a:t>(Presione “</a:t>
            </a:r>
            <a:r>
              <a:rPr b="1" i="1" lang="es-CO" sz="20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1" i="1" lang="es-CO" sz="2000" spc="-1" strike="noStrike">
                <a:solidFill>
                  <a:srgbClr val="ff0000"/>
                </a:solidFill>
                <a:latin typeface="Arial"/>
              </a:rPr>
              <a:t>” cuando esté li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214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215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651640" y="148392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71640" y="25653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148360" y="41497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48360" y="4149720"/>
              <a:ext cx="0" cy="10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48360" y="522936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156360" y="4723920"/>
              <a:ext cx="0" cy="50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571640" y="4724280"/>
              <a:ext cx="57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51640" y="5229360"/>
              <a:ext cx="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79280" y="1104840"/>
            <a:ext cx="42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¡¡¡¿¿¿ QUÉEEE…???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¿¿¿ Otra vez ese “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sin tener la solución…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Si tus padres te vieran, se morirían de la decepció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Presiona “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 sólo cuando tengas la solución, o cuando te rind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237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651640" y="148392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571640" y="25653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48360" y="41497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48360" y="4149720"/>
              <a:ext cx="0" cy="10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48360" y="522936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156360" y="4723920"/>
              <a:ext cx="0" cy="50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571640" y="4724280"/>
              <a:ext cx="57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51640" y="5229360"/>
              <a:ext cx="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79280" y="1197000"/>
            <a:ext cx="4248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Ok, ok… ¡¡¡ De acuerdo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Admitamos que </a:t>
            </a:r>
            <a:r>
              <a:rPr b="1" lang="es-CO" sz="2400" spc="-1" strike="noStrike" u="sng">
                <a:solidFill>
                  <a:srgbClr val="ffff00"/>
                </a:solidFill>
                <a:uFillTx/>
                <a:latin typeface="Arial"/>
              </a:rPr>
              <a:t>eres un total fracaso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, y que tu IQ se asemeja más al de una gallina mongólica, que al de un ser human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4508640"/>
            <a:ext cx="4176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0000"/>
                </a:solidFill>
                <a:latin typeface="Arial"/>
              </a:rPr>
              <a:t>Aquí está tu respuesta… </a:t>
            </a:r>
            <a:r>
              <a:rPr b="1" lang="es-CO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ff00"/>
                </a:solidFill>
                <a:latin typeface="Arial"/>
              </a:rPr>
              <a:t>(Ahora sí, presiona el “</a:t>
            </a:r>
            <a:r>
              <a:rPr b="1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1" i="1" lang="es-CO" sz="2400" spc="-1" strike="noStrike">
                <a:solidFill>
                  <a:srgbClr val="ffff00"/>
                </a:solidFill>
                <a:latin typeface="Arial"/>
              </a:rPr>
              <a:t>”, bruto de m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32720" y="456552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424980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32720" y="393372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32720" y="488304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519912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32720" y="551664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765000"/>
            <a:ext cx="424836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Ja, ja, ja, ja, ja, j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Te sientes ridículo, ¿cierto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No te preocupes, casi nadie logra resolver este 4° desafío a pesar de lo fácil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Este test es sólo otra prueba de que el cerebro puede ser condicionado a determinado tipo de resp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268" name=""/>
            <p:cNvGrpSpPr/>
            <p:nvPr/>
          </p:nvGrpSpPr>
          <p:grpSpPr>
            <a:xfrm>
              <a:off x="4486680" y="984240"/>
              <a:ext cx="4406400" cy="5330160"/>
              <a:chOff x="4486680" y="984240"/>
              <a:chExt cx="4406400" cy="53301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575240" y="1484280"/>
                <a:ext cx="4317840" cy="4317840"/>
                <a:chOff x="4575240" y="1484280"/>
                <a:chExt cx="4317840" cy="43178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575240" y="1484280"/>
                  <a:ext cx="4317840" cy="4317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75240" y="3643200"/>
                  <a:ext cx="43178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6734160" y="1484280"/>
                  <a:ext cx="0" cy="4317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54880" y="2563920"/>
                  <a:ext cx="1079280" cy="10792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734160" y="2563920"/>
                  <a:ext cx="1079640" cy="10792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654880" y="3643200"/>
                  <a:ext cx="1079280" cy="107964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4486680" y="988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9999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485920" y="9842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9999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485920" y="5848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9999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31320" y="5854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9999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812000" y="1483920"/>
                <a:ext cx="1081080" cy="108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5651640" y="1483920"/>
                <a:ext cx="0" cy="108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4571640" y="2565360"/>
                <a:ext cx="1079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148360" y="4149720"/>
                <a:ext cx="503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48360" y="4149720"/>
                <a:ext cx="0" cy="1079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48360" y="5229360"/>
                <a:ext cx="1008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6156360" y="4723920"/>
                <a:ext cx="0" cy="505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571640" y="4724280"/>
                <a:ext cx="576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651640" y="5229360"/>
                <a:ext cx="0" cy="57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732720" y="3933720"/>
              <a:ext cx="2160360" cy="1582560"/>
              <a:chOff x="6732720" y="3933720"/>
              <a:chExt cx="2160360" cy="1582560"/>
            </a:xfrm>
          </p:grpSpPr>
          <p:sp>
            <p:nvSpPr>
              <p:cNvPr id="290" name=""/>
              <p:cNvSpPr/>
              <p:nvPr/>
            </p:nvSpPr>
            <p:spPr>
              <a:xfrm>
                <a:off x="6732720" y="4565520"/>
                <a:ext cx="216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32720" y="4249440"/>
                <a:ext cx="216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32720" y="3933720"/>
                <a:ext cx="216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732720" y="4883040"/>
                <a:ext cx="216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32720" y="5198760"/>
                <a:ext cx="216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32720" y="5516280"/>
                <a:ext cx="216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"/>
          <p:cNvSpPr/>
          <p:nvPr/>
        </p:nvSpPr>
        <p:spPr>
          <a:xfrm>
            <a:off x="324000" y="6437160"/>
            <a:ext cx="84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 u="sng">
                <a:solidFill>
                  <a:srgbClr val="ff0000"/>
                </a:solidFill>
                <a:uFillTx/>
                <a:latin typeface="Arial"/>
              </a:rPr>
              <a:t>PS</a:t>
            </a:r>
            <a:r>
              <a:rPr b="1" lang="es-CO" sz="1400" spc="-1" strike="noStrike">
                <a:solidFill>
                  <a:srgbClr val="ff0000"/>
                </a:solidFill>
                <a:latin typeface="Arial"/>
              </a:rPr>
              <a:t>: MIENTRAS MÁS PRIMITIVO SEA EL CEREBRO, MÁS FÁCIL SERÁ SU CONDICIONAMIENT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5373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Digamos que eres solamente un bruto estándar… 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58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59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79280" y="1182600"/>
            <a:ext cx="424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 u="sng">
                <a:solidFill>
                  <a:srgbClr val="ffff00"/>
                </a:solidFill>
                <a:uFillTx/>
                <a:latin typeface="Arial"/>
              </a:rPr>
              <a:t>DESAFÍO N°1</a:t>
            </a:r>
            <a:r>
              <a:rPr b="1" lang="es-CO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Mentalmente, divida el área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BLANCA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del cuadrante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de modo que resulten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dos (2)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piezas de igual tam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Presione “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” cuando tenga su respuesta, o cuando se de por vencido y deseé ver la respuest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812000" y="1483920"/>
            <a:ext cx="1081080" cy="10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4486680" y="981000"/>
            <a:ext cx="4406400" cy="5330160"/>
            <a:chOff x="4486680" y="981000"/>
            <a:chExt cx="4406400" cy="5330160"/>
          </a:xfrm>
        </p:grpSpPr>
        <p:grpSp>
          <p:nvGrpSpPr>
            <p:cNvPr id="72" name=""/>
            <p:cNvGrpSpPr/>
            <p:nvPr/>
          </p:nvGrpSpPr>
          <p:grpSpPr>
            <a:xfrm>
              <a:off x="4575240" y="1481040"/>
              <a:ext cx="4317840" cy="4317840"/>
              <a:chOff x="4575240" y="1481040"/>
              <a:chExt cx="4317840" cy="4317840"/>
            </a:xfrm>
          </p:grpSpPr>
          <p:sp>
            <p:nvSpPr>
              <p:cNvPr id="73" name=""/>
              <p:cNvSpPr/>
              <p:nvPr/>
            </p:nvSpPr>
            <p:spPr>
              <a:xfrm>
                <a:off x="4575240" y="148104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575240" y="363996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6734160" y="148104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654880" y="256068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734160" y="256068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654880" y="363996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86680" y="985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85920" y="981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85920" y="5845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31320" y="5851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812000" y="148068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125360"/>
            <a:ext cx="4248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Bueno, admite que esa estuvo demasiado fácil para alguien como tú… nada que tu gran intelecto no haya sido capaz de resolver en menos de 5 segundos, ¿cierto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¿Qué tal si vamos con otro desafío un poco más acorde a tu gran inteligencia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¿Listo… (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182600"/>
            <a:ext cx="424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 u="sng">
                <a:solidFill>
                  <a:srgbClr val="ffff00"/>
                </a:solidFill>
                <a:uFillTx/>
                <a:latin typeface="Arial"/>
              </a:rPr>
              <a:t>DESAFÍO N°2</a:t>
            </a:r>
            <a:r>
              <a:rPr b="1" lang="es-CO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Mentalmente, divida el área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BLANCA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del cuadrante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de modo que resulten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tres (3)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piezas de igual tam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Presione “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” cuando tenga su respuesta, o cuando se de por vencido y deseé ver la respuest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89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90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V="1">
            <a:off x="5651640" y="1483920"/>
            <a:ext cx="0" cy="10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571640" y="256536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486680" y="981000"/>
            <a:ext cx="4406400" cy="5330160"/>
            <a:chOff x="4486680" y="981000"/>
            <a:chExt cx="4406400" cy="5330160"/>
          </a:xfrm>
        </p:grpSpPr>
        <p:grpSp>
          <p:nvGrpSpPr>
            <p:cNvPr id="105" name=""/>
            <p:cNvGrpSpPr/>
            <p:nvPr/>
          </p:nvGrpSpPr>
          <p:grpSpPr>
            <a:xfrm>
              <a:off x="4575240" y="1481040"/>
              <a:ext cx="4317840" cy="4317840"/>
              <a:chOff x="4575240" y="1481040"/>
              <a:chExt cx="4317840" cy="4317840"/>
            </a:xfrm>
          </p:grpSpPr>
          <p:sp>
            <p:nvSpPr>
              <p:cNvPr id="106" name=""/>
              <p:cNvSpPr/>
              <p:nvPr/>
            </p:nvSpPr>
            <p:spPr>
              <a:xfrm>
                <a:off x="4575240" y="148104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75240" y="363996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734160" y="148104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54880" y="256068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34160" y="256068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54880" y="363996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4486680" y="985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85920" y="981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5920" y="5845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1320" y="5851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812000" y="148068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651640" y="148068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571640" y="256212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79280" y="1287360"/>
            <a:ext cx="4248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¿Qué opinas ahora…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En realidad eso es casi un insulto a tu inteligencia, ¿cierto, mi pequeño genio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Yo creo que tú mereces algo más acorde a tu asombroso nivel de IQ… mejor vamos con el próximo desafío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¿Listo… (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182600"/>
            <a:ext cx="424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 u="sng">
                <a:solidFill>
                  <a:srgbClr val="ffff00"/>
                </a:solidFill>
                <a:uFillTx/>
                <a:latin typeface="Arial"/>
              </a:rPr>
              <a:t>DESAFÍO N°3</a:t>
            </a:r>
            <a:r>
              <a:rPr b="1" lang="es-CO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Mentalmente, divida el área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BLANCA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del cuadrante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de modo que resulten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cuatro (4)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piezas de igual tam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Presione “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” cuando tenga su respuesta, o cuando se de por vencido y deseé ver la respuest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123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124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651640" y="148392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571640" y="25653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5148360" y="414972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4149720"/>
            <a:ext cx="0" cy="107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5229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156360" y="4723920"/>
            <a:ext cx="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571640" y="472428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522936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145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146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651640" y="148392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571640" y="25653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148360" y="41497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8360" y="4149720"/>
              <a:ext cx="0" cy="10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48360" y="522936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156360" y="4723920"/>
              <a:ext cx="0" cy="50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571640" y="4724280"/>
              <a:ext cx="57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51640" y="5229360"/>
              <a:ext cx="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79280" y="1085760"/>
            <a:ext cx="424836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Hhhhmmm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¿Qué pasó, Campeón…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Ok, admito que esa estuvo un poco más difícil, pero estoy seguro que tú sigues siendo el modelo de inteligencia de toda tu generación. No te desanimes tan fácil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Te propongo que vayamos por el último desafío…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¿Listo… (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182600"/>
            <a:ext cx="424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 u="sng">
                <a:solidFill>
                  <a:srgbClr val="ffff00"/>
                </a:solidFill>
                <a:uFillTx/>
                <a:latin typeface="Arial"/>
              </a:rPr>
              <a:t>DESAFÍO N°4</a:t>
            </a:r>
            <a:r>
              <a:rPr b="1" lang="es-CO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Mentalmente, divida el área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BLANCA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del cuadrante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de modo que resulten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siete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(7)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piezas de igual tam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Presione “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” cuando tenga su respuesta, o cuando se de por vencido y deseé ver la respuest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169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170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651640" y="148392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571640" y="25653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148360" y="41497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48360" y="4149720"/>
              <a:ext cx="0" cy="10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48360" y="522936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156360" y="4723920"/>
              <a:ext cx="0" cy="50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571640" y="4724280"/>
              <a:ext cx="57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51640" y="5229360"/>
              <a:ext cx="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191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192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651640" y="148392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571640" y="25653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148360" y="41497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48360" y="4149720"/>
              <a:ext cx="0" cy="10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48360" y="522936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156360" y="4723920"/>
              <a:ext cx="0" cy="50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571640" y="4724280"/>
              <a:ext cx="57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51640" y="5229360"/>
              <a:ext cx="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79280" y="981000"/>
            <a:ext cx="42483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¡¡¡ OPPPSSSSS…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¿¿ Qué significó ese “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si tú y yo sabemos que aun no tienes la solución…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Vamos, clon de Einstein… piensa un poco más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Presiona “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 sólo cuando tengas la solución, o cuando te rind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1:34:18Z</dcterms:created>
  <dc:creator>bteran</dc:creator>
  <dc:description/>
  <dc:language>en-US</dc:language>
  <cp:lastModifiedBy>bteran</cp:lastModifiedBy>
  <dcterms:modified xsi:type="dcterms:W3CDTF">2008-01-24T15:19:22Z</dcterms:modified>
  <cp:revision>56</cp:revision>
  <dc:subject/>
  <dc:title>Diapositiva 1</dc:title>
</cp:coreProperties>
</file>