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9BA-4C3E-439B-9AF6-D8213F28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21A-DC43-47B1-9234-794E43AB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883-4F18-4549-AE3D-39CF6B8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8CB-52BB-4FEF-89A4-6E3F30A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762-A9E7-4ADF-8E69-3EAC5A66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C81-7644-49D4-A7E3-91655253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5F2-1626-4B78-92C7-3954A17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232-DCC7-4832-BE80-9D8502F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139-1571-4B05-BF8E-C314248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B95-AF72-4A0E-A660-1FC1490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098-83DC-4283-AFD1-9DBEC41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66E-2A19-438A-A477-DD8A085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5F5D-4727-4598-967F-5230D32BB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43" name=""/>
            <p:cNvGrpSpPr/>
            <p:nvPr/>
          </p:nvGrpSpPr>
          <p:grpSpPr>
            <a:xfrm>
              <a:off x="4575240" y="1487520"/>
              <a:ext cx="4317840" cy="4317840"/>
              <a:chOff x="4575240" y="1487520"/>
              <a:chExt cx="4317840" cy="4317840"/>
            </a:xfrm>
          </p:grpSpPr>
          <p:sp>
            <p:nvSpPr>
              <p:cNvPr id="44" name=""/>
              <p:cNvSpPr/>
              <p:nvPr/>
            </p:nvSpPr>
            <p:spPr>
              <a:xfrm>
                <a:off x="4575240" y="148752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5240" y="364644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6734160" y="148752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654880" y="256716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4160" y="256716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654880" y="364644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9280" y="1341360"/>
            <a:ext cx="4248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l cuadrado que se ve a la derecha, ha sido dividido en 4 cuadrantes de igual tamaño, que se han denominado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y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acuerdo con lo ilustrado en la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A continuación, se le plantearán 4 desafíos para que usted resue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89080" y="6272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(Presione “</a:t>
            </a: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s-CO" sz="2000" spc="-1" strike="noStrike">
                <a:solidFill>
                  <a:srgbClr val="ff0000"/>
                </a:solidFill>
                <a:latin typeface="Arial"/>
              </a:rPr>
              <a:t>” cuando esté li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14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215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79280" y="1104840"/>
            <a:ext cx="42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¡¡¡¿¿¿ QUÉEEE…???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¿¿ Otra vez ese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sin tener la solución…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Si tus padres te vieran, se morirían de la decepció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Presiona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sólo cuando tengas la solución, o cuando te rin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37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9280" y="1197000"/>
            <a:ext cx="4248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Ok, ok… ¡¡¡ De acuerdo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Admitamos que </a:t>
            </a: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eres un total fracaso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, y que tu IQ se asemeja más al de una gallina mongólica, que al de un ser human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4508640"/>
            <a:ext cx="4176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0000"/>
                </a:solidFill>
                <a:latin typeface="Arial"/>
              </a:rPr>
              <a:t>Aquí está tu respuesta… </a:t>
            </a:r>
            <a:r>
              <a:rPr b="1" lang="es-CO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(Ahora sí, presiona el “</a:t>
            </a: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1" i="1" lang="es-CO" sz="2400" spc="-1" strike="noStrike">
                <a:solidFill>
                  <a:srgbClr val="ffff00"/>
                </a:solidFill>
                <a:latin typeface="Arial"/>
              </a:rPr>
              <a:t>”, bruto de m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32720" y="45655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424980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39337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488304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519912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2720" y="551664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765000"/>
            <a:ext cx="42483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Ja, ja, ja, ja, ja, j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Te sientes ridículo, ¿ciert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No te preocupes, casi nadie logra resolver este 4° desafío a pesar de lo fácil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ste test es sólo otra prueba de que el cerebro puede ser condicionado a determinado tipo de res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268" name=""/>
            <p:cNvGrpSpPr/>
            <p:nvPr/>
          </p:nvGrpSpPr>
          <p:grpSpPr>
            <a:xfrm>
              <a:off x="4486680" y="984240"/>
              <a:ext cx="4406400" cy="5330160"/>
              <a:chOff x="4486680" y="984240"/>
              <a:chExt cx="4406400" cy="53301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575240" y="1484280"/>
                <a:ext cx="4317840" cy="4317840"/>
                <a:chOff x="4575240" y="1484280"/>
                <a:chExt cx="4317840" cy="4317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75240" y="1484280"/>
                  <a:ext cx="4317840" cy="4317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75240" y="3643200"/>
                  <a:ext cx="4317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6734160" y="1484280"/>
                  <a:ext cx="0" cy="431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54880" y="2563920"/>
                  <a:ext cx="1079280" cy="1079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734160" y="2563920"/>
                  <a:ext cx="1079640" cy="1079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4880" y="3643200"/>
                  <a:ext cx="1079280" cy="107964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4486680" y="988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85920" y="984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485920" y="5848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31320" y="5854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9999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12000" y="1483920"/>
                <a:ext cx="1081080" cy="108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651640" y="1483920"/>
                <a:ext cx="0" cy="108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571640" y="2565360"/>
                <a:ext cx="1079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148360" y="4149720"/>
                <a:ext cx="503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48360" y="4149720"/>
                <a:ext cx="0" cy="107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8360" y="5229360"/>
                <a:ext cx="1008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156360" y="4723920"/>
                <a:ext cx="0" cy="50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571640" y="4724280"/>
                <a:ext cx="576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51640" y="5229360"/>
                <a:ext cx="0" cy="57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732720" y="3933720"/>
              <a:ext cx="2160360" cy="1582560"/>
              <a:chOff x="6732720" y="3933720"/>
              <a:chExt cx="2160360" cy="1582560"/>
            </a:xfrm>
          </p:grpSpPr>
          <p:sp>
            <p:nvSpPr>
              <p:cNvPr id="290" name=""/>
              <p:cNvSpPr/>
              <p:nvPr/>
            </p:nvSpPr>
            <p:spPr>
              <a:xfrm>
                <a:off x="6732720" y="456552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32720" y="424944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32720" y="393372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732720" y="488304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2720" y="519876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32720" y="5516280"/>
                <a:ext cx="216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324000" y="643716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 u="sng">
                <a:solidFill>
                  <a:srgbClr val="ff0000"/>
                </a:solidFill>
                <a:uFillTx/>
                <a:latin typeface="Arial"/>
              </a:rPr>
              <a:t>PS</a:t>
            </a: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: MIENTRAS MÁS PRIMITIVO SEA EL CEREBRO, MÁS FÁCIL SERÁ SU CONDICIONAMIENT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5373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Digamos que eres solamente un bruto estándar… 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58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59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1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os (2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812000" y="1483920"/>
            <a:ext cx="108108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4486680" y="981000"/>
            <a:ext cx="4406400" cy="5330160"/>
            <a:chOff x="4486680" y="981000"/>
            <a:chExt cx="4406400" cy="5330160"/>
          </a:xfrm>
        </p:grpSpPr>
        <p:grpSp>
          <p:nvGrpSpPr>
            <p:cNvPr id="72" name=""/>
            <p:cNvGrpSpPr/>
            <p:nvPr/>
          </p:nvGrpSpPr>
          <p:grpSpPr>
            <a:xfrm>
              <a:off x="4575240" y="1481040"/>
              <a:ext cx="4317840" cy="4317840"/>
              <a:chOff x="4575240" y="1481040"/>
              <a:chExt cx="4317840" cy="4317840"/>
            </a:xfrm>
          </p:grpSpPr>
          <p:sp>
            <p:nvSpPr>
              <p:cNvPr id="73" name=""/>
              <p:cNvSpPr/>
              <p:nvPr/>
            </p:nvSpPr>
            <p:spPr>
              <a:xfrm>
                <a:off x="4575240" y="148104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75240" y="363996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6734160" y="148104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54880" y="256068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34160" y="256068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54880" y="363996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86680" y="98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85920" y="98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85920" y="584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132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812000" y="148068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125360"/>
            <a:ext cx="4248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Bueno, admite que esa estuvo demasiado fácil para alguien como tú… nada que tu gran intelecto no haya sido capaz de resolver en menos de 5 segundos, ¿ciert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tal si vamos con otro desafío un poco más acorde a tu gran inteligencia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2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tres (3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89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90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V="1">
            <a:off x="5651640" y="1483920"/>
            <a:ext cx="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71640" y="256536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486680" y="981000"/>
            <a:ext cx="4406400" cy="5330160"/>
            <a:chOff x="4486680" y="981000"/>
            <a:chExt cx="4406400" cy="5330160"/>
          </a:xfrm>
        </p:grpSpPr>
        <p:grpSp>
          <p:nvGrpSpPr>
            <p:cNvPr id="105" name=""/>
            <p:cNvGrpSpPr/>
            <p:nvPr/>
          </p:nvGrpSpPr>
          <p:grpSpPr>
            <a:xfrm>
              <a:off x="4575240" y="1481040"/>
              <a:ext cx="4317840" cy="4317840"/>
              <a:chOff x="4575240" y="1481040"/>
              <a:chExt cx="4317840" cy="4317840"/>
            </a:xfrm>
          </p:grpSpPr>
          <p:sp>
            <p:nvSpPr>
              <p:cNvPr id="106" name=""/>
              <p:cNvSpPr/>
              <p:nvPr/>
            </p:nvSpPr>
            <p:spPr>
              <a:xfrm>
                <a:off x="4575240" y="148104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5240" y="363996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734160" y="148104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54880" y="256068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34160" y="256068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4880" y="363996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486680" y="98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5920" y="98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5920" y="584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1320" y="585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812000" y="148068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651640" y="148068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71640" y="25621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79280" y="1287360"/>
            <a:ext cx="4248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opinas ahora…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En realidad eso es casi un insulto a tu inteligencia, ¿cierto, mi pequeño geni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Yo creo que tú mereces algo más acorde a tu asombroso nivel de IQ… mejor vamos con el próximo desafío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3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cuatro (4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23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24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5148360" y="414972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149720"/>
            <a:ext cx="0" cy="10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5229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156360" y="472392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571640" y="472428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522936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45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79280" y="1085760"/>
            <a:ext cx="42483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Hhhhmmm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Qué pasó, Campeón…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Ok, admito que esa estuvo un poco más difícil, pero estoy seguro que tú sigues siendo el modelo de inteligencia de toda tu generación. No te desanimes tan fáci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Te propongo que vayamos por el último desafío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¿Listo… (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182600"/>
            <a:ext cx="42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 u="sng">
                <a:solidFill>
                  <a:srgbClr val="ffff00"/>
                </a:solidFill>
                <a:uFillTx/>
                <a:latin typeface="Arial"/>
              </a:rPr>
              <a:t>DESAFÍO N°4</a:t>
            </a:r>
            <a:r>
              <a:rPr b="1" lang="es-CO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Mentalmente, divida el área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BLANCA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del cuadrante “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de modo que resulten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siete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 piezas de igual tam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Presione “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Enter</a:t>
            </a:r>
            <a:r>
              <a:rPr b="0" i="1" lang="es-CO" sz="2400" spc="-1" strike="noStrike">
                <a:solidFill>
                  <a:srgbClr val="00ff00"/>
                </a:solidFill>
                <a:latin typeface="Arial"/>
              </a:rPr>
              <a:t>” cuando tenga su respuesta, o cuando se de por vencido y deseé ver la respuest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69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87280" y="18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0000"/>
                </a:solidFill>
                <a:latin typeface="Arial"/>
              </a:rPr>
              <a:t>PREGUNTAS CUADR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86680" y="984240"/>
            <a:ext cx="4406400" cy="5330160"/>
            <a:chOff x="4486680" y="984240"/>
            <a:chExt cx="4406400" cy="5330160"/>
          </a:xfrm>
        </p:grpSpPr>
        <p:grpSp>
          <p:nvGrpSpPr>
            <p:cNvPr id="191" name=""/>
            <p:cNvGrpSpPr/>
            <p:nvPr/>
          </p:nvGrpSpPr>
          <p:grpSpPr>
            <a:xfrm>
              <a:off x="4575240" y="1484280"/>
              <a:ext cx="4317840" cy="4317840"/>
              <a:chOff x="4575240" y="1484280"/>
              <a:chExt cx="4317840" cy="4317840"/>
            </a:xfrm>
          </p:grpSpPr>
          <p:sp>
            <p:nvSpPr>
              <p:cNvPr id="192" name=""/>
              <p:cNvSpPr/>
              <p:nvPr/>
            </p:nvSpPr>
            <p:spPr>
              <a:xfrm>
                <a:off x="4575240" y="1484280"/>
                <a:ext cx="4317840" cy="431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5240" y="3643200"/>
                <a:ext cx="431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734160" y="1484280"/>
                <a:ext cx="0" cy="4317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4880" y="2563920"/>
                <a:ext cx="107928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34160" y="2563920"/>
                <a:ext cx="1079640" cy="1079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54880" y="3643200"/>
                <a:ext cx="1079280" cy="107964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86680" y="9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5920" y="98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85920" y="5848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31320" y="585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009999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812000" y="1483920"/>
              <a:ext cx="108108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51640" y="1483920"/>
              <a:ext cx="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71640" y="25653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148360" y="4149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8360" y="4149720"/>
              <a:ext cx="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522936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156360" y="4723920"/>
              <a:ext cx="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571640" y="4724280"/>
              <a:ext cx="57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51640" y="5229360"/>
              <a:ext cx="0" cy="57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79280" y="981000"/>
            <a:ext cx="42483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¡¡¡ OPPPSSSSS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¿¿ Qué significó ese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, si tú y yo sabemos que aun no tienes la solución…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Vamos, clon de Einstein… piensa un poco má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Presiona “</a:t>
            </a:r>
            <a:r>
              <a:rPr b="0" i="1" lang="es-CO" sz="2400" spc="-1" strike="noStrike">
                <a:solidFill>
                  <a:srgbClr val="ffff00"/>
                </a:solidFill>
                <a:latin typeface="Arial"/>
              </a:rPr>
              <a:t>Enter</a:t>
            </a:r>
            <a:r>
              <a:rPr b="0" lang="es-CO" sz="2400" spc="-1" strike="noStrike">
                <a:solidFill>
                  <a:srgbClr val="ffff00"/>
                </a:solidFill>
                <a:latin typeface="Arial"/>
              </a:rPr>
              <a:t>” sólo cuando tengas la solución, o cuando te rin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1:34:18Z</dcterms:created>
  <dc:creator>bteran</dc:creator>
  <dc:description/>
  <dc:language>en-US</dc:language>
  <cp:lastModifiedBy>bteran</cp:lastModifiedBy>
  <dcterms:modified xsi:type="dcterms:W3CDTF">2008-01-24T15:19:22Z</dcterms:modified>
  <cp:revision>56</cp:revision>
  <dc:subject/>
  <dc:title>Diapositiva 1</dc:title>
</cp:coreProperties>
</file>