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19.jpeg" ContentType="image/jpeg"/>
  <Override PartName="/ppt/media/image42.jpeg" ContentType="image/jpeg"/>
  <Override PartName="/ppt/media/image3.gif" ContentType="image/gif"/>
  <Override PartName="/ppt/media/image5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21.jpeg" ContentType="image/jpeg"/>
  <Override PartName="/ppt/media/image60.jpeg" ContentType="image/jpeg"/>
  <Override PartName="/ppt/media/Orfeo%20y%20Eur%C3%ADdice%20(II)-Gluck.wav" ContentType="audio/x-wav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D4B-EE9A-4722-AE9D-F0855377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7D4-A7C0-4BFC-B5F6-0ED07279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3EF-DCE1-4029-93C6-4AB615E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FC8-9C3E-46D5-A807-77F9051E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96A-D43D-4C2E-B91E-7C7CEC88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1CE-68E2-44B1-864E-3AC9656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124-685C-40B4-89E4-49ED09A6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5F6-179A-43E9-BE4C-46ABCA24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78E-0EFE-4E3E-B638-F11DA221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765-DEFC-4EB8-B82B-7678B46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CB1-D801-4D78-ADDC-7F26345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50F-BB52-41B7-BF6B-40A0810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CD88-C399-4AC8-90FF-75266AFD65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Orfeo%20y%20Eur&#237;dice%20(II)-Glu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"/>
          <p:cNvPicPr/>
          <p:nvPr/>
        </p:nvPicPr>
        <p:blipFill>
          <a:blip r:embed="rId1"/>
          <a:stretch/>
        </p:blipFill>
        <p:spPr>
          <a:xfrm>
            <a:off x="47520" y="90360"/>
            <a:ext cx="9048960" cy="667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germany"/>
          <p:cNvPicPr/>
          <p:nvPr/>
        </p:nvPicPr>
        <p:blipFill>
          <a:blip r:embed="rId2"/>
          <a:stretch/>
        </p:blipFill>
        <p:spPr>
          <a:xfrm>
            <a:off x="7020000" y="3143160"/>
            <a:ext cx="1584360" cy="933480"/>
          </a:xfrm>
          <a:prstGeom prst="rect">
            <a:avLst/>
          </a:prstGeom>
          <a:ln w="0">
            <a:noFill/>
          </a:ln>
        </p:spPr>
      </p:pic>
      <p:sp>
        <p:nvSpPr>
          <p:cNvPr id="45" name="7 CuadroTexto"/>
          <p:cNvSpPr/>
          <p:nvPr/>
        </p:nvSpPr>
        <p:spPr>
          <a:xfrm>
            <a:off x="55080" y="6581880"/>
            <a:ext cx="90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úsica: Orfeo y Eurídice, Gluck                                                                                                                                 Sincronizado</a:t>
            </a:r>
            <a:endParaRPr b="1" lang="en-US" sz="12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  <p:sndAc>
      <p:stSnd>
        <p:snd r:embed="rId3" name="Orfeo%20y%20Eur%C3%ADdice%20(II)-Glu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er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04760" y="77760"/>
            <a:ext cx="46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Interior iglesia destruída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er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0" y="26028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l primer semáforo del mundo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708360" y="189000"/>
            <a:ext cx="1800360" cy="93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Berlin-Bode_Musem_Berlin-is"/>
          <p:cNvPicPr/>
          <p:nvPr/>
        </p:nvPicPr>
        <p:blipFill>
          <a:blip r:embed="rId1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0" y="5661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Los museos se hallan en “la Isla de los museos”</a:t>
            </a: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 UNESCO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er-196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erlin-torrre-101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851280" y="439740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Saboreando café y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Kügen (pastel)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n la torr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erlin-torre-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7960" y="293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Vista desde la torre con niebla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ReichstagBerlin"/>
          <p:cNvPicPr/>
          <p:nvPr/>
        </p:nvPicPr>
        <p:blipFill>
          <a:blip r:embed="rId1"/>
          <a:stretch/>
        </p:blipFill>
        <p:spPr>
          <a:xfrm>
            <a:off x="0" y="0"/>
            <a:ext cx="16330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otsdamer_Platz_19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4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268360" y="836640"/>
            <a:ext cx="64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Dresden …El 13 de febrero de 1945, bombas de fósforo, ordenado por Churchill, fueron lanzadas dejando la ciudad prácticamente arrasada. Lentamente y trabajando con mucho esfuerzo ha sido reconstruída por lo que Dresden es conocida como el Ave Fénix ya que resurgió de sus cenizas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3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3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3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405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405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RE"/>
          <p:cNvPicPr/>
          <p:nvPr/>
        </p:nvPicPr>
        <p:blipFill>
          <a:blip r:embed="rId1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alles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resdenBurning"/>
          <p:cNvPicPr/>
          <p:nvPr/>
        </p:nvPicPr>
        <p:blipFill>
          <a:blip r:embed="rId3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uins1"/>
          <p:cNvPicPr/>
          <p:nvPr/>
        </p:nvPicPr>
        <p:blipFill>
          <a:blip r:embed="rId4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45 -0.25163 C -0.26077 -0.24584 -0.25365 -0.23751 -0.24514 -0.23033 C -0.24254 -0.22825 -0.24115 -0.22408 -0.23872 -0.22154 C -0.23681 -0.21968 -0.23438 -0.21899 -0.23229 -0.21737 C -0.21823 -0.19862 -0.22639 -0.20811 -0.20816 -0.18936 C -0.20452 -0.18566 -0.20295 -0.17894 -0.20018 -0.17431 C -0.19011 -0.15904 -0.17847 -0.14329 -0.16771 -0.12917 C -0.16597 -0.12686 -0.1632 -0.12663 -0.16129 -0.12478 C -0.15886 -0.12223 -0.15729 -0.11876 -0.15486 -0.11621 C -0.1349 -0.09607 -0.11372 -0.07755 -0.09202 -0.06042 C -0.07691 -0.04862 -0.0625 -0.03033 -0.04514 -0.02593 C -0.03594 -0.01737 -0.02934 -0.01783 -0.01945 -0.01297 C -0.0125 -0.0095 -0.00643 -0.00464 -5.55556E-007 -7.03704E-006 E">
                                      <p:cBhvr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1 -0.33797 C 0.26458 -0.28959 0.22152 -0.2382 0.17742 -0.1875 C 0.16892 -0.17778 0.14965 -0.15255 0.14044 -0.14445 C 0.11718 -0.12385 0.09444 -0.10093 0.07256 -0.07778 C 0.05989 -0.06436 0.04774 -0.04445 0.03385 -0.03264 C 0.02951 -0.02361 0.02221 -0.01436 0.01458 -0.01111 C 0.01128 -0.00834 0.0085 -0.0044 0.00485 -0.00255 C 0.00329 -0.00186 -5.55556E-006 -0.00023 -5.55556E-006 -0.00023 E">
                                      <p:cBhvr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58 0.23865 C -0.31059 0.23448 -0.30555 0.2324 -0.30156 0.228 C -0.3 0.22638 -0.29982 0.22337 -0.29844 0.22152 C -0.29357 0.21504 -0.2941 0.21874 -0.28871 0.21504 C -0.27587 0.20624 -0.26493 0.19397 -0.25173 0.18494 C -0.23229 0.17221 -0.21059 0.16087 -0.19219 0.14629 C -0.18003 0.1368 -0.16875 0.12407 -0.15486 0.11828 C -0.14791 0.1118 -0.13958 0.10925 -0.13246 0.10323 C -0.11892 0.09212 -0.1342 0.10045 -0.11458 0.08819 C -0.10833 0.08425 -0.10156 0.08147 -0.09514 0.07731 C -0.08976 0.0736 -0.08507 0.0692 -0.07899 0.06666 C -0.07153 0.05971 -0.06215 0.05323 -0.05347 0.04953 C -0.0493 0.04143 -0.04253 0.03749 -0.03576 0.03448 C -0.02708 0.02684 -0.01979 0.01828 -0.01146 0.01064 C -0.00955 0.00902 -0.00851 0.00578 -0.0066 0.00416 C 0.00452 -0.00556 -0.00538 0.00694 -1.66667E-006 -5.92593E-006 E">
                                      <p:cBhvr>
                                        <p:cTn id="16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44 0.27962 C 0.24618 0.26736 0.23732 0.25902 0.23073 0.24953 C 0.21875 0.23194 0.2118 0.21851 0.2 0.19791 C 0.17413 0.15277 0.17482 0.16782 0.15156 0.14212 C 0.14149 0.13125 0.1342 0.1155 0.12257 0.10763 C 0.11719 0.10393 0.11163 0.10092 0.10642 0.09675 C 0.08576 0.07986 0.06476 0.05648 0.04514 0.03657 C 0.03871 0.03009 0.03611 0.0243 0.02899 0.01944 C 0.02101 0.00833 0.00989 0.00694 1.66667E-006 4.07407E-006 E">
                                      <p:cBhvr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Dresden"/>
          <p:cNvPicPr/>
          <p:nvPr/>
        </p:nvPicPr>
        <p:blipFill>
          <a:blip r:embed="rId1"/>
          <a:stretch/>
        </p:blipFill>
        <p:spPr>
          <a:xfrm>
            <a:off x="-37012680" y="0"/>
            <a:ext cx="4615668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365040"/>
            <a:ext cx="889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Berlín, capital de Alemania, excepto en los años de la partición en que Bonn era para Alemania del Oeste y Berlín del Este. Es una hermosa ciudad con 365 museos y extensos parques, tiene una población de unos 4 millones de habitantes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scudo 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de la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iudad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  <p:pic>
        <p:nvPicPr>
          <p:cNvPr id="47" name="Picture 5" descr="escudo"/>
          <p:cNvPicPr/>
          <p:nvPr/>
        </p:nvPicPr>
        <p:blipFill>
          <a:blip r:embed="rId1"/>
          <a:stretch/>
        </p:blipFill>
        <p:spPr>
          <a:xfrm>
            <a:off x="5580000" y="3213000"/>
            <a:ext cx="222264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4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-Dresden-034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res-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Dre-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Dre-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Dre-0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re--048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Dres-044-mural-132-mts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5549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Mural de 142 m., hecho con piezas de porcelana de Missen, que asimismo fue reconstruída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Dres-045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-898560" y="14446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Reconstrucción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y-Elba"/>
          <p:cNvPicPr/>
          <p:nvPr/>
        </p:nvPicPr>
        <p:blipFill>
          <a:blip r:embed="rId1"/>
          <a:stretch/>
        </p:blipFill>
        <p:spPr>
          <a:xfrm>
            <a:off x="0" y="0"/>
            <a:ext cx="3975084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Er-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05120" y="777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rfurt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er"/>
          <p:cNvPicPr/>
          <p:nvPr/>
        </p:nvPicPr>
        <p:blipFill>
          <a:blip r:embed="rId1"/>
          <a:stretch/>
        </p:blipFill>
        <p:spPr>
          <a:xfrm>
            <a:off x="-26068320" y="0"/>
            <a:ext cx="3521232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4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4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Er-061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4000" y="36504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Parece increíble, pero esta calle está construída sobre el río, es puente y calle a la vez. 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8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Er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Er-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rfurt-05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eipzi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840" y="2206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Leizpig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340000" y="98100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En Leipzig han vivido personajes como: Juan S. Bach, Wagner, Shiller. Goethe estudió en la universidad  homenajeando más tarde a la ciudad                                  situando en ella uno de los pasajes más famosos de “Fausto”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14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14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4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69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ei-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644920" y="293760"/>
            <a:ext cx="39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J.W. Goeth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Leipzig-076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598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La cafetería más antigua. Goethe era asiduo client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Pir"/>
          <p:cNvPicPr/>
          <p:nvPr/>
        </p:nvPicPr>
        <p:blipFill>
          <a:blip r:embed="rId1"/>
          <a:stretch/>
        </p:blipFill>
        <p:spPr>
          <a:xfrm>
            <a:off x="-609480" y="620640"/>
            <a:ext cx="975348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Postdam-09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553720" y="33336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Postdam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979640" y="4292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Señal por donde pasaba el muro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os-09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urlz MT"/>
              </a:rPr>
              <a:t>Lugar donde se reunieron para la partición de</a:t>
            </a: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 Alemania, Este y Oest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os-0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Postd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36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Quedinburg-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3629160" y="0"/>
            <a:ext cx="46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 </a:t>
            </a: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Quedlinburg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Qu-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Qu-06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391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que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9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Qu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Quedlinburg"/>
          <p:cNvPicPr/>
          <p:nvPr/>
        </p:nvPicPr>
        <p:blipFill>
          <a:blip r:embed="rId1"/>
          <a:stretch/>
        </p:blipFill>
        <p:spPr>
          <a:xfrm>
            <a:off x="0" y="333360"/>
            <a:ext cx="1428768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9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9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Sp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2297160" y="390600"/>
            <a:ext cx="42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Río Spree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er-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Suiza-Sajonia"/>
          <p:cNvPicPr/>
          <p:nvPr/>
        </p:nvPicPr>
        <p:blipFill>
          <a:blip r:embed="rId1"/>
          <a:stretch/>
        </p:blipFill>
        <p:spPr>
          <a:xfrm>
            <a:off x="-25279200" y="0"/>
            <a:ext cx="34423200" cy="5689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-6480" y="5719680"/>
            <a:ext cx="839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Parque Nacional “Suiza Sajona”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S-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SS05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6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SS-054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Wei-058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47520" y="5516640"/>
            <a:ext cx="909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Capital intelectual</a:t>
            </a: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 donde vivieron artistas como Bach, Shiller, Goethe, Listz …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829800" y="1758960"/>
            <a:ext cx="21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Weimar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eimart-056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6443640" y="333360"/>
            <a:ext cx="23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Goethe y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urlz MT"/>
              </a:rPr>
              <a:t>Shiller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Wi-087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49320" y="765000"/>
            <a:ext cx="3875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Wittenberg, donde Martín Lutero fue fraile católico, más tarde dió a conocer sus tesis sobre la religión e influyó sobre el protestantismo. 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Se casó y tuvo 6 hijos.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330"/>
                            </p:stCondLst>
                            <p:childTnLst>
                              <p:par>
                                <p:cTn id="49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433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Wittenber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Gluck-CRISTOPH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1413000"/>
            <a:ext cx="37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Música: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Orfeo y Eurídic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00"/>
                </a:solidFill>
                <a:latin typeface="Curlz MT"/>
              </a:rPr>
              <a:t>de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. W. von Gluck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ompositor alemán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2 - 7 - 1714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15 - 11- 1787</a:t>
            </a:r>
            <a:endParaRPr b="1" lang="en-US" sz="36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5000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81080" y="318960"/>
            <a:ext cx="82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En uno de los balcones “mostró” su hijo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Michael Jackson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-85320" y="-41400"/>
            <a:ext cx="31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00"/>
                </a:solidFill>
                <a:latin typeface="Curlz MT"/>
              </a:rPr>
              <a:t>Sector Sony</a:t>
            </a:r>
            <a:endParaRPr b="1" lang="en-US" sz="40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4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er-Sony-center"/>
          <p:cNvPicPr/>
          <p:nvPr/>
        </p:nvPicPr>
        <p:blipFill>
          <a:blip r:embed="rId1"/>
          <a:stretch/>
        </p:blipFill>
        <p:spPr>
          <a:xfrm>
            <a:off x="0" y="0"/>
            <a:ext cx="51404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er3"/>
          <p:cNvPicPr/>
          <p:nvPr/>
        </p:nvPicPr>
        <p:blipFill>
          <a:blip r:embed="rId2"/>
          <a:stretch/>
        </p:blipFill>
        <p:spPr>
          <a:xfrm>
            <a:off x="5097600" y="0"/>
            <a:ext cx="4046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er6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0" y="765000"/>
            <a:ext cx="2627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Curlz MT"/>
              </a:rPr>
              <a:t>Conjunto de las dos iglesias: una, restos de la guerra; y la otra, nueva.</a:t>
            </a: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Curlz MT"/>
              </a:rPr>
              <a:t>El conjunto es conocido por:</a:t>
            </a: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Curlz MT"/>
              </a:rPr>
              <a:t>Hueco de diente y lápiz de labios </a:t>
            </a:r>
            <a:endParaRPr b="1" lang="en-US" sz="3200" spc="-1" strike="noStrike">
              <a:solidFill>
                <a:srgbClr val="000000"/>
              </a:solidFill>
              <a:latin typeface="ZallmanCaps"/>
            </a:endParaRPr>
          </a:p>
        </p:txBody>
      </p:sp>
    </p:spTree>
  </p:cSld>
  <p:transition spd="slow" advTm="9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0:28:20Z</dcterms:created>
  <dc:creator>Rosa</dc:creator>
  <dc:description/>
  <dc:language>en-US</dc:language>
  <cp:lastModifiedBy>Jose Maria</cp:lastModifiedBy>
  <dcterms:modified xsi:type="dcterms:W3CDTF">2011-01-11T17:57:01Z</dcterms:modified>
  <cp:revision>1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