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AF4-5CDC-4425-BB25-E455B6C4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E38-F0A2-4758-AC9C-EF4F55F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1A5-0F96-4CD0-B75D-41FDEC64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752-94E8-49C4-972D-B3719D68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81B-8114-4369-AFDA-CF3D11EA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2F5-E1A1-4F9B-A5DC-1AA98B4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E73-1BC4-41E9-9094-832D2142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C9A-78C3-40EA-B57B-CCEC1E4B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B58-D9D4-4069-8B74-465CC275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5E4-DDA8-4209-A729-659B8C0D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571-5E3D-4C14-9AA7-DD9D337D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11F-3539-478D-B087-8FD9710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DC94-E93A-4096-B48A-116190DFF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Diapositi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Diapositiv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Diapositiv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Diapositiv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Diapositiv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Diapositiv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Diapositiv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Diapositiv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Diapositiv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" descr="Diapositive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Diapositiv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1" descr="Diapositiv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Diapositive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Diapositiv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Diapositiv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Diapositive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Diapositive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Diapositive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Diapositive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Diapositive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Diapositive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Diapositive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1" descr="Diapositiv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Diapositive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Diapositive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Diapositive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Diapositive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Diapositive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Diapositive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Diapositive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1" descr="Diapositive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Diapositive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Diapositive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1" descr="Diapositiv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1" descr="Diapositive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Diapositive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Diapositive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1" descr="Diapositive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Diapositive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Diapositive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" descr="Diapositiv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Diapositiv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Diapositiv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Diapositiv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1" descr="Diapositiv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9:25:03Z</dcterms:created>
  <dc:creator>cqt</dc:creator>
  <dc:description/>
  <dc:language>en-US</dc:language>
  <cp:lastModifiedBy>cremijo</cp:lastModifiedBy>
  <dcterms:modified xsi:type="dcterms:W3CDTF">2009-06-17T12:03:35Z</dcterms:modified>
  <cp:revision>7</cp:revision>
  <dc:subject/>
  <dc:title>Diapositive 1</dc:title>
</cp:coreProperties>
</file>