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F8FB-A1A8-423E-9187-1FF2BD9B5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6195-FFC3-409C-8AB4-70C03BB4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F778-9FAF-469A-B3F9-3C847387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5F5C-C41D-48EA-802A-5A3C8C30E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E69B-D72D-416C-A6F4-C985A8B7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2705-B0B0-499B-8317-8B99EFC2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6CDE-3ECA-4F0D-92D6-E1DB0C59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84C7-5543-47D5-95C6-010C0D62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BE0D-9FD7-4ED8-8A1C-0CD465E1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9D61-B5BA-4743-8FFD-ABB701F8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C518-131D-48AB-B762-1F14CACC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ABE8-2ECD-48B2-A1B8-70A45301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2388-98C0-4BC5-A1D5-155F71A6C9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 1" descr="Diapositiv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 1" descr="Diapositive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 1" descr="Diapositive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 1" descr="Diapositive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 1" descr="Diapositive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 1" descr="Diapositive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 1" descr="Diapositive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 1" descr="Diapositive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 1" descr="Diapositive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 1" descr="Diapositive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age 1" descr="Diapositive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 1" descr="Diapositive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 1" descr="Diapositive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 1" descr="Diapositive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age 1" descr="Diapositive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age 1" descr="Diapositive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 1" descr="Diapositive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 1" descr="Diapositive3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 1" descr="Diapositive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 1" descr="Diapositive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 1" descr="Diapositive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age 1" descr="Diapositive3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 1" descr="Diapositive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 1" descr="Diapositive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mage 1" descr="Diapositive3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 1" descr="Diapositive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mage 1" descr="Diapositive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 1" descr="Diapositive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Image 1" descr="Diapositive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 1" descr="Diapositive4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 1" descr="Diapositive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mage 1" descr="Diapositive4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Image 1" descr="Diapositive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 1" descr="Diapositive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 1" descr="Diapositive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Image 1" descr="Diapositive4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 1" descr="Diapositive4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Image 1" descr="Diapositive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 1" descr="Diapositive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e 1" descr="Diapositive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age 1" descr="Diapositive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 1" descr="Diapositive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 1" descr="Diapositive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 1" descr="Diapositive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 1" descr="Diapositive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9:25:03Z</dcterms:created>
  <dc:creator>cqt</dc:creator>
  <dc:description/>
  <dc:language>en-US</dc:language>
  <cp:lastModifiedBy>cremijo</cp:lastModifiedBy>
  <dcterms:modified xsi:type="dcterms:W3CDTF">2009-06-17T12:03:35Z</dcterms:modified>
  <cp:revision>7</cp:revision>
  <dc:subject/>
  <dc:title>Diapositive 1</dc:title>
</cp:coreProperties>
</file>