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  <p:custShowLst>
    <p:custShow name="Presentación 1" id="0">
      <p:sldLst>
        <p:sld r:id="rId3"/>
        <p:sld r:id="rId5"/>
        <p:sld r:id="rId6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E6C-A483-4C5D-914F-EC847519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808-B1A3-453B-95FA-7B0831D3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5C8-4F98-4F5D-B9A3-552A2B8F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10B-2145-4666-BA9B-702C9D03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CAE-F828-48BB-8C72-657DE4BD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68D-A544-4888-8297-E8C76B16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9F1-F72A-49AB-9206-7F7ADC65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382-7269-4687-82D6-07E5D0E5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F50-70F5-40A7-BBB3-758D027C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58E-8AE5-44BA-ABF5-42DEAF77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164-97BB-4A0E-A736-FF3B10DF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F79-9586-4C95-AEB1-5BAFED1D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AF12-F330-442C-A224-19AF7AE4B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1636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ffffff"/>
                </a:solidFill>
                <a:latin typeface="Verdana"/>
              </a:rPr>
              <a:t>CORRE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ffffff"/>
                </a:solidFill>
                <a:latin typeface="Verdana"/>
              </a:rPr>
              <a:t>EQUIVOCAD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4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Un matrimonio decide ir a pasar vacaciones en una playa del Caribe, en el mismo hotel donde pasaron la luna de miel 20 años atrás, pero debido a problemas de trabajo, la mujer no pudo viajar con su marido, quedando en darle alcance unos días despu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896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Verdana"/>
              </a:rPr>
              <a:t>Cuando el hombre llegó y se alojó en el hotel, vio con asombro que en la habitación había una computadora con conexión a Internet. Entonces decidió enviar un e-mail a su mujer pero, se equivocó en una letra y sin darse cuenta lo envió a otra direcció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1905120"/>
            <a:ext cx="6096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348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ff"/>
                </a:solidFill>
                <a:latin typeface="Verdana"/>
              </a:rPr>
              <a:t>El e-mail lo recibe por error una viuda que acababa de llegar del funeral de su marido, y que al leer su correo electrónico se desmayó instantáneamente. El hijo de la viuda al entrar en la habitación, encontró a su madre en el suelo sin conocimiento, a los pies de la computadora, en cuya pantalla se podía leer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90720" y="465120"/>
            <a:ext cx="5029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Querida esposa: He llegado bien. Probablemente te sorprenda recibir noticias mías por esta vía, pero ahora tienen computadora aquí y puedes enviarle mensajes a tus seres queridos. Acabo de llegar y he comprobado que todo está preparado para cuando llegues este próximo viernes. Tengo muchas ganas de verte y espero que tu viaje sea tan tranquilo y relajado como ha sido el mí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P.D.: No traigas mucha ropa. ¡Aquí hace un calor infernal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3T23:19:27Z</dcterms:created>
  <dc:creator>Manuel C. López Jaén</dc:creator>
  <dc:description/>
  <dc:language>en-US</dc:language>
  <cp:lastModifiedBy>Manuel Carlos López Jaén</cp:lastModifiedBy>
  <dcterms:modified xsi:type="dcterms:W3CDTF">2006-06-11T14:08:06Z</dcterms:modified>
  <cp:revision>19</cp:revision>
  <dc:subject/>
  <dc:title>Correo Equivocado</dc:title>
</cp:coreProperties>
</file>