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  <p:custShowLst>
    <p:custShow name="Presentación 1" id="0">
      <p:sldLst>
        <p:sld r:id="rId3"/>
        <p:sld r:id="rId5"/>
        <p:sld r:id="rId6"/>
        <p:sld r:id="rId7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26607-EAFE-4B0E-9CD7-9E484659A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D9EC5-7DA8-4059-92E3-240713689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924F1-16E9-4E34-B3F1-94BDF09B3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802DA-6737-4DDA-8BCE-C63186392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95FB2-E88F-43E7-A1DA-722E68F92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8EA06-1A09-4EBF-82B2-2D88D6681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8CBF3-41C1-46E2-B438-7808BD79B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C9370-1D03-4F60-8FC9-16112BE3A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35FD2-A38E-4C5C-B830-0BAF18581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606FC-1395-4EC3-AB4F-4E1AB0945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4E52E-19B6-49EB-83B6-4C74B2B83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64878-5558-4B33-94BC-6C566EBFB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6ECA9-87BE-471C-9D0D-32E88A3258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50000">
              <a:srgbClr val="a603ab"/>
            </a:gs>
            <a:gs pos="100000">
              <a:srgbClr val="a603a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163600"/>
            <a:ext cx="9144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8000" spc="-1" strike="noStrike">
                <a:solidFill>
                  <a:srgbClr val="ffffff"/>
                </a:solidFill>
                <a:latin typeface="Verdana"/>
              </a:rPr>
              <a:t>CORREO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8000" spc="-1" strike="noStrike">
                <a:solidFill>
                  <a:srgbClr val="ffffff"/>
                </a:solidFill>
                <a:latin typeface="Verdana"/>
              </a:rPr>
              <a:t>EQUIVOCADO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4428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Verdana"/>
              </a:rPr>
              <a:t>Un matrimonio decide ir a pasar vacaciones en una playa del Caribe, en el mismo hotel donde pasaron la luna de miel 20 años atrás, pero debido a problemas de trabajo, la mujer no pudo viajar con su marido, quedando en darle alcance unos días despué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489600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Verdana"/>
              </a:rPr>
              <a:t>Cuando el hombre llegó y se alojó en el hotel, vio con asombro que en la habitación había una computadora con conexión a Internet. Entonces decidió enviar un e-mail a su mujer pero, se equivocó en una letra y sin darse cuenta lo envió a otra dirección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1905120"/>
            <a:ext cx="609624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334800"/>
            <a:ext cx="914400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000" spc="-1" strike="noStrike">
                <a:solidFill>
                  <a:srgbClr val="0000ff"/>
                </a:solidFill>
                <a:latin typeface="Verdana"/>
              </a:rPr>
              <a:t>El e-mail lo recibe por error una viuda que acababa de llegar del funeral de su marido, y que al leer su correo electrónico se desmayó instantáneamente. El hijo de la viuda al entrar en la habitación, encontró a su madre en el suelo sin conocimiento, a los pies de la computadora, en cuya pantalla se podía leer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>
            <a:lum bright="-24000"/>
          </a:blip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990720" y="465120"/>
            <a:ext cx="502920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Verdana"/>
              </a:rPr>
              <a:t>Querida esposa: He llegado bien. Probablemente te sorprenda recibir noticias mías por esta vía, pero ahora tienen computadora aquí y puedes enviarle mensajes a tus seres queridos. Acabo de llegar y he comprobado que todo está preparado para cuando llegues este próximo viernes. Tengo muchas ganas de verte y espero que tu viaje sea tan tranquilo y relajado como ha sido el mí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Verdana"/>
              </a:rPr>
              <a:t>P.D.: No traigas mucha ropa. ¡Aquí hace un calor infernal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23T23:19:27Z</dcterms:created>
  <dc:creator>Manuel C. López Jaén</dc:creator>
  <dc:description/>
  <dc:language>en-US</dc:language>
  <cp:lastModifiedBy>Manuel Carlos López Jaén</cp:lastModifiedBy>
  <dcterms:modified xsi:type="dcterms:W3CDTF">2006-06-11T14:08:06Z</dcterms:modified>
  <cp:revision>19</cp:revision>
  <dc:subject/>
  <dc:title>Correo Equivocado</dc:title>
</cp:coreProperties>
</file>