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Rio%20bravo.wav" ContentType="audio/x-wav"/>
  <Override PartName="/ppt/media/image19.jpeg" ContentType="image/jpeg"/>
  <Override PartName="/ppt/media/image16.jpeg" ContentType="image/jpeg"/>
  <Override PartName="/ppt/media/image21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B15-9695-44FD-A77E-92D17EB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D6-4C32-4D5C-BA09-0A74179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AC2-0223-44F5-B57D-F0D7833B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5F1-AF79-4DC4-B13E-86BF7C3A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973-57BE-47C5-9918-E6F2739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025-1193-483A-9C4E-A4F3BCA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0A3-4E01-4BC9-B0C9-C67C8C7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051-5872-4F04-A745-88B0B2C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FE3-CB50-419E-94CB-E09DD8A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DF4-3025-4C67-8317-386815B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05E-CD4E-4210-A13B-D426E3B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F2F-1370-489D-9921-3D92C4A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1FAB-BEF9-4549-8EA9-96D59332F3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o%20brav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213000"/>
            <a:ext cx="878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9999"/>
                </a:solidFill>
                <a:latin typeface="Arial"/>
              </a:rPr>
              <a:t>Las mejores fotos de actualidad del año 2009 según el periódico americano « Denver Post 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7420680" y="63579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b0f0"/>
                </a:solidFill>
                <a:latin typeface="Arial Black"/>
              </a:rPr>
              <a:t>Con so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Rio%20bra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1057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-571680" y="0"/>
            <a:ext cx="10209240" cy="68104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1046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1039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1182600" y="0"/>
            <a:ext cx="1032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71280"/>
            <a:ext cx="6786720" cy="678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-74916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-793800" y="0"/>
            <a:ext cx="10887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1204920" y="0"/>
            <a:ext cx="11566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10085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-993600" y="0"/>
            <a:ext cx="10598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1814400" y="0"/>
            <a:ext cx="109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14200" y="836640"/>
            <a:ext cx="9026640" cy="602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-571680" y="0"/>
            <a:ext cx="10215720" cy="687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39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-428760" y="0"/>
            <a:ext cx="993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3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2160" y="0"/>
            <a:ext cx="9051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5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-64296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-662040" y="0"/>
            <a:ext cx="10598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-571680" y="0"/>
            <a:ext cx="10414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-655560" y="0"/>
            <a:ext cx="10483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550800" y="0"/>
            <a:ext cx="10024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-500040" y="0"/>
            <a:ext cx="10245600" cy="6834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7000" y="1071720"/>
            <a:ext cx="9093240" cy="471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-107172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-214200" y="0"/>
            <a:ext cx="9520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-649440" y="0"/>
            <a:ext cx="1039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-1285920" y="0"/>
            <a:ext cx="10418760" cy="684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065240"/>
            <a:ext cx="9129600" cy="472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-571680" y="0"/>
            <a:ext cx="10250640" cy="680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1032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096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798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-785880" y="0"/>
            <a:ext cx="9944280" cy="6904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-571680" y="0"/>
            <a:ext cx="9682200" cy="683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830160"/>
            <a:ext cx="7772400" cy="5195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10128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-125568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0"/>
            <a:ext cx="1071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10085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10551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879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-1422360" y="0"/>
            <a:ext cx="1054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-102708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21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3 Rectángulo" descr=""/>
          <p:cNvPicPr/>
          <p:nvPr/>
        </p:nvPicPr>
        <p:blipFill>
          <a:blip r:embed="rId2"/>
          <a:stretch/>
        </p:blipFill>
        <p:spPr>
          <a:xfrm>
            <a:off x="7047000" y="176040"/>
            <a:ext cx="2047680" cy="114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143080" y="33480"/>
            <a:ext cx="4857840" cy="67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309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14200"/>
            <a:ext cx="9102600" cy="664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4:01:16Z</dcterms:created>
  <dc:creator>Propriétaire</dc:creator>
  <dc:description/>
  <dc:language>en-US</dc:language>
  <cp:lastModifiedBy> </cp:lastModifiedBy>
  <dcterms:modified xsi:type="dcterms:W3CDTF">2010-05-25T21:40:43Z</dcterms:modified>
  <cp:revision>7</cp:revision>
  <dc:subject/>
  <dc:title>Les meilleures photos d’actualité de l’année 2009 selon le journal américain Denver Post. </dc:title>
</cp:coreProperties>
</file>