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0.jpeg" ContentType="image/jpeg"/>
  <Override PartName="/ppt/media/image64.png" ContentType="image/png"/>
  <Override PartName="/ppt/media/Rio%20bravo.wav" ContentType="audio/x-wav"/>
  <Override PartName="/ppt/media/image19.jpeg" ContentType="image/jpeg"/>
  <Override PartName="/ppt/media/image16.jpeg" ContentType="image/jpeg"/>
  <Override PartName="/ppt/media/image21.jpeg" ContentType="image/jpeg"/>
  <Override PartName="/ppt/media/image20.jpeg" ContentType="image/jpeg"/>
  <Override PartName="/ppt/media/image42.jpeg" ContentType="image/jpeg"/>
  <Override PartName="/ppt/media/image59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61.jpeg" ContentType="image/jpeg"/>
  <Override PartName="/ppt/media/image4.jpeg" ContentType="image/jpeg"/>
  <Override PartName="/ppt/media/image17.jpeg" ContentType="image/jpeg"/>
  <Override PartName="/ppt/media/image25.jpeg" ContentType="image/jpeg"/>
  <Override PartName="/ppt/media/image26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45F-A67F-4483-86D4-EFA44CEF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7CB-B244-46CD-A596-35815E97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CDC-E875-4B77-BB96-989AF207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438-9801-40A7-8D26-91C6E3F2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2B9-8895-4AF5-9238-D6871F61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EFD-876C-4F29-A4E8-A65759AD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D5B-A465-483F-8472-B0F23FA2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A80-64AB-4CA1-BE00-AE94C56F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E13-1317-45FD-89E8-ECD82A2D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81A-2EF1-4E5D-9C53-D01E2C7F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4FF-254C-4535-9CE2-BE863AA1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DECC-CF7E-4E82-B3C7-7C6564A4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1DB9-D2E4-4D75-876F-62CE592BD17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io%20bravo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3213000"/>
            <a:ext cx="8785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9999"/>
                </a:solidFill>
                <a:latin typeface="Arial"/>
              </a:rPr>
              <a:t>Las mejores fotos de actualidad del año 2009 según el periódico americano « Denver Post 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4 CuadroTexto"/>
          <p:cNvSpPr/>
          <p:nvPr/>
        </p:nvSpPr>
        <p:spPr>
          <a:xfrm>
            <a:off x="7420680" y="635796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b0f0"/>
                </a:solidFill>
                <a:latin typeface="Arial Black"/>
              </a:rPr>
              <a:t>Con so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Rio%20brav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0"/>
            <a:ext cx="10576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-571680" y="0"/>
            <a:ext cx="10209240" cy="68104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0"/>
            <a:ext cx="10460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10391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-1182600" y="0"/>
            <a:ext cx="10325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143000" y="71280"/>
            <a:ext cx="6786720" cy="678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-749160" y="0"/>
            <a:ext cx="10280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-793800" y="0"/>
            <a:ext cx="10887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-1204920" y="0"/>
            <a:ext cx="115664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0"/>
            <a:ext cx="10085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-993600" y="0"/>
            <a:ext cx="10598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-571680" y="0"/>
            <a:ext cx="10280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-1814400" y="0"/>
            <a:ext cx="10958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0"/>
            <a:ext cx="10280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571680" y="0"/>
            <a:ext cx="10280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14200" y="836640"/>
            <a:ext cx="9026640" cy="602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-571680" y="0"/>
            <a:ext cx="10280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-571680" y="0"/>
            <a:ext cx="10215720" cy="6872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39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-428760" y="0"/>
            <a:ext cx="9939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37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92160" y="0"/>
            <a:ext cx="9051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0"/>
            <a:ext cx="9159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-642960" y="0"/>
            <a:ext cx="10280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-662040" y="0"/>
            <a:ext cx="10598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-571680" y="0"/>
            <a:ext cx="10414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-655560" y="0"/>
            <a:ext cx="10483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-550800" y="0"/>
            <a:ext cx="10024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-500040" y="0"/>
            <a:ext cx="10245600" cy="68342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0"/>
            <a:ext cx="9142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7000" y="1071720"/>
            <a:ext cx="9093240" cy="471456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-1071720" y="0"/>
            <a:ext cx="10280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-214200" y="0"/>
            <a:ext cx="9520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-649440" y="0"/>
            <a:ext cx="10391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-1285920" y="0"/>
            <a:ext cx="10418760" cy="6845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1065240"/>
            <a:ext cx="9129600" cy="47210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0"/>
            <a:ext cx="10280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-571680" y="0"/>
            <a:ext cx="10250640" cy="68086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0"/>
            <a:ext cx="10325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096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0"/>
            <a:ext cx="9798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-785880" y="0"/>
            <a:ext cx="9944280" cy="69040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-571680" y="0"/>
            <a:ext cx="9682200" cy="68324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0"/>
            <a:ext cx="10961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85800" y="830160"/>
            <a:ext cx="7772400" cy="5195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0"/>
            <a:ext cx="10280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0"/>
            <a:ext cx="101282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-1255680" y="0"/>
            <a:ext cx="10961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0" y="0"/>
            <a:ext cx="10717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0"/>
            <a:ext cx="10085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0"/>
            <a:ext cx="10551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879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0"/>
            <a:ext cx="10280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-1422360" y="0"/>
            <a:ext cx="10545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-1027080" y="0"/>
            <a:ext cx="10961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0"/>
            <a:ext cx="9121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3 Rectángulo" descr=""/>
          <p:cNvPicPr/>
          <p:nvPr/>
        </p:nvPicPr>
        <p:blipFill>
          <a:blip r:embed="rId2"/>
          <a:stretch/>
        </p:blipFill>
        <p:spPr>
          <a:xfrm>
            <a:off x="7047000" y="176040"/>
            <a:ext cx="2047680" cy="114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143080" y="33480"/>
            <a:ext cx="4857840" cy="67910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93092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214200"/>
            <a:ext cx="9102600" cy="66438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4:01:16Z</dcterms:created>
  <dc:creator>Propriétaire</dc:creator>
  <dc:description/>
  <dc:language>en-US</dc:language>
  <cp:lastModifiedBy> </cp:lastModifiedBy>
  <dcterms:modified xsi:type="dcterms:W3CDTF">2010-05-25T21:40:43Z</dcterms:modified>
  <cp:revision>7</cp:revision>
  <dc:subject/>
  <dc:title>Les meilleures photos d’actualité de l’année 2009 selon le journal américain Denver Post. </dc:title>
</cp:coreProperties>
</file>