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DDD6A-9565-4CA9-AC6D-EAD0EAE3E28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DC8E-11AA-4EBF-9DB4-22616FEA8A1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EF90C-B473-4901-B8F6-D574DBFC54E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07400-400C-45D1-82CE-1C486529D86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D65EC-DFD4-49DA-AAA1-A4D50D25AF5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1AAEC-BEB0-4017-A191-ADC04CAF47A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2914C-71A3-4C7B-93A7-1C8122C7D16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670FE-528C-4C32-863B-C8666C89BED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37BBC-4DF1-46CD-8F87-936DF7E8EB0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B2F-C8F5-49B6-9CD7-66362176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D5E-E09A-4C9F-B927-B6E2FE83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1AC-B3D9-4942-96E3-CF0EC43B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65E-197B-477A-83E6-E669C89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313E-4B0A-4997-90E1-FBFAE77F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456C-3DF3-4CDB-81E3-AB1A31B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D3A2-6F4F-4B58-BD8F-280EF9C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833-FEA8-42CD-B2C1-5C1B3A49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DF1-A584-4D4F-AAD1-72725DDB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E47-47A0-4110-A693-F58EC86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23A1-BE3E-431E-993F-50D9B0A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AFE-465C-4E82-9488-5709CF9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8F6A-0890-411F-87F8-3DDC64C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E21E-BA8C-4780-A2EE-ADB649A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AD2-2D29-4C73-B6B5-81B412B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5C3D-FEEC-4DC0-BC59-DFAAA6EC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D190-4DB4-459D-BAFE-B294562F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B4E2-57D5-4048-8725-2909C7F7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A447-7290-4CE7-80F0-0E3FFE64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FFA1-A51D-4240-B9E4-B20A17D0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79A7-1B43-4FC1-86A8-E57983F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FCA8-6EE6-472B-89D4-34B964B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ECA-BAFF-4456-AE1F-B3DB5953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A6C3-1C5E-4E9D-AE1F-A700A4F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0832-4640-427E-8B4A-C76DD4B6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F374-559F-4A22-8DDF-09E72CE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2387-4E14-447F-ADB2-59371DA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68D8-776F-4A87-A0C5-6E1A235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36C5-30AE-4ECA-A1E5-22DCF0C7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560F-06F5-4855-8D86-DF79886B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7E5F-0F9A-4978-8986-03E169C3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CFAF-AD4B-48DA-B3EF-A346AE8B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0F95-5BC3-47BB-9CEC-72BFC77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DAA-53DA-4F42-A73F-9538F0D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B97A-2507-4E72-B42A-9E8BF48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453B-FE42-4316-BC7B-83274143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2991-46C8-43F8-B1D8-ADA0EF71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663F-62AC-482A-A2E8-72DA9BE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93EC-1FD1-4F89-AE8B-50D714F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B2C9-E91B-4B91-938D-4A8DB56E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DC83-96B2-4C4B-9593-1C135EA5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BD19-2729-4C36-8320-21DB48F1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AE67D-91B8-447B-97B8-B637044A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42A-1C79-4933-9FC4-26CCC327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F28-40AC-491B-8E73-F680349E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888-68A6-464A-AF69-D68006A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4A1-0351-44A5-A22A-572C0AE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1CC-187F-4C56-814A-EFFC346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4DF4CA-4F95-4E1D-A0D4-0E41795D985C}" type="slidenum">
              <a:rPr b="0" lang="es-MX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779366-71E8-47F9-9649-9A51A0BA7D43}" type="slidenum">
              <a:rPr b="0" lang="es-MX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094FCD-58B1-4DC7-85AD-6F7B56F68731}" type="slidenum">
              <a:rPr b="0" lang="es-MX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>
              <a:gd name="textAreaLeft" fmla="*/ 0 w 5797440"/>
              <a:gd name="textAreaRight" fmla="*/ 5715000 w 5797440"/>
              <a:gd name="textAreaTop" fmla="*/ 0 h 4537080"/>
              <a:gd name="textAreaBottom" fmla="*/ 4537080 h 4537080"/>
            </a:gdLst>
            <a:ahLst/>
            <a:rect l="textAreaLeft" t="textAreaTop" r="textAreaRight" b="textAreaBottom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D05775-79C4-4A48-B641-269F83EEEFDC}" type="slidenum">
              <a:rPr b="0" lang="es-MX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groups.yahoo.com/group/h33yat/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2"/>
          <a:stretch/>
        </p:blipFill>
        <p:spPr>
          <a:xfrm>
            <a:off x="2550960" y="4456080"/>
            <a:ext cx="4648320" cy="268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"/>
          <p:cNvSpPr/>
          <p:nvPr/>
        </p:nvSpPr>
        <p:spPr>
          <a:xfrm>
            <a:off x="539640" y="468360"/>
            <a:ext cx="899964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carritos son considerados como una de las principales herramientas para las compras en el supermercado, nos ayudan a comprar todos los productos domésticos, incluyendo sus productos personales y a transportar su compra de la tienda a su vehí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1" descr=""/>
          <p:cNvPicPr/>
          <p:nvPr/>
        </p:nvPicPr>
        <p:blipFill>
          <a:blip r:embed="rId2"/>
          <a:stretch/>
        </p:blipFill>
        <p:spPr>
          <a:xfrm>
            <a:off x="79200" y="268200"/>
            <a:ext cx="9839520" cy="329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2897280" y="4208400"/>
            <a:ext cx="390996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1" descr=""/>
          <p:cNvPicPr/>
          <p:nvPr/>
        </p:nvPicPr>
        <p:blipFill>
          <a:blip r:embed="rId2"/>
          <a:stretch/>
        </p:blipFill>
        <p:spPr>
          <a:xfrm>
            <a:off x="390600" y="1090440"/>
            <a:ext cx="9637560" cy="433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09760" y="4994280"/>
            <a:ext cx="1801800" cy="21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5"/>
          <a:stretch/>
        </p:blipFill>
        <p:spPr>
          <a:xfrm>
            <a:off x="5316480" y="4923000"/>
            <a:ext cx="17956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1" descr=""/>
          <p:cNvPicPr/>
          <p:nvPr/>
        </p:nvPicPr>
        <p:blipFill>
          <a:blip r:embed="rId2"/>
          <a:stretch/>
        </p:blipFill>
        <p:spPr>
          <a:xfrm>
            <a:off x="353880" y="817560"/>
            <a:ext cx="9564840" cy="7094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611280" y="3095640"/>
            <a:ext cx="2786040" cy="33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4"/>
          <a:stretch/>
        </p:blipFill>
        <p:spPr>
          <a:xfrm>
            <a:off x="6669000" y="3135240"/>
            <a:ext cx="31575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1" descr=""/>
          <p:cNvPicPr/>
          <p:nvPr/>
        </p:nvPicPr>
        <p:blipFill>
          <a:blip r:embed="rId2"/>
          <a:stretch/>
        </p:blipFill>
        <p:spPr>
          <a:xfrm>
            <a:off x="324000" y="927000"/>
            <a:ext cx="956916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1" descr=""/>
          <p:cNvPicPr/>
          <p:nvPr/>
        </p:nvPicPr>
        <p:blipFill>
          <a:blip r:embed="rId2"/>
          <a:stretch/>
        </p:blipFill>
        <p:spPr>
          <a:xfrm>
            <a:off x="176040" y="201600"/>
            <a:ext cx="9693360" cy="57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1" descr=""/>
          <p:cNvPicPr/>
          <p:nvPr/>
        </p:nvPicPr>
        <p:blipFill>
          <a:blip r:embed="rId2"/>
          <a:stretch/>
        </p:blipFill>
        <p:spPr>
          <a:xfrm>
            <a:off x="317520" y="987480"/>
            <a:ext cx="9575640" cy="2487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1611360" y="3279600"/>
            <a:ext cx="3214800" cy="3956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4"/>
          <a:stretch/>
        </p:blipFill>
        <p:spPr>
          <a:xfrm>
            <a:off x="5562720" y="3279600"/>
            <a:ext cx="337968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1" descr=""/>
          <p:cNvPicPr/>
          <p:nvPr/>
        </p:nvPicPr>
        <p:blipFill>
          <a:blip r:embed="rId2"/>
          <a:stretch/>
        </p:blipFill>
        <p:spPr>
          <a:xfrm>
            <a:off x="390600" y="1536840"/>
            <a:ext cx="932652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7:36:06Z</dcterms:created>
  <dc:creator>Rocio Patricia Blanchet Mancilla</dc:creator>
  <dc:description/>
  <dc:language>en-US</dc:language>
  <cp:lastModifiedBy>PEP</cp:lastModifiedBy>
  <dcterms:modified xsi:type="dcterms:W3CDTF">2010-03-08T18:15:40Z</dcterms:modified>
  <cp:revision>20</cp:revision>
  <dc:subject/>
  <dc:title>Diapositiva 1</dc:title>
</cp:coreProperties>
</file>