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E9EE1-0A0E-4DE2-9638-19513037A146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6A234-7239-4D65-9AD0-94A671169CC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AF5F8-676D-4D50-B541-D5ECB72D5F0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8609E-3585-41C5-B1A8-00A870B824DD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4593E-22CA-4A8E-8CB8-503749E37E5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A1ACD-7389-48AB-9AC3-05D0F5109BB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65925-1F4A-4961-8A09-AC0BA8FA4A1F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98597-D528-4CA0-A731-CA8191DF5233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1D68F-8208-4D5D-BABC-652EE142218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989-9660-40FD-A002-E8E70F7A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795-1D2B-45C8-95B4-E9173562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EF6-D481-4BDF-9FF3-97414CF9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DEC-FF9E-4840-BD85-2D329F02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3F01-6F50-4C3E-9CF9-D1BEEE42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4F95-D4C4-4B80-A716-D5EDF10E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2168-4427-4552-8376-AF629A6C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7E61-E7A3-4130-A8F2-8E9AB8A1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3448-598D-48A4-A9F4-5EFE6C9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D8F8-3E47-4B4C-A57A-C92E23BD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D08F-95B6-4ED3-8F21-5AB0EDE5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993-D0F5-459B-A396-ECE3BB32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EEFF-594B-4357-B32B-38293C79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E2BC-40EA-4DBD-B13C-1AE9B920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0030-C839-4C1C-B98F-68410F43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1D69-06B3-4EEA-8968-165672BC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2C8B-B5D3-48F8-B535-E62BB00F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BB26-3C5A-46BF-AA3E-39C2E728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6304-0E24-466D-90B0-55760DE1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AE70-9202-4CAB-AFEB-B9C47121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30EC-61D1-4F82-9AD2-A2D64FA1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63F34-9D4F-4FAF-885D-323D670D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FD7-D625-48DE-BFEF-361DA6FF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96B1-1949-459D-8060-B7788FBA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1235-8BDA-47E4-84EA-9E73944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E2E8F-F83C-4BC6-ACF5-800B3C40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46C7-6074-4BE2-B1BB-492B83C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92BA-C317-4148-9B82-67BB67FC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2688-8C6B-4806-A436-206460B0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18B8-10E4-4D17-B3CA-361649B2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B66B-5E8C-4272-A721-92198F7B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76950-AB8C-44B4-B211-D9CEEB17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D1F2-6F76-4187-B6E6-271C0F0C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17C-FECE-4ED2-A6E9-F0E0A857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FC68-A86E-4E20-A23E-02EA053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1740-A42D-49A0-867B-C91018A0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95EBE-46C6-498B-9C46-50575674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01CB8-1F56-4D53-AC53-754FB70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32B6-2065-4E7E-8506-3FA1479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7C6D-921C-49C7-8B70-E9B97C9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C55E-96A7-4AEB-9BAE-D8BD7EF6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48E1F-0F72-4D66-959B-4AD4AFB7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FD676-8A23-4B51-A903-7B11C928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37B-5D0C-4407-BECC-80AFCA09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EAD-8AA0-480D-8FF9-9DC52879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7BC-5CFF-478E-929F-92EE822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5F5-B5EE-4810-878E-D0C32C45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03E-5C60-478F-B38F-BF1C659D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1B17BD-2276-407D-9FC9-3BA1EC8BD873}" type="slidenum">
              <a:rPr b="0" lang="es-MX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003343-25FA-4E6F-B8E4-E6724050A101}" type="slidenum">
              <a:rPr b="0" lang="es-MX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94F711-2E56-4615-AE7B-EA0CEF424441}" type="slidenum">
              <a:rPr b="0" lang="es-MX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489120" y="1220400"/>
            <a:ext cx="5797440" cy="4537080"/>
          </a:xfrm>
          <a:custGeom>
            <a:avLst/>
            <a:gdLst>
              <a:gd name="textAreaLeft" fmla="*/ 0 w 5797440"/>
              <a:gd name="textAreaRight" fmla="*/ 5715000 w 5797440"/>
              <a:gd name="textAreaTop" fmla="*/ 0 h 4537080"/>
              <a:gd name="textAreaBottom" fmla="*/ 4537080 h 4537080"/>
            </a:gdLst>
            <a:ahLst/>
            <a:rect l="textAreaLeft" t="textAreaTop" r="textAreaRight" b="textAreaBottom"/>
            <a:pathLst>
              <a:path w="5796359" h="4535805">
                <a:moveTo>
                  <a:pt x="0" y="0"/>
                </a:moveTo>
                <a:lnTo>
                  <a:pt x="5630984" y="0"/>
                </a:lnTo>
                <a:lnTo>
                  <a:pt x="5796359" y="165375"/>
                </a:lnTo>
                <a:lnTo>
                  <a:pt x="5796359" y="4535805"/>
                </a:lnTo>
                <a:lnTo>
                  <a:pt x="0" y="453580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F736E2-8521-4A90-B90B-A99ADB216E27}" type="slidenum">
              <a:rPr b="0" lang="es-MX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groups.yahoo.com/group/h33yat/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2"/>
          <a:stretch/>
        </p:blipFill>
        <p:spPr>
          <a:xfrm>
            <a:off x="2550960" y="4456080"/>
            <a:ext cx="4648320" cy="268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"/>
          <p:cNvSpPr/>
          <p:nvPr/>
        </p:nvSpPr>
        <p:spPr>
          <a:xfrm>
            <a:off x="539640" y="468360"/>
            <a:ext cx="899964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os carritos son considerados como una de las principales herramientas para las compras en el supermercado, nos ayudan a comprar todos los productos domésticos, incluyendo sus productos personales y a transportar su compra de la tienda a su vehí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1" descr=""/>
          <p:cNvPicPr/>
          <p:nvPr/>
        </p:nvPicPr>
        <p:blipFill>
          <a:blip r:embed="rId2"/>
          <a:stretch/>
        </p:blipFill>
        <p:spPr>
          <a:xfrm>
            <a:off x="79200" y="268200"/>
            <a:ext cx="9839520" cy="3292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2897280" y="4208400"/>
            <a:ext cx="390996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1" descr=""/>
          <p:cNvPicPr/>
          <p:nvPr/>
        </p:nvPicPr>
        <p:blipFill>
          <a:blip r:embed="rId2"/>
          <a:stretch/>
        </p:blipFill>
        <p:spPr>
          <a:xfrm>
            <a:off x="390600" y="1090440"/>
            <a:ext cx="9637560" cy="433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09760" y="4994280"/>
            <a:ext cx="1801800" cy="214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5"/>
          <a:stretch/>
        </p:blipFill>
        <p:spPr>
          <a:xfrm>
            <a:off x="5316480" y="4923000"/>
            <a:ext cx="17956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1" descr=""/>
          <p:cNvPicPr/>
          <p:nvPr/>
        </p:nvPicPr>
        <p:blipFill>
          <a:blip r:embed="rId2"/>
          <a:stretch/>
        </p:blipFill>
        <p:spPr>
          <a:xfrm>
            <a:off x="353880" y="817560"/>
            <a:ext cx="9564840" cy="7094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611280" y="3095640"/>
            <a:ext cx="2786040" cy="33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4"/>
          <a:stretch/>
        </p:blipFill>
        <p:spPr>
          <a:xfrm>
            <a:off x="6669000" y="3135240"/>
            <a:ext cx="31575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1" descr=""/>
          <p:cNvPicPr/>
          <p:nvPr/>
        </p:nvPicPr>
        <p:blipFill>
          <a:blip r:embed="rId2"/>
          <a:stretch/>
        </p:blipFill>
        <p:spPr>
          <a:xfrm>
            <a:off x="324000" y="927000"/>
            <a:ext cx="9569160" cy="56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1" descr=""/>
          <p:cNvPicPr/>
          <p:nvPr/>
        </p:nvPicPr>
        <p:blipFill>
          <a:blip r:embed="rId2"/>
          <a:stretch/>
        </p:blipFill>
        <p:spPr>
          <a:xfrm>
            <a:off x="176040" y="201600"/>
            <a:ext cx="9693360" cy="57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1" descr=""/>
          <p:cNvPicPr/>
          <p:nvPr/>
        </p:nvPicPr>
        <p:blipFill>
          <a:blip r:embed="rId2"/>
          <a:stretch/>
        </p:blipFill>
        <p:spPr>
          <a:xfrm>
            <a:off x="317520" y="987480"/>
            <a:ext cx="9575640" cy="2487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1611360" y="3279600"/>
            <a:ext cx="3214800" cy="3956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4"/>
          <a:stretch/>
        </p:blipFill>
        <p:spPr>
          <a:xfrm>
            <a:off x="5562720" y="3279600"/>
            <a:ext cx="337968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1" descr=""/>
          <p:cNvPicPr/>
          <p:nvPr/>
        </p:nvPicPr>
        <p:blipFill>
          <a:blip r:embed="rId2"/>
          <a:stretch/>
        </p:blipFill>
        <p:spPr>
          <a:xfrm>
            <a:off x="390600" y="1536840"/>
            <a:ext cx="932652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7:36:06Z</dcterms:created>
  <dc:creator>Rocio Patricia Blanchet Mancilla</dc:creator>
  <dc:description/>
  <dc:language>en-US</dc:language>
  <cp:lastModifiedBy>PEP</cp:lastModifiedBy>
  <dcterms:modified xsi:type="dcterms:W3CDTF">2010-03-08T18:15:40Z</dcterms:modified>
  <cp:revision>20</cp:revision>
  <dc:subject/>
  <dc:title>Diapositiva 1</dc:title>
</cp:coreProperties>
</file>