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Brahms%20canciondecuna.wav" ContentType="audio/x-wav"/>
  <Override PartName="/ppt/media/image7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1C2-3EF9-413F-8937-ECB43F5F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6BF-F172-48BA-BC85-FD88FCB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A41-8978-4A83-BCD1-B6CE4A57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577-06AC-4C4F-9BD5-A1DF6C7F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B73-C69C-4659-AAAB-C5782AA2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69E-47E6-432C-9DC3-1800D8A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217-D487-437C-B86B-7D61A7B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D18-E4E2-448C-B6AB-59BB5FC2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3C5-D168-433B-9811-427F620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32C-2769-4EE6-9AC7-657EB08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C90-3082-456A-9B44-5E3496E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FBD-1D56-4103-A28A-802D822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C86A-1C61-4D75-9C20-6802AA0E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rahms%20canciondecun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99"/>
                </a:solidFill>
                <a:latin typeface="Arial"/>
              </a:rPr>
              <a:t>Para los hijos, para los nietos... y para los amig@s               que son ab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96252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……</a:t>
            </a: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.con el cariño de quien lo 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95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Nunca tengas hijos, solo ni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38040" y="5157720"/>
            <a:ext cx="88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Los hombres no se sienten viejos por tener nietos sino por saber que están casados con abu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7220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5480" y="1341360"/>
            <a:ext cx="336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Cuando los abuelos entran en la casa, la disciplina vuela por l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24360" y="98100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Una abuela es una maravillosa madre con un montón de prác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Un abuelo es viejo por fuera y joven por 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83120" y="1125360"/>
            <a:ext cx="3081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Los nietos son la recompensa de Dios por llegar a vi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7328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836640"/>
            <a:ext cx="358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ff"/>
                </a:solidFill>
                <a:latin typeface="Arial"/>
              </a:rPr>
              <a:t>La abuela siempre te hace sentir que te estuvo esperando todo el día, y ahora, el día está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7328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341360"/>
            <a:ext cx="2973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ff"/>
                </a:solidFill>
                <a:latin typeface="Arial"/>
              </a:rPr>
              <a:t>No entiendes realmente algo, hasta que se lo puedes explicar a tu ab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75320" cy="511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9680" y="5373720"/>
            <a:ext cx="87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Una hora con tus nietos puede hacerte sentir joven otra vez.  Más tiempo que ese te hará sentir que envejeciste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75320" cy="5119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15772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Desearía tener la energía de mis nietos, aunque mas no sea para defens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26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1840" y="20808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Arial"/>
              </a:rPr>
              <a:t>Los nietos no permanecen jóvenes para siempre, lo cual es bueno porque los abuelos tienen un límite de fuerz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378000"/>
            <a:ext cx="799308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20" y="63360"/>
            <a:ext cx="83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El amor perfecto, a veces no viene hasta el primer ni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</a:t>
            </a: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Proverbio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Brahms%20canciondecun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7120" y="1360440"/>
            <a:ext cx="398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Comic Sans MS"/>
              </a:rPr>
              <a:t>Bienvenidos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Comic Sans MS"/>
              </a:rPr>
              <a:t>Felici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67120" y="1360440"/>
            <a:ext cx="398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2200" y="43131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omic Sans MS"/>
              </a:rPr>
              <a:t>A los nuevos abuelo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987640" y="3889440"/>
            <a:ext cx="3895920" cy="2968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30686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omic Sans MS"/>
              </a:rPr>
              <a:t>A los abuelos ya exp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4924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720" y="907920"/>
            <a:ext cx="2155680" cy="215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4000" y="4413240"/>
            <a:ext cx="2806560" cy="213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124000" y="2276640"/>
            <a:ext cx="20271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76280" cy="180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948360" y="3573360"/>
            <a:ext cx="2934000" cy="286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851280" y="3933720"/>
            <a:ext cx="237636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484360" y="189000"/>
            <a:ext cx="2160720" cy="143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288800">
            <a:off x="283680" y="20667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Y a los que en cualquier momento lo se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78000"/>
            <a:ext cx="799308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480" y="136440"/>
            <a:ext cx="88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Nadie puede hacer por los niños lo que hacen los abuelos: Salpican una especie de polvo de estrellas sobre sus 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58760"/>
            <a:ext cx="6913800" cy="669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26028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Las abuelas son madres con un montón de cobertura du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13800" cy="666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9120" y="496800"/>
            <a:ext cx="83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120" y="13644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a abuela sostiene nuestras manecitas por un rato, pero nuestros corazones para siemp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4520" y="189000"/>
            <a:ext cx="555948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480" y="1364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81000"/>
            <a:ext cx="329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ff"/>
                </a:solidFill>
                <a:latin typeface="Arial"/>
              </a:rPr>
              <a:t>¡Qué baratos son los nietos! Les doy mis monedas y ellos me dan millones de dólares de pl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4520" y="189000"/>
            <a:ext cx="555948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052640"/>
            <a:ext cx="3044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Monotype Corsiva"/>
              </a:rPr>
              <a:t>Si hubiera sabido cuán maravilloso es tener nietos, los hubiera tenido prim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494172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Mis nietos creen que soy la cosa mas vieja del mundo. Y después de dos o tres horas con ellos, yo también lo c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08464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Convertirse en abuela es maravilloso.  En un momento eres madre, luego sabia y de pronto prehistórica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08:43:15Z</dcterms:created>
  <dc:creator>-</dc:creator>
  <dc:description/>
  <dc:language>en-US</dc:language>
  <cp:lastModifiedBy>AlbertoM</cp:lastModifiedBy>
  <dcterms:modified xsi:type="dcterms:W3CDTF">2007-10-11T21:51:11Z</dcterms:modified>
  <cp:revision>23</cp:revision>
  <dc:subject/>
  <dc:title>Para los contertulios que son abuelos</dc:title>
</cp:coreProperties>
</file>