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8.gif" ContentType="image/gif"/>
  <Override PartName="/ppt/media/image12.gif" ContentType="image/gif"/>
  <Override PartName="/ppt/media/Brahms%20canciondecuna.wav" ContentType="audio/x-wav"/>
  <Override PartName="/ppt/media/image7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3.gif" ContentType="image/gif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F584-C745-42E9-A9AA-2C1E621B7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23E1-1649-4040-A872-5DD1F731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AD64-F301-453E-86FA-B71840BF1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FDCE-91C9-4A7A-B003-25DC22B14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4364-D7F4-4584-AD9B-77CB3492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879E-FE42-4FA8-BEA0-FDBFAF6A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5700-26CF-497F-9FEB-0D6EC16C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C1BB-0A5D-4C41-96BA-AC8D6581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904C-C5B7-4DC4-87C0-256CF98B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2061-72D7-498C-BEAE-DD54652B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8457-D41E-49F1-A605-74BC2D0D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8E02-605A-4C73-892B-7CA2731C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FF58-0497-460E-91BE-5BCA75D0E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Brahms%20canciondecuna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5.gif"/><Relationship Id="rId7" Type="http://schemas.openxmlformats.org/officeDocument/2006/relationships/image" Target="../media/image16.gif"/><Relationship Id="rId8" Type="http://schemas.openxmlformats.org/officeDocument/2006/relationships/image" Target="../media/image17.gi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99"/>
                </a:solidFill>
                <a:latin typeface="Arial"/>
              </a:rPr>
              <a:t>Para los hijos, para los nietos... y para los amig@s               que son abu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2640" y="3962520"/>
            <a:ext cx="7272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cc00"/>
                </a:solidFill>
                <a:latin typeface="Arial"/>
              </a:rPr>
              <a:t>……</a:t>
            </a:r>
            <a:r>
              <a:rPr b="1" lang="es-ES_tradnl" sz="4400" spc="-1" strike="noStrike">
                <a:solidFill>
                  <a:srgbClr val="99cc00"/>
                </a:solidFill>
                <a:latin typeface="Arial"/>
              </a:rPr>
              <a:t>.con el cariño de quien lo 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95560" y="0"/>
            <a:ext cx="675288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95280" y="59500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cc00"/>
                </a:solidFill>
                <a:latin typeface="Arial"/>
              </a:rPr>
              <a:t>                </a:t>
            </a:r>
            <a:r>
              <a:rPr b="1" lang="es-ES_tradnl" sz="2800" spc="-1" strike="noStrike">
                <a:solidFill>
                  <a:srgbClr val="99cc00"/>
                </a:solidFill>
                <a:latin typeface="Arial"/>
              </a:rPr>
              <a:t>Nunca tengas hijos, solo ni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95560" y="0"/>
            <a:ext cx="675288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38040" y="5157720"/>
            <a:ext cx="880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cc00"/>
                </a:solidFill>
                <a:latin typeface="Arial"/>
              </a:rPr>
              <a:t>Los hombres no se sienten viejos por tener nietos sino por saber que están casados con abue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11760" cy="6669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272200" y="229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75480" y="1341360"/>
            <a:ext cx="3368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33"/>
                </a:solidFill>
                <a:latin typeface="Arial"/>
              </a:rPr>
              <a:t>Cuando los abuelos entran en la casa, la disciplina vuela por la vent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11760" cy="6669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724360" y="981000"/>
            <a:ext cx="3419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33"/>
                </a:solidFill>
                <a:latin typeface="Arial"/>
              </a:rPr>
              <a:t>Una abuela es una maravillosa madre con un montón de prác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33"/>
                </a:solidFill>
                <a:latin typeface="Arial"/>
              </a:rPr>
              <a:t>Un abuelo es viejo por fuera y joven por den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11760" cy="6669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883120" y="1125360"/>
            <a:ext cx="30816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33"/>
                </a:solidFill>
                <a:latin typeface="Arial"/>
              </a:rPr>
              <a:t>Los nietos son la recompensa de Dios por llegar a vie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473280" y="0"/>
            <a:ext cx="567072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836640"/>
            <a:ext cx="358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99ff"/>
                </a:solidFill>
                <a:latin typeface="Arial"/>
              </a:rPr>
              <a:t>La abuela siempre te hace sentir que te estuvo esperando todo el día, y ahora, el día está compl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473280" y="0"/>
            <a:ext cx="567072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24000" y="1341360"/>
            <a:ext cx="2973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99ff"/>
                </a:solidFill>
                <a:latin typeface="Arial"/>
              </a:rPr>
              <a:t>No entiendes realmente algo, hasta que se lo puedes explicar a tu abue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675320" cy="5119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09680" y="5373720"/>
            <a:ext cx="87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cc"/>
                </a:solidFill>
                <a:latin typeface="Arial"/>
              </a:rPr>
              <a:t>Una hora con tus nietos puede hacerte sentir joven otra vez.  Más tiempo que ese te hará sentir que envejeciste rápid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675320" cy="51195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24000" y="5157720"/>
            <a:ext cx="851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cc"/>
                </a:solidFill>
                <a:latin typeface="Arial"/>
              </a:rPr>
              <a:t>Desearía tener la energía de mis nietos, aunque mas no sea para defensa 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626256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31840" y="208080"/>
            <a:ext cx="86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99ff"/>
                </a:solidFill>
                <a:latin typeface="Arial"/>
              </a:rPr>
              <a:t>Los nietos no permanecen jóvenes para siempre, lo cual es bueno porque los abuelos tienen un límite de fuerza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4360" y="378000"/>
            <a:ext cx="7993080" cy="6480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73320" y="63360"/>
            <a:ext cx="833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Arial"/>
              </a:rPr>
              <a:t>El amor perfecto, a veces no viene hasta el primer nie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Arial"/>
              </a:rPr>
              <a:t>                                                           </a:t>
            </a:r>
            <a:r>
              <a:rPr b="1" lang="es-ES_tradnl" sz="2400" spc="-1" strike="noStrike">
                <a:solidFill>
                  <a:srgbClr val="ffff99"/>
                </a:solidFill>
                <a:latin typeface="Arial"/>
              </a:rPr>
              <a:t>Proverbio ga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2" name="Brahms%20canciondecuna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 rot="20935200">
            <a:off x="394920" y="549360"/>
            <a:ext cx="3728880" cy="29829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767120" y="1360440"/>
            <a:ext cx="398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Comic Sans MS"/>
              </a:rPr>
              <a:t>Bienvenidos 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Comic Sans MS"/>
              </a:rPr>
              <a:t>Felicit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 rot="20935200">
            <a:off x="394920" y="549360"/>
            <a:ext cx="3728880" cy="2982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 rot="20935200">
            <a:off x="394920" y="549360"/>
            <a:ext cx="3728880" cy="29829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767120" y="1360440"/>
            <a:ext cx="3981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796000" y="333360"/>
            <a:ext cx="2663640" cy="2664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92200" y="4313160"/>
            <a:ext cx="78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Comic Sans MS"/>
              </a:rPr>
              <a:t>A los nuevos abuelos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 rot="20935200">
            <a:off x="394920" y="549360"/>
            <a:ext cx="3728880" cy="2982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796000" y="333360"/>
            <a:ext cx="2663640" cy="2664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2987640" y="3889440"/>
            <a:ext cx="3895920" cy="2968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340000" y="3068640"/>
            <a:ext cx="46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Comic Sans MS"/>
              </a:rPr>
              <a:t>A los abuelos ya exper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1749240" cy="2087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508720" y="907920"/>
            <a:ext cx="2155680" cy="2156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24000" y="4413240"/>
            <a:ext cx="2806560" cy="2139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2124000" y="2276640"/>
            <a:ext cx="2027160" cy="2376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7451640" y="189000"/>
            <a:ext cx="1376280" cy="1800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6948360" y="3573360"/>
            <a:ext cx="2934000" cy="2860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3851280" y="3933720"/>
            <a:ext cx="2376360" cy="1916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2484360" y="189000"/>
            <a:ext cx="2160720" cy="14349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rot="1288800">
            <a:off x="283680" y="206676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99"/>
                </a:solidFill>
                <a:latin typeface="Comic Sans MS"/>
              </a:rPr>
              <a:t>Y a los que en cualquier momento lo ser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4360" y="378000"/>
            <a:ext cx="7993080" cy="6480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7480" y="136440"/>
            <a:ext cx="880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Arial"/>
              </a:rPr>
              <a:t>Nadie puede hacer por los niños lo que hacen los abuelos: Salpican una especie de polvo de estrellas sobre sus v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42920" y="158760"/>
            <a:ext cx="6913800" cy="6699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55640" y="260280"/>
            <a:ext cx="743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Arial"/>
              </a:rPr>
              <a:t>Las abuelas son madres con un montón de cobertura dul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42920" y="189000"/>
            <a:ext cx="6913800" cy="6669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19120" y="496800"/>
            <a:ext cx="83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3120" y="136440"/>
            <a:ext cx="8516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99"/>
                </a:solidFill>
                <a:latin typeface="Arial"/>
              </a:rPr>
              <a:t>La abuela sostiene nuestras manecitas por un rato, pero nuestros corazones para siemp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584520" y="189000"/>
            <a:ext cx="5559480" cy="6669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7480" y="136440"/>
            <a:ext cx="333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981000"/>
            <a:ext cx="3295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ccff"/>
                </a:solidFill>
                <a:latin typeface="Arial"/>
              </a:rPr>
              <a:t>¡Qué baratos son los nietos! Les doy mis monedas y ellos me dan millones de dólares de pla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ccff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584520" y="189000"/>
            <a:ext cx="5559480" cy="6669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0920" y="1052640"/>
            <a:ext cx="30448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99ccff"/>
                </a:solidFill>
                <a:latin typeface="Monotype Corsiva"/>
              </a:rPr>
              <a:t>Si hubiera sabido cuán maravilloso es tener nietos, los hubiera tenido prime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009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-252360" y="4941720"/>
            <a:ext cx="902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Mis nietos creen que soy la cosa mas vieja del mundo. Y después de dos o tres horas con ellos, yo también lo cr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00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5084640"/>
            <a:ext cx="923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Arial"/>
              </a:rPr>
              <a:t>Convertirse en abuela es maravilloso.  En un momento eres madre, luego sabia y de pronto prehistórica.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7T08:43:15Z</dcterms:created>
  <dc:creator>-</dc:creator>
  <dc:description/>
  <dc:language>en-US</dc:language>
  <cp:lastModifiedBy>AlbertoM</cp:lastModifiedBy>
  <dcterms:modified xsi:type="dcterms:W3CDTF">2007-10-11T21:51:11Z</dcterms:modified>
  <cp:revision>23</cp:revision>
  <dc:subject/>
  <dc:title>Para los contertulios que son abuelos</dc:title>
</cp:coreProperties>
</file>