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silvitaThe_Language_of_Love.wav" ContentType="audio/x-wav"/>
  <Override PartName="/ppt/media/image17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02C-F2C8-4B2D-A552-F8DD558B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6A4-0E5E-48D1-AAB4-C54C0026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7948-B7A9-4BE9-AB60-8582579E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839-A733-4257-BDDB-229FAEC4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84B-257A-4ABC-AD6E-74A797EF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2B4-52F9-46C1-AFD2-9B9A2854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6015-1165-4885-B65D-3EBACDDD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FA9-35F4-46BB-8B03-579A789A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4BF-4A2E-4FCA-9615-918B15E6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D51-3AC0-49EF-A09B-282B58AD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26F-A897-4921-A90A-EE4259B4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D2F-7C83-4172-8EBA-81D3B75C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74D7-E7E2-4DB8-96F5-0D60439B1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silvitaThe_Language_of_Lov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5487840"/>
            <a:ext cx="6324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66ff"/>
                </a:solidFill>
                <a:latin typeface="Book Antiqua"/>
                <a:ea typeface="Arial"/>
              </a:rPr>
              <a:t>MIR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en  tu jardín las rosas entreabiertas, y nunca los pétalos caídos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781680" cy="4524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6680" y="533520"/>
            <a:ext cx="7543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1440" cy="1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silvitaThe_Language_of_Lo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2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5670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cc66"/>
                </a:solidFill>
                <a:latin typeface="Book Antiqua"/>
                <a:ea typeface="Arial"/>
              </a:rPr>
              <a:t>CONSERV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de tus pies los pasos rectos y puros, olvida los caminos equivocados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3578040" cy="548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666880" y="0"/>
            <a:ext cx="41148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548784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ecff"/>
                </a:solidFill>
                <a:latin typeface="Book Antiqua"/>
                <a:ea typeface="Arial"/>
              </a:rPr>
              <a:t>RECUERD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con placer  tus escaladas, olvida las desilusiones del descenso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95480" y="-380880"/>
            <a:ext cx="378648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438280" y="-457200"/>
            <a:ext cx="472464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548784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399ff"/>
                </a:solidFill>
                <a:latin typeface="Book Antiqua"/>
                <a:ea typeface="Arial"/>
              </a:rPr>
              <a:t>RECUERD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los días en que fuiste agua limpia, olvida las horas en que te sentiste pantano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0"/>
            <a:ext cx="784836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4025880" cy="5181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38280" y="0"/>
            <a:ext cx="472464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868640" cy="5410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23880" y="5257800"/>
            <a:ext cx="632484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6707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99cc"/>
                </a:solidFill>
                <a:latin typeface="Book Antiqua"/>
                <a:ea typeface="Arial"/>
              </a:rPr>
              <a:t>CUENT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y muestra las medallas de tus victorias, olvida las cicatrices de las derrotas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548784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cc99"/>
                </a:solidFill>
                <a:latin typeface="Book Antiqua"/>
                <a:ea typeface="Arial"/>
              </a:rPr>
              <a:t>MIR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de frente el Sol que existe en tu vida, ignora la sombra que queda atrás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61920"/>
            <a:ext cx="7620120" cy="5310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0"/>
            <a:ext cx="8001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512280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La flor que  se abre es más importante  que mil pétalos caídos; Y solo un mirar de amor puede llevar consigo calor para entibiar muchos inviernos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4003560" cy="4952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57400" y="0"/>
            <a:ext cx="6248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5715000"/>
            <a:ext cx="6933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En la profundidad de las noches sin luna es donde  brillan mucho más las estrellas!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467840" cy="5062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457200"/>
            <a:ext cx="79246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Sé </a:t>
            </a:r>
            <a:r>
              <a:rPr b="0" lang="pt-PT" sz="2400" spc="-1" strike="noStrike">
                <a:solidFill>
                  <a:srgbClr val="ffcc00"/>
                </a:solidFill>
                <a:latin typeface="Book Antiqua"/>
                <a:ea typeface="Arial"/>
              </a:rPr>
              <a:t>OPTIMIST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, y no te olvides  que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85324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Que tu vida sea un jardín florido !!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172280" cy="4925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45720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5487840"/>
            <a:ext cx="8382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9900"/>
                </a:solidFill>
                <a:latin typeface="Book Antiqua"/>
                <a:ea typeface="Arial"/>
              </a:rPr>
              <a:t>OBSERV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en tu camino la distancia vencida y nunca lo que falte todavía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486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0"/>
            <a:ext cx="769608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567072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cc99"/>
                </a:solidFill>
                <a:latin typeface="Book Antiqua"/>
                <a:ea typeface="Arial"/>
              </a:rPr>
              <a:t>GUARD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de tu mirar los brillos de alegría y nunca las nieblas de tristezas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4400" y="533520"/>
            <a:ext cx="75438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5159160" cy="5257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28800" y="0"/>
            <a:ext cx="58672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5105520"/>
            <a:ext cx="601956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56707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3ccff"/>
                </a:solidFill>
                <a:latin typeface="Book Antiqua"/>
                <a:ea typeface="Arial"/>
              </a:rPr>
              <a:t>RETÉN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de tu voz carcajadas y canciones y nunca los gemidos dolorosos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5670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ccff"/>
                </a:solidFill>
                <a:latin typeface="Book Antiqua"/>
                <a:ea typeface="Arial"/>
              </a:rPr>
              <a:t>CONSERV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en tus oídos las palabras de amor y nunca las de odio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86600" cy="4618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90720" y="609480"/>
            <a:ext cx="731520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5562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9900"/>
                </a:solidFill>
                <a:latin typeface="Book Antiqua"/>
                <a:ea typeface="Arial"/>
              </a:rPr>
              <a:t>GRAB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en tus pupilas  el nacer de las auroras y nunca  tus ponientes lastimosos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315200" cy="4835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0"/>
            <a:ext cx="79246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638680" cy="5591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52480" y="5334120"/>
            <a:ext cx="57913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-266760"/>
            <a:ext cx="601992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0"/>
            <a:ext cx="533520" cy="5410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0"/>
            <a:ext cx="1218960" cy="533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670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cc"/>
                </a:solidFill>
                <a:latin typeface="Book Antiqua"/>
                <a:ea typeface="Arial"/>
              </a:rPr>
              <a:t>CONSERV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en tu rostro las líneas de las sonrisas y nunca los surcos de tu llanto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5486400"/>
            <a:ext cx="8305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399ff"/>
                </a:solidFill>
                <a:latin typeface="Book Antiqua"/>
                <a:ea typeface="Arial"/>
              </a:rPr>
              <a:t>CUENT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a los hombres el azul de tus primaveras y nunca las tempestades del verano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380880"/>
            <a:ext cx="7848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722760" cy="5334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81080" y="0"/>
            <a:ext cx="54864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56707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00"/>
                </a:solidFill>
                <a:latin typeface="Book Antiqua"/>
                <a:ea typeface="Arial"/>
              </a:rPr>
              <a:t>GUARD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en tus mejillas solo las caricias disfrutadas, olvida las bofetadas recibidas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415120" cy="5403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52480" y="0"/>
            <a:ext cx="66294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22:06:40Z</dcterms:created>
  <dc:creator>Ana Feldmann</dc:creator>
  <dc:description/>
  <dc:language>en-US</dc:language>
  <cp:lastModifiedBy>Cristina</cp:lastModifiedBy>
  <dcterms:modified xsi:type="dcterms:W3CDTF">2007-05-07T22:10:43Z</dcterms:modified>
  <cp:revision>4</cp:revision>
  <dc:subject/>
  <dc:title>Diapositiva 1</dc:title>
</cp:coreProperties>
</file>